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7.png" ContentType="image/png"/>
  <Override PartName="/ppt/media/image15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2.png" ContentType="image/png"/>
  <Override PartName="/ppt/media/image7.wmf" ContentType="image/x-wmf"/>
  <Override PartName="/ppt/media/image1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2D9-3D55-4062-B985-9F5894BC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6A8-84D4-4740-B01D-37BCDEAC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17A-3489-4A65-8BA8-51D93F5F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0FA-D4C3-4822-9F3D-287817D5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6EBC-66D4-4F3A-9482-76C4C686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D492-CC78-4660-9A10-0B7F2E0C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F99B-B782-49DD-BD1A-2C3C46A7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18F7-2F20-4F95-AA39-1E62BCDC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7046-0373-4A80-8CAF-D6AF770E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EDB4-2C6D-4839-955F-7A0565D4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33BD-94F1-480B-A101-0D23A28E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BA0-AEA4-4C44-BB28-F7DAB019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8803-DBA0-4A33-93A7-C74BE187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D14D-8975-4394-897A-99AB1AC9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487B-3154-46CE-B583-44C466BA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3767-2F2B-41C6-A733-4107170F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F89A-FD3E-4812-890B-A701D710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ABB9-DDB1-4391-889A-CB72494B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ECC91-B8D8-41DC-AC6D-3D665634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739E-4A52-4290-9245-D3E67915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D4CC1-C81F-4B8D-A3AA-C9C988AA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F5309-0546-43E4-B7D1-C23E7496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A78-13F4-41B7-95A4-A38E4F29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ED41A-F5BE-45FC-B652-062B5A30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F7D24-1FDD-43E9-A33D-BEA1FC01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13BA6-1E93-4C57-A85D-54F67276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171D1-3EBD-44FA-A255-65EECD79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23202-27A7-4560-A2A8-985D9A7D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028C4-45FC-48D8-BB5E-800354DB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D6B76-EE4F-48DB-A824-D18FC30C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482-F8B0-44E5-9445-5431B034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378-03A0-4729-A4D1-195783CD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48A-313F-45B4-801B-87FC47C7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501-E867-415E-83EA-5B403CBF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365-D1AB-49E7-AC89-4B5E59EE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00A-10E7-489A-8012-2B983EBF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08E3E3-DBF1-4639-9D31-142A7830BB8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C69AC1-39B4-4476-B18E-BEBFF2D29C3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4B6484-26F0-41AC-BC28-9103CDEFCF5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1001520"/>
            <a:ext cx="9143640" cy="39754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Aromatic compoun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Times New Roman"/>
              </a:rPr>
              <a:t>1</a:t>
            </a:r>
            <a:r>
              <a:rPr b="1" lang="en-US" sz="5400" spc="-1" strike="noStrike" baseline="30000">
                <a:solidFill>
                  <a:srgbClr val="00b0f0"/>
                </a:solidFill>
                <a:latin typeface="Times New Roman"/>
              </a:rPr>
              <a:t>st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</a:rPr>
              <a:t> st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4400" spc="-1" strike="noStrike">
                <a:solidFill>
                  <a:schemeClr val="dk1"/>
                </a:solidFill>
                <a:latin typeface="Calibri"/>
              </a:rPr>
              <a:t>Wrea Moham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A64F51-2335-4ECF-BB90-E670D577F7E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-21240"/>
            <a:ext cx="914364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5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olecular formula. Isomer number. Kekulé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zene has the molecular formula </a:t>
            </a:r>
            <a:r>
              <a:rPr b="0" lang="en-US" sz="2800" spc="-1" strike="noStrike">
                <a:solidFill>
                  <a:schemeClr val="folHlink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chemeClr val="folHlink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chemeClr val="folHlink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chemeClr val="folHlink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its elemental composition and molecular weight, benzene was known to contain six carbon atoms and six hydrogen atoms. The question was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are these atoms arrang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he answer is </a:t>
            </a:r>
            <a:r>
              <a:rPr b="1" lang="en-US" sz="2800" spc="-1" strike="noStrike">
                <a:solidFill>
                  <a:schemeClr val="folHlink"/>
                </a:solidFill>
                <a:latin typeface="Arial"/>
              </a:rPr>
              <a:t>Kekulé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CD58D9-C78C-4FDA-903F-D3E49C4773A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-6480" y="-90360"/>
            <a:ext cx="915012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  <a:tabLst>
                <a:tab algn="l" pos="161604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obable structures of benz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161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kulés structure of benzene was one that we would represent today lik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46040" y="1932120"/>
            <a:ext cx="7859520" cy="33253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5421960"/>
            <a:ext cx="91436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161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structures are, of course, consistent with the formula </a:t>
            </a:r>
            <a:r>
              <a:rPr b="1" lang="en-US" sz="2400" spc="-1" strike="noStrike">
                <a:solidFill>
                  <a:schemeClr val="folHlink"/>
                </a:solidFill>
                <a:latin typeface="Arial"/>
                <a:ea typeface="Times New Roman"/>
              </a:rPr>
              <a:t>C</a:t>
            </a:r>
            <a:r>
              <a:rPr b="1" lang="en-US" sz="2400" spc="-1" strike="noStrike" baseline="-25000">
                <a:solidFill>
                  <a:schemeClr val="folHlink"/>
                </a:solidFill>
                <a:latin typeface="Arial"/>
                <a:ea typeface="Times New Roman"/>
              </a:rPr>
              <a:t>6</a:t>
            </a:r>
            <a:r>
              <a:rPr b="1" lang="en-US" sz="2400" spc="-1" strike="noStrike">
                <a:solidFill>
                  <a:schemeClr val="folHlink"/>
                </a:solidFill>
                <a:latin typeface="Arial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chemeClr val="folHlink"/>
                </a:solidFill>
                <a:latin typeface="Arial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84315A-8E92-4556-920F-881CCEBE618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301680"/>
            <a:ext cx="914364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50000"/>
              </a:lnSpc>
            </a:pP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Benzene undergoes substitution rather than add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"/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Unsaturated hydrocarbons such as alkenes, alkynes, and dienes readily undergo addition reactions, benzene does not. For example, bromine adds to ethylene to form a ethyldibromide, but benzene is inert under similar con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16468" t="32810" r="15555" b="30856"/>
          <a:stretch/>
        </p:blipFill>
        <p:spPr>
          <a:xfrm>
            <a:off x="152280" y="4186080"/>
            <a:ext cx="884376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766056-D103-4045-B7C8-22BD4DE1029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4318560"/>
            <a:ext cx="914364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lace of addition reactions, benzene readily undergoes a new set of reactions, all involving substitution. The most important are show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86400"/>
            <a:ext cx="914364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zene reacts with bromine, but only in the presence of FeB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Lewis acid), and the reaction is a substitution, not an ad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rcRect l="30303" t="63273" r="19836" b="21093"/>
          <a:stretch/>
        </p:blipFill>
        <p:spPr>
          <a:xfrm>
            <a:off x="609480" y="2286000"/>
            <a:ext cx="76957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Num" idx="2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196285-D9E5-44AB-AF60-0CA6B08BF45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icture 4"/>
          <p:cNvSpPr/>
          <p:nvPr/>
        </p:nvSpPr>
        <p:spPr>
          <a:xfrm>
            <a:off x="0" y="0"/>
            <a:ext cx="9143640" cy="685764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2406240" y="533520"/>
            <a:ext cx="2439720" cy="3639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2696760" y="1687680"/>
            <a:ext cx="2439720" cy="3639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9760" y="2754360"/>
            <a:ext cx="2439720" cy="3639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4530240" y="4572000"/>
            <a:ext cx="3331080" cy="3639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4235040" y="5715000"/>
            <a:ext cx="2439720" cy="3639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Num" idx="2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BA811A-5C53-4454-922D-66E1BCA518B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370080"/>
            <a:ext cx="91436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Resonance structure of benz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onance description of benzene matches the Kekulé description with one important exce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Kekulé representations are not in equilibrium with each other. Instead, the true structure of benzene is a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Times New Roman"/>
              </a:rPr>
              <a:t>resonance hybr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two Lewis structures, with the dashed lines of the hybrid indicating the position of the π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D65B4F-78AA-4B1D-8F4E-EE0C45E30B3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rcRect l="17677" t="32613" r="24667" b="35935"/>
          <a:stretch/>
        </p:blipFill>
        <p:spPr>
          <a:xfrm>
            <a:off x="152280" y="152280"/>
            <a:ext cx="8762760" cy="313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rcRect l="6369" t="18942" r="49994" b="16604"/>
          <a:stretch/>
        </p:blipFill>
        <p:spPr>
          <a:xfrm>
            <a:off x="1676520" y="3581280"/>
            <a:ext cx="5790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Num" idx="2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58EF26-1A8F-4167-A2B9-F68C7BC652C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19080"/>
            <a:ext cx="9143640" cy="45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000000"/>
                </a:solidFill>
                <a:latin typeface="TimesLTStd-Roman"/>
              </a:rPr>
              <a:t>The resonance hybrid of benzene explains why all C – C bond lengths are the same. Each C–C bond is single in one resonance structure and double in the other, so the actual bond length (</a:t>
            </a:r>
            <a:r>
              <a:rPr b="0" lang="en-US" sz="2800" spc="-1" strike="noStrike">
                <a:solidFill>
                  <a:srgbClr val="ffc000"/>
                </a:solidFill>
                <a:latin typeface="TimesLTStd-Roman"/>
              </a:rPr>
              <a:t>139 pm</a:t>
            </a:r>
            <a:r>
              <a:rPr b="0" lang="en-US" sz="2800" spc="-1" strike="noStrike">
                <a:solidFill>
                  <a:srgbClr val="000000"/>
                </a:solidFill>
                <a:latin typeface="TimesLTStd-Roman"/>
              </a:rPr>
              <a:t>) is intermediate between a carbon–carbon single bond (</a:t>
            </a:r>
            <a:r>
              <a:rPr b="0" lang="en-US" sz="2800" spc="-1" strike="noStrike">
                <a:solidFill>
                  <a:srgbClr val="ffc000"/>
                </a:solidFill>
                <a:latin typeface="TimesLTStd-Roman"/>
              </a:rPr>
              <a:t>153 pm</a:t>
            </a:r>
            <a:r>
              <a:rPr b="0" lang="en-US" sz="2800" spc="-1" strike="noStrike">
                <a:solidFill>
                  <a:srgbClr val="000000"/>
                </a:solidFill>
                <a:latin typeface="TimesLTStd-Roman"/>
              </a:rPr>
              <a:t>) and a carbon–carbon double bond (</a:t>
            </a:r>
            <a:r>
              <a:rPr b="0" lang="en-US" sz="2800" spc="-1" strike="noStrike">
                <a:solidFill>
                  <a:srgbClr val="ffc000"/>
                </a:solidFill>
                <a:latin typeface="TimesLTStd-Roman"/>
              </a:rPr>
              <a:t>134 pm</a:t>
            </a:r>
            <a:r>
              <a:rPr b="0" lang="en-US" sz="2800" spc="-1" strike="noStrike">
                <a:solidFill>
                  <a:srgbClr val="000000"/>
                </a:solidFill>
                <a:latin typeface="TimesLTStd-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rcRect l="26792" t="49995" r="7869" b="31831"/>
          <a:stretch/>
        </p:blipFill>
        <p:spPr>
          <a:xfrm>
            <a:off x="0" y="4572000"/>
            <a:ext cx="9143640" cy="22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Num" idx="2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7EA053-2604-433D-9C65-6AB4ED6B189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-121320"/>
            <a:ext cx="914364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1" lang="en-US" sz="3200" spc="-1" strike="noStrike">
                <a:solidFill>
                  <a:schemeClr val="folHlink"/>
                </a:solidFill>
                <a:latin typeface="Times New Roman"/>
              </a:rPr>
              <a:t>Hybridization and Orbitals of benz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arbon atom in a benzene ring is surrounded by three atoms and no lone pairs of electrons, making it 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ybridized and trigonal planar with all bond angles 120°. Each carbon also has a p orbital with one electron that extends above and below the plane of the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8566" t="26068" r="4372" b="21501"/>
          <a:stretch/>
        </p:blipFill>
        <p:spPr>
          <a:xfrm>
            <a:off x="0" y="4062240"/>
            <a:ext cx="914364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7ABBD6-765F-493F-992A-28C4107A5C4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36572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0" y="3767040"/>
            <a:ext cx="9143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chemeClr val="folHlink"/>
                </a:solidFill>
                <a:latin typeface="Times New Roman"/>
              </a:rPr>
              <a:t>Only sigma bonds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orbitals</a:t>
            </a:r>
            <a:r>
              <a:rPr b="0" lang="en-US" sz="2400" spc="-1" strike="noStrike">
                <a:solidFill>
                  <a:schemeClr val="folHlink"/>
                </a:solidFill>
                <a:latin typeface="Times New Roman"/>
              </a:rPr>
              <a:t> overlap to for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chemeClr val="folHlink"/>
                </a:solidFill>
                <a:latin typeface="Times New Roman"/>
              </a:rPr>
              <a:t>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ene is a flat molecule, with every carbon and every hydrogen lying in the same plane. It is a very symmetrical molecule, every bond angle is 120°. </a:t>
            </a:r>
            <a:r>
              <a:rPr b="0" lang="en-US" sz="2400" spc="-1" strike="noStrike">
                <a:solidFill>
                  <a:schemeClr val="folHlink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7E4650-54F3-48B1-8583-6988A28ED44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291600"/>
            <a:ext cx="9143640" cy="58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1" lang="en-US" sz="3600" spc="-1" strike="noStrike" u="sng">
                <a:solidFill>
                  <a:schemeClr val="folHlink"/>
                </a:solidFill>
                <a:uFillTx/>
                <a:latin typeface="Times New Roman"/>
              </a:rPr>
              <a:t>Aromat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omatic compounds a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nzen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ar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compounds that resemble benzene in chemical behavi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Criteria for Aromaticity—Hückel’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0000"/>
              </a:buClr>
              <a:buSzPct val="130000"/>
              <a:buFont typeface="Calibri"/>
              <a:buAutoNum type="arabicPeriod"/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A molecule must be cycl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aromatic,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must overlap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s on two adjacent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Num" idx="2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7E05A0-EABF-46F4-9460-70886BA5803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60840"/>
            <a:ext cx="914364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Times New Roman"/>
              </a:rPr>
              <a:t>View of the electron density in a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 orbital of any carbon atom overlaps equally with the p orbitals of two adjacent carbon atoms. The result is two continuous double-shaped electron clouds, one lying above and the other below the plane of th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227484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4647960" cy="25142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0" y="6337800"/>
            <a:ext cx="9143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π</a:t>
            </a:r>
            <a:r>
              <a:rPr b="1" lang="en-US" sz="2800" spc="-1" strike="noStrike">
                <a:solidFill>
                  <a:schemeClr val="folHlink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chemeClr val="folHlink"/>
                </a:solidFill>
                <a:latin typeface="Arial"/>
                <a:ea typeface="Times New Roman"/>
              </a:rPr>
              <a:t>clouds above and below  plane of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5391000" y="3809880"/>
            <a:ext cx="3600000" cy="25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C28084-16D1-4E8F-86BF-F57FACBDFB8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20314" t="28514" r="19177" b="20507"/>
          <a:stretch/>
        </p:blipFill>
        <p:spPr>
          <a:xfrm>
            <a:off x="409680" y="2971800"/>
            <a:ext cx="8457840" cy="3728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0" y="17640"/>
            <a:ext cx="9143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30000"/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 orbitals on all six carbons of benzene continuously overlap, so benzene is arom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30000"/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3,5-Hexatriene has six p orbitals, too, but the two on the terminal carbons cannot overlap with each other, so 1,3,5-hexatriene is not arom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FFA432-295F-478B-803E-684AD44C750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364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A molecule must be pla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djac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s must be plan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at th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ctron density can be deloc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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ooctatetraene resembles benzene in that it is a cyclic molecule with alternating double and single bonds. Cyclooctatetraene is tub shaped, however, not planar, so overlap between adjacen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is impossible. Cyclooctatetraene, therefore, is not arom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10758" t="37101" r="5016" b="31442"/>
          <a:stretch/>
        </p:blipFill>
        <p:spPr>
          <a:xfrm>
            <a:off x="0" y="4648320"/>
            <a:ext cx="914364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05B38E-E066-424B-BF86-8E5DE2CAD3F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33480"/>
            <a:ext cx="9143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ff0000"/>
              </a:buClr>
              <a:buSzPct val="130000"/>
              <a:buFont typeface="Calibri"/>
              <a:buAutoNum type="arabicPeriod" startAt="3"/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A molecule must be completely conjug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matic compounds must hav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on every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1,3-cyclohexadiene and 1,3,5-cycloheptatriene contain at least one carbon atom that does not hav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, and so they are not completely conjugated and therefo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om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rcRect l="13004" t="34567" r="9075" b="25930"/>
          <a:stretch/>
        </p:blipFill>
        <p:spPr>
          <a:xfrm>
            <a:off x="0" y="4267080"/>
            <a:ext cx="9143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23EAC9-C19E-4816-B79D-F69FC05A067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3640" cy="63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A molecule must satisfy Hückel’s rule, and contain a particular number of </a:t>
            </a:r>
            <a:r>
              <a:rPr b="1" lang="el-GR" sz="2800" spc="-1" strike="noStrike">
                <a:solidFill>
                  <a:srgbClr val="00b050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omatic compound must conta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2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ctron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, 1, 2, and so fort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unds that contain 2, 6, 10, 14, 18, π electrons are aromatic, Benzene is aromatic and especially stable because it contains 6 π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obutadiene is antiaromatic and especially unstable because it contains 4 π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C9F22E-C240-488E-8368-A9245A488ED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rcRect l="38758" t="13278" r="20494" b="13868"/>
          <a:stretch/>
        </p:blipFill>
        <p:spPr>
          <a:xfrm>
            <a:off x="914400" y="247680"/>
            <a:ext cx="693396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FFDA9A-715F-43F6-A8DF-02ABEB6D72E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363600"/>
            <a:ext cx="9143640" cy="50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1" lang="en-US" sz="3200" spc="-1" strike="noStrike" u="sng">
                <a:solidFill>
                  <a:schemeClr val="folHlink"/>
                </a:solidFill>
                <a:uFillTx/>
                <a:latin typeface="Times New Roman"/>
              </a:rPr>
              <a:t>Structure of benz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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Kekulé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odel, benzene was thought to be a rapidly equilibrating mixture of two compounds, each containing a six-membered ring with three alternating π bonds. These structures are now called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Kekulé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tructur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In the Kekulé description, the bond between any two carbon atoms is sometimes a single bond and sometimes a double b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DF71ED-AF1A-4932-8F3F-6DE0559F16B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rcRect l="16579" t="55069" r="34439" b="29099"/>
          <a:stretch/>
        </p:blipFill>
        <p:spPr>
          <a:xfrm>
            <a:off x="685800" y="533520"/>
            <a:ext cx="76957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5"/>
          <p:cNvGrpSpPr/>
          <p:nvPr/>
        </p:nvGrpSpPr>
        <p:grpSpPr>
          <a:xfrm>
            <a:off x="666720" y="3429000"/>
            <a:ext cx="7714800" cy="3212640"/>
            <a:chOff x="666720" y="3429000"/>
            <a:chExt cx="7714800" cy="3212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rcRect l="0" t="0" r="38372" b="0"/>
            <a:stretch/>
          </p:blipFill>
          <p:spPr>
            <a:xfrm>
              <a:off x="666720" y="3429000"/>
              <a:ext cx="7714800" cy="32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4" descr=""/>
            <p:cNvPicPr/>
            <p:nvPr/>
          </p:nvPicPr>
          <p:blipFill>
            <a:blip r:embed="rId3"/>
            <a:srcRect l="49065" t="60576" r="42458" b="33898"/>
            <a:stretch/>
          </p:blipFill>
          <p:spPr>
            <a:xfrm>
              <a:off x="3733920" y="4495680"/>
              <a:ext cx="1330200" cy="74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6</TotalTime>
  <Application>LibreOffice/7.4.7.2$Linux_X86_64 LibreOffice_project/40$Build-2</Application>
  <AppVersion>15.0000</AppVersion>
  <Words>812</Words>
  <Paragraphs>7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rea</dc:creator>
  <dc:description/>
  <dc:language>en-US</dc:language>
  <cp:lastModifiedBy>Wrea</cp:lastModifiedBy>
  <dcterms:modified xsi:type="dcterms:W3CDTF">2019-05-23T15:16:23Z</dcterms:modified>
  <cp:revision>2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0</vt:r8>
  </property>
</Properties>
</file>