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7.png" ContentType="image/png"/>
  <Override PartName="/ppt/media/image15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2.png" ContentType="image/png"/>
  <Override PartName="/ppt/media/image7.wmf" ContentType="image/x-wmf"/>
  <Override PartName="/ppt/media/image1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AF0-AFE7-4221-A39E-F32E7900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75F-01CC-4A74-8013-2725ACB9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724-79F0-40D8-9B5E-609A1931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277-E7FB-43BB-B24D-341CFAD5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9B0B-3AAE-4EF5-99AB-4A57C5A1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FE01-EA15-4AC3-88B5-343BB452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4D48-3F05-4A9E-8EB9-356AA0FA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54E2-3E33-4C97-8574-EFD0DEF5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D741-15D6-4016-956B-56A4916F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EBA3-47AE-4FC0-9166-8BDBA661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8FD6-C5EE-42C1-977D-05B5E6E0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778-DC8F-4D05-AA3B-BDBD9819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FF3E-1DAF-4A7A-A8E3-EF7F2F1B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EEC6-4A9A-43A8-A523-C33C1841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2B8C-8B0E-42EC-8AF9-14D36E83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7BCD-015E-4E4F-B7E9-790F9009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ABE3-95A7-4F52-B318-0203204F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A5C6-6AA8-4D5A-9709-C8732FAE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5871-3D2D-4693-A5B5-C47037A5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7B04-E1B8-40D9-8379-5BCA5D0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CA60-48D5-4436-8231-5AFF4782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D525-35CE-4686-B51C-97D3651B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A48-D50F-4B83-9D76-A18D8FCA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AE4C-3265-46BF-AF3E-C45EEC97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62B3-5F2F-46D0-8CDD-015FE69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40C2-C19F-4EEC-AAE4-9B9F75C6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6043-1104-462F-8E23-C4CC010D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99EB-7C98-4A88-AC22-EA3AAD43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02D6-B984-46DB-A51B-5C5C05B5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DB6A-30CC-4ADC-81A1-3F2F8E57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466-6977-40A8-8434-0F847DDF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4BB-5770-4B50-8FB1-E8867E86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AE5-2B26-488D-A9D4-936DBC24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A4C-D9AB-4DA9-9777-468B0B3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EA7-2CB0-4B13-A969-7B513FCC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C2D-4D9A-4519-AAF8-84B6ECD4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390036-609D-4265-8D4C-ACC80724A2C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8580D5-60C8-414A-BF12-8911408A2E6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F80BA8-6CCF-436F-B6E2-0D6FC7FBC40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1001520"/>
            <a:ext cx="9143640" cy="39754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Aromatic compoun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Times New Roman"/>
              </a:rPr>
              <a:t>1</a:t>
            </a:r>
            <a:r>
              <a:rPr b="1" lang="en-US" sz="5400" spc="-1" strike="noStrike" baseline="30000">
                <a:solidFill>
                  <a:srgbClr val="00b0f0"/>
                </a:solidFill>
                <a:latin typeface="Times New Roman"/>
              </a:rPr>
              <a:t>st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</a:rPr>
              <a:t> st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4400" spc="-1" strike="noStrike">
                <a:solidFill>
                  <a:schemeClr val="dk1"/>
                </a:solidFill>
                <a:latin typeface="Calibri"/>
              </a:rPr>
              <a:t>Wrea Moham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D126C0-B5D3-475E-AF7A-F6764A3FB45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-21240"/>
            <a:ext cx="914364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lecular formula. Isomer number. Kekulé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zene has the molecular formula </a:t>
            </a:r>
            <a:r>
              <a:rPr b="0" lang="en-US" sz="2800" spc="-1" strike="noStrike">
                <a:solidFill>
                  <a:schemeClr val="folHlink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chemeClr val="folHlink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chemeClr val="folHlink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chemeClr val="folHlink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its elemental composition and molecular weight, benzene was known to contain six carbon atoms and six hydrogen atoms. The question was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are these atoms arran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he answer is </a:t>
            </a:r>
            <a:r>
              <a:rPr b="1" lang="en-US" sz="2800" spc="-1" strike="noStrike">
                <a:solidFill>
                  <a:schemeClr val="folHlink"/>
                </a:solidFill>
                <a:latin typeface="Arial"/>
              </a:rPr>
              <a:t>Kekulé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EC2590-F45D-4A56-A318-D0221919E1E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-6480" y="-90360"/>
            <a:ext cx="915012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  <a:tabLst>
                <a:tab algn="l" pos="161604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obable structures of benz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161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kulés structure of benzene was one that we would represent today lik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46040" y="1932120"/>
            <a:ext cx="7859520" cy="33253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5421960"/>
            <a:ext cx="91436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161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structures are, of course, consistent with the formula </a:t>
            </a:r>
            <a:r>
              <a:rPr b="1" lang="en-US" sz="2400" spc="-1" strike="noStrike">
                <a:solidFill>
                  <a:schemeClr val="folHlink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 baseline="-25000">
                <a:solidFill>
                  <a:schemeClr val="folHlink"/>
                </a:solidFill>
                <a:latin typeface="Arial"/>
                <a:ea typeface="Times New Roman"/>
              </a:rPr>
              <a:t>6</a:t>
            </a:r>
            <a:r>
              <a:rPr b="1" lang="en-US" sz="2400" spc="-1" strike="noStrike">
                <a:solidFill>
                  <a:schemeClr val="folHlink"/>
                </a:solidFill>
                <a:latin typeface="Arial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chemeClr val="folHlink"/>
                </a:solidFill>
                <a:latin typeface="Arial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85EBCB-C365-4820-9350-5E5DF2D2013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301680"/>
            <a:ext cx="914364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Benzene undergoes substitution rather than add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Unsaturated hydrocarbons such as alkenes, alkynes, and dienes readily undergo addition reactions, benzene does not. For example, bromine adds to ethylene to form a ethyldibromide, but benzene is inert under similar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16468" t="32810" r="15555" b="30856"/>
          <a:stretch/>
        </p:blipFill>
        <p:spPr>
          <a:xfrm>
            <a:off x="152280" y="4186080"/>
            <a:ext cx="884376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9EB6C7-3435-4AB4-AABF-77779BF9B2C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4318560"/>
            <a:ext cx="914364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lace of addition reactions, benzene readily undergoes a new set of reactions, all involving substitution. The most important are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86400"/>
            <a:ext cx="914364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zene reacts with bromine, but only in the presence of FeB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Lewis acid), and the reaction is a substitution, not an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rcRect l="30303" t="63273" r="19836" b="21093"/>
          <a:stretch/>
        </p:blipFill>
        <p:spPr>
          <a:xfrm>
            <a:off x="609480" y="2286000"/>
            <a:ext cx="76957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934A0C-B45D-4077-8740-4D9DC5E3870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icture 4"/>
          <p:cNvSpPr/>
          <p:nvPr/>
        </p:nvSpPr>
        <p:spPr>
          <a:xfrm>
            <a:off x="0" y="0"/>
            <a:ext cx="9143640" cy="685764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2406240" y="533520"/>
            <a:ext cx="243972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2696760" y="1687680"/>
            <a:ext cx="243972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9760" y="2754360"/>
            <a:ext cx="243972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4530240" y="4572000"/>
            <a:ext cx="333108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4235040" y="5715000"/>
            <a:ext cx="2439720" cy="3639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782AF0-E8E1-42C6-AB6B-CA5474D2253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70080"/>
            <a:ext cx="91436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Resonance structure of benz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onance description of benzene matches the Kekulé description with one important exce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Kekulé representations are not in equilibrium with each other. Instead, the true structure of benzene is a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</a:rPr>
              <a:t>resonance hybr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two Lewis structures, with the dashed lines of the hybrid indicating the position of the π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3802F7-6D77-4A45-A67A-4B559A7772C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rcRect l="17677" t="32613" r="24667" b="35935"/>
          <a:stretch/>
        </p:blipFill>
        <p:spPr>
          <a:xfrm>
            <a:off x="152280" y="152280"/>
            <a:ext cx="8762760" cy="31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rcRect l="6369" t="18942" r="49994" b="16604"/>
          <a:stretch/>
        </p:blipFill>
        <p:spPr>
          <a:xfrm>
            <a:off x="1676520" y="3581280"/>
            <a:ext cx="5790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Num" idx="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27EA93-2295-4DC9-A29E-F7FB264E2B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19080"/>
            <a:ext cx="9143640" cy="45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000000"/>
                </a:solidFill>
                <a:latin typeface="TimesLTStd-Roman"/>
              </a:rPr>
              <a:t>The resonance hybrid of benzene explains why all C – C bond lengths are the same. Each C–C bond is single in one resonance structure and double in the other, so the actual bond length (</a:t>
            </a:r>
            <a:r>
              <a:rPr b="0" lang="en-US" sz="2800" spc="-1" strike="noStrike">
                <a:solidFill>
                  <a:srgbClr val="ffc000"/>
                </a:solidFill>
                <a:latin typeface="TimesLTStd-Roman"/>
              </a:rPr>
              <a:t>139 pm</a:t>
            </a:r>
            <a:r>
              <a:rPr b="0" lang="en-US" sz="2800" spc="-1" strike="noStrike">
                <a:solidFill>
                  <a:srgbClr val="000000"/>
                </a:solidFill>
                <a:latin typeface="TimesLTStd-Roman"/>
              </a:rPr>
              <a:t>) is intermediate between a carbon–carbon single bond (</a:t>
            </a:r>
            <a:r>
              <a:rPr b="0" lang="en-US" sz="2800" spc="-1" strike="noStrike">
                <a:solidFill>
                  <a:srgbClr val="ffc000"/>
                </a:solidFill>
                <a:latin typeface="TimesLTStd-Roman"/>
              </a:rPr>
              <a:t>153 pm</a:t>
            </a:r>
            <a:r>
              <a:rPr b="0" lang="en-US" sz="2800" spc="-1" strike="noStrike">
                <a:solidFill>
                  <a:srgbClr val="000000"/>
                </a:solidFill>
                <a:latin typeface="TimesLTStd-Roman"/>
              </a:rPr>
              <a:t>) and a carbon–carbon double bond (</a:t>
            </a:r>
            <a:r>
              <a:rPr b="0" lang="en-US" sz="2800" spc="-1" strike="noStrike">
                <a:solidFill>
                  <a:srgbClr val="ffc000"/>
                </a:solidFill>
                <a:latin typeface="TimesLTStd-Roman"/>
              </a:rPr>
              <a:t>134 pm</a:t>
            </a:r>
            <a:r>
              <a:rPr b="0" lang="en-US" sz="2800" spc="-1" strike="noStrike">
                <a:solidFill>
                  <a:srgbClr val="000000"/>
                </a:solidFill>
                <a:latin typeface="TimesLTStd-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26792" t="49995" r="7869" b="31831"/>
          <a:stretch/>
        </p:blipFill>
        <p:spPr>
          <a:xfrm>
            <a:off x="0" y="4572000"/>
            <a:ext cx="914364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2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026778-BC4E-41DA-A46F-3511C218E17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-121320"/>
            <a:ext cx="914364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3200" spc="-1" strike="noStrike">
                <a:solidFill>
                  <a:schemeClr val="folHlink"/>
                </a:solidFill>
                <a:latin typeface="Times New Roman"/>
              </a:rPr>
              <a:t>Hybridization and Orbitals of benz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arbon atom in a benzene ring is surrounded by three atoms and no lone pairs of electrons, making it 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ybridized and trigonal planar with all bond angles 120°. Each carbon also has a p orbital with one electron that extends above and below the plane of the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8566" t="26068" r="4372" b="21501"/>
          <a:stretch/>
        </p:blipFill>
        <p:spPr>
          <a:xfrm>
            <a:off x="0" y="4062240"/>
            <a:ext cx="914364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6CE802-C4FF-458B-88D5-B083493B0FB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3657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3767040"/>
            <a:ext cx="9143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Only sigma bonds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orbitals</a:t>
            </a: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overlap to for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ene is a flat molecule, with every carbon and every hydrogen lying in the same plane. It is a very symmetrical molecule, every bond angle is 120°. </a:t>
            </a:r>
            <a:r>
              <a:rPr b="0" lang="en-US" sz="2400" spc="-1" strike="noStrike">
                <a:solidFill>
                  <a:schemeClr val="folHlink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618D8C-974C-4BFC-BEFD-4A1E1C79C20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291600"/>
            <a:ext cx="914364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 u="sng">
                <a:solidFill>
                  <a:schemeClr val="folHlink"/>
                </a:solidFill>
                <a:uFillTx/>
                <a:latin typeface="Times New Roman"/>
              </a:rPr>
              <a:t>Aromat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omatic compounds 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nzen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r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compounds that resemble benzene in chemical behav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Criteria for Aromaticity—Hückel’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30000"/>
              <a:buFont typeface="Calibri"/>
              <a:buAutoNum type="arabicPeriod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A molecule must be cyc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aromatic,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must overlap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s on two adjacent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Num" idx="2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7D1D1F-8868-49C9-A287-7BA64932052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60840"/>
            <a:ext cx="914364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imes New Roman"/>
              </a:rPr>
              <a:t>View of the electron density in a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 orbital of any carbon atom overlaps equally with the p orbitals of two adjacent carbon atoms. The result is two continuous double-shaped electron clouds, one lying above and the other below the plane of th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27484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4647960" cy="25142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0" y="6337800"/>
            <a:ext cx="9143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π</a:t>
            </a:r>
            <a:r>
              <a:rPr b="1" lang="en-US" sz="2800" spc="-1" strike="noStrike">
                <a:solidFill>
                  <a:schemeClr val="folHlink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chemeClr val="folHlink"/>
                </a:solidFill>
                <a:latin typeface="Arial"/>
                <a:ea typeface="Times New Roman"/>
              </a:rPr>
              <a:t>clouds above and below  plane of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5391000" y="3809880"/>
            <a:ext cx="360000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B9BA36-B5AA-4DE6-AA86-14BE306978A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20314" t="28514" r="19177" b="20507"/>
          <a:stretch/>
        </p:blipFill>
        <p:spPr>
          <a:xfrm>
            <a:off x="409680" y="2971800"/>
            <a:ext cx="8457840" cy="3728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0" y="17640"/>
            <a:ext cx="9143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30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 orbitals on all six carbons of benzene continuously overlap, so benzene is aro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30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3,5-Hexatriene has six p orbitals, too, but the two on the terminal carbons cannot overlap with each other, so 1,3,5-hexatriene is not aro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1AD896-53DA-4D6F-9C65-603AFA853E8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364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A molecule must be pla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djac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s must be plan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 th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ctron density can be deloc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ooctatetraene resembles benzene in that it is a cyclic molecule with alternating double and single bonds. Cyclooctatetraene is tub shaped, however, not planar, so overlap between adjacen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is impossible. Cyclooctatetraene, therefore, is not aro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10758" t="37101" r="5016" b="31442"/>
          <a:stretch/>
        </p:blipFill>
        <p:spPr>
          <a:xfrm>
            <a:off x="0" y="4648320"/>
            <a:ext cx="914364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86BE71-C501-4270-858F-DD250CA6591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33480"/>
            <a:ext cx="9143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ff0000"/>
              </a:buClr>
              <a:buSzPct val="130000"/>
              <a:buFont typeface="Calibri"/>
              <a:buAutoNum type="arabicPeriod" startAt="3"/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A molecule must be completely conjug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matic compounds must hav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on every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1,3-cyclohexadiene and 1,3,5-cycloheptatriene contain at least one carbon atom that does not hav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, and so they are not completely conjugated and therefo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om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13004" t="34567" r="9075" b="25930"/>
          <a:stretch/>
        </p:blipFill>
        <p:spPr>
          <a:xfrm>
            <a:off x="0" y="4267080"/>
            <a:ext cx="9143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D23BDC-5223-4DF9-9396-0F0F08C4B22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3640" cy="63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 molecule must satisfy Hückel’s rule, and contain a particular number of </a:t>
            </a:r>
            <a:r>
              <a:rPr b="1" lang="el-GR" sz="2800" spc="-1" strike="noStrike">
                <a:solidFill>
                  <a:srgbClr val="00b050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omatic compound must conta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2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ctron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, 1, 2, and so fort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unds that contain 2, 6, 10, 14, 18, π electrons are aromatic, Benzene is aromatic and especially stable because it contains 6 π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obutadiene is antiaromatic and especially unstable because it contains 4 π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380212-C0EA-42FD-A692-E0CA734673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38758" t="13278" r="20494" b="13868"/>
          <a:stretch/>
        </p:blipFill>
        <p:spPr>
          <a:xfrm>
            <a:off x="914400" y="247680"/>
            <a:ext cx="693396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F7FAD7-E953-4E0D-A706-0E2A221618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363600"/>
            <a:ext cx="914364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US" sz="3200" spc="-1" strike="noStrike" u="sng">
                <a:solidFill>
                  <a:schemeClr val="folHlink"/>
                </a:solidFill>
                <a:uFillTx/>
                <a:latin typeface="Times New Roman"/>
              </a:rPr>
              <a:t>Structure of benz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ff0000"/>
              </a:buClr>
              <a:buSzPct val="120000"/>
              <a:buFont typeface="Wingdings" charset="2"/>
              <a:buChar char="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Kekulé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odel, benzene was thought to be a rapidly equilibrating mixture of two compounds, each containing a six-membered ring with three alternating π bonds. These structures are now called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Kekulé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tructur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In the Kekulé description, the bond between any two carbon atoms is sometimes a single bond and sometimes a double b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575864-9F2F-4AB9-B036-A975F279059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rcRect l="16579" t="55069" r="34439" b="29099"/>
          <a:stretch/>
        </p:blipFill>
        <p:spPr>
          <a:xfrm>
            <a:off x="685800" y="533520"/>
            <a:ext cx="76957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5"/>
          <p:cNvGrpSpPr/>
          <p:nvPr/>
        </p:nvGrpSpPr>
        <p:grpSpPr>
          <a:xfrm>
            <a:off x="666720" y="3429000"/>
            <a:ext cx="7714800" cy="3212640"/>
            <a:chOff x="666720" y="3429000"/>
            <a:chExt cx="7714800" cy="3212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rcRect l="0" t="0" r="38372" b="0"/>
            <a:stretch/>
          </p:blipFill>
          <p:spPr>
            <a:xfrm>
              <a:off x="666720" y="3429000"/>
              <a:ext cx="7714800" cy="32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" descr=""/>
            <p:cNvPicPr/>
            <p:nvPr/>
          </p:nvPicPr>
          <p:blipFill>
            <a:blip r:embed="rId3"/>
            <a:srcRect l="49065" t="60576" r="42458" b="33898"/>
            <a:stretch/>
          </p:blipFill>
          <p:spPr>
            <a:xfrm>
              <a:off x="3733920" y="4495680"/>
              <a:ext cx="1330200" cy="74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6</TotalTime>
  <Application>LibreOffice/7.4.7.2$Linux_X86_64 LibreOffice_project/40$Build-2</Application>
  <AppVersion>15.0000</AppVersion>
  <Words>812</Words>
  <Paragraphs>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rea</dc:creator>
  <dc:description/>
  <dc:language>en-US</dc:language>
  <cp:lastModifiedBy>Wrea</cp:lastModifiedBy>
  <dcterms:modified xsi:type="dcterms:W3CDTF">2019-05-23T15:16:23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0</vt:r8>
  </property>
</Properties>
</file>