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3.png" ContentType="image/png"/>
  <Override PartName="/ppt/media/image30.gif" ContentType="image/gif"/>
  <Override PartName="/ppt/media/image28.gif" ContentType="image/gif"/>
  <Override PartName="/ppt/media/image5.gif" ContentType="image/gif"/>
  <Override PartName="/ppt/media/image8.png" ContentType="image/png"/>
  <Override PartName="/ppt/media/image38.png" ContentType="image/png"/>
  <Override PartName="/ppt/media/image37.gif" ContentType="image/gif"/>
  <Override PartName="/ppt/media/image7.gif" ContentType="image/gif"/>
  <Override PartName="/ppt/media/image35.png" ContentType="image/png"/>
  <Override PartName="/ppt/media/image16.png" ContentType="image/png"/>
  <Override PartName="/ppt/media/image29.gif" ContentType="image/gif"/>
  <Override PartName="/ppt/media/image6.gif" ContentType="image/gif"/>
  <Override PartName="/ppt/media/image9.png" ContentType="image/png"/>
  <Override PartName="/ppt/media/hdphoto1.wdp" ContentType="image/vnd.ms-photo"/>
  <Override PartName="/ppt/media/image11.png" ContentType="image/png"/>
  <Override PartName="/ppt/media/image12.png" ContentType="image/png"/>
  <Override PartName="/ppt/media/image36.png" ContentType="image/png"/>
  <Override PartName="/ppt/media/image10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2.png" ContentType="image/png"/>
  <Override PartName="/ppt/media/image32.gif" ContentType="image/gif"/>
  <Override PartName="/ppt/media/image25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109728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E1E41E-14FF-4555-9194-9986902D8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80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8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574DEB-4EFE-4CB1-B281-D0D7A19C261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82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8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63108B-A80B-4ECC-BD5C-85ED1071CC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84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8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176106-5756-4E05-A09F-591A19B5AAF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Kurdistan Technical Institute (K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86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epartment of Petroleum R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8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665B67-5E5B-437B-840C-301AF403DDC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7DA-CCEC-49CA-9FB7-9DD73A31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46A-D249-4474-82F8-C31456EC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BFC-3703-4C58-89F7-EEC6F1CE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EE1-55A1-438E-96B6-3D683ECB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5316-8D61-41D0-A90B-5236BACA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9001-FD86-46BC-A515-E70258D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54E6-5560-43CF-929A-E93C6F0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D82-9ECC-47B9-8585-726D45CE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91EA-098E-4C81-9088-73193511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922F-DAFA-4580-BEF9-E5DFAD51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3919-33B6-464D-B088-F4CF4EF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D3D-B5DD-4EA9-9035-853A3379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957F-FD32-44EB-9F8B-4C24EF9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1387-02E8-4ABC-9877-2750CE9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353-3E22-41FD-B13E-6A978F0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8EAD-B333-4181-9D34-4ACF2A94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7B71-65C3-4E75-B328-0DDBA86D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08C-4142-4457-BC28-3EE5A7A1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D0F-0483-4646-A8E1-0B5F5EB5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918-87A0-4289-8C20-17DD9325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B00-3D15-4F08-88AA-60121A71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8BB-EA14-47C4-AADF-5FC6549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B4C-57F7-4016-AE65-8922F1E1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A60-C85F-4FE5-827C-FDFBE54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10789920" y="360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10972440" cy="28494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75680" y="72439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86480" y="2742480"/>
            <a:ext cx="10599480" cy="360"/>
          </a:xfrm>
          <a:prstGeom prst="line">
            <a:avLst/>
          </a:prstGeom>
          <a:ln w="11430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82880" y="17280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5120640" y="239724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5234040" y="2504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5212080" y="249264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a3a95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BC6262-B13B-46CC-BEEA-4CFA3A7F8D88}" type="slidenum">
              <a:rPr b="0" lang="en-US" sz="1600" spc="-1" strike="noStrike">
                <a:solidFill>
                  <a:srgbClr val="a3a95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822960" y="431640"/>
            <a:ext cx="93265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548640" y="1818720"/>
            <a:ext cx="987516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5234040" y="116316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92B527-2F6E-4017-98CC-6E0F11DFD0D5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9fb8cd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d2da7a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fada7a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b88472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00" y="2900880"/>
            <a:ext cx="1059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</a:pP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Lecture 8</a:t>
            </a:r>
            <a:br>
              <a:rPr sz="4900"/>
            </a:b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System of Linear Differential Equations </a:t>
            </a:r>
            <a:br>
              <a:rPr sz="4400"/>
            </a:br>
            <a:r>
              <a:rPr b="1" lang="en-US" sz="3100" spc="-1" strike="noStrike">
                <a:solidFill>
                  <a:schemeClr val="accent6">
                    <a:lumMod val="75000"/>
                  </a:schemeClr>
                </a:solidFill>
                <a:latin typeface="Agency FB"/>
              </a:rPr>
              <a:t>fall semester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194400" y="354960"/>
            <a:ext cx="105951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200" spc="-1" strike="noStrike">
                <a:solidFill>
                  <a:schemeClr val="accent4">
                    <a:lumMod val="50000"/>
                  </a:schemeClr>
                </a:solidFill>
                <a:latin typeface="comic"/>
              </a:rPr>
              <a:t>Differential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209520" y="6126480"/>
            <a:ext cx="105951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Instructor: A. S. Brwa / MSc. In Structur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College of Engineering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/ Ishik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8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Num" idx="2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6AA9DE-206A-4D5B-9D91-98885289AFB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2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23200" y="1706040"/>
            <a:ext cx="104169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The Zero Matrix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 zero matrix is defined to be 0 = (0), whose dimensions depend on the context.  For exam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rcRect l="32906" t="56419" r="33541" b="26716"/>
          <a:stretch/>
        </p:blipFill>
        <p:spPr>
          <a:xfrm>
            <a:off x="1313640" y="3241800"/>
            <a:ext cx="82353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9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Num" idx="2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63FF804-D270-475B-AF68-382F73EE6BC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2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223200" y="1706040"/>
            <a:ext cx="104169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Identity matrix: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diagonal matrix with 1’s and only 1’s on the diagonal and zeros everywhere else. The identity matrix is almost always denoted as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Image result for identity matrix"/>
          <p:cNvPicPr/>
          <p:nvPr/>
        </p:nvPicPr>
        <p:blipFill>
          <a:blip r:embed="rId2"/>
          <a:srcRect l="0" t="41428" r="0" b="32252"/>
          <a:stretch/>
        </p:blipFill>
        <p:spPr>
          <a:xfrm>
            <a:off x="914040" y="4016520"/>
            <a:ext cx="9444600" cy="18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0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0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3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C47F3B-40EA-4086-8D46-A332D2B39D5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23200" y="1706040"/>
            <a:ext cx="10416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tract Matrix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rcRect l="15680" t="31152" r="68629" b="45773"/>
          <a:stretch/>
        </p:blipFill>
        <p:spPr>
          <a:xfrm>
            <a:off x="1249560" y="3229560"/>
            <a:ext cx="3512160" cy="2904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3"/>
          <a:srcRect l="15680" t="54631" r="68629" b="19400"/>
          <a:stretch/>
        </p:blipFill>
        <p:spPr>
          <a:xfrm>
            <a:off x="6118560" y="3229560"/>
            <a:ext cx="3121200" cy="29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1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Num" idx="3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22F1BD-FF5A-46B1-B159-63E25054B89A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23200" y="1706040"/>
            <a:ext cx="1041696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and subtracting matrix is really easy, b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SIZES MUST BE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16150" t="32643" r="33817" b="20335"/>
          <a:stretch/>
        </p:blipFill>
        <p:spPr>
          <a:xfrm>
            <a:off x="2461320" y="3576960"/>
            <a:ext cx="65084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2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3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630143-F9C1-4A9D-BB3A-5979D365620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3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23200" y="1706040"/>
            <a:ext cx="1041696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and subtracting matrix is really easy, b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SIZES MUST BE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rcRect l="15522" t="21639" r="55730" b="51836"/>
          <a:stretch/>
        </p:blipFill>
        <p:spPr>
          <a:xfrm>
            <a:off x="4206600" y="4650480"/>
            <a:ext cx="4944240" cy="2564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3"/>
          <a:srcRect l="15940" t="54902" r="49884" b="20162"/>
          <a:stretch/>
        </p:blipFill>
        <p:spPr>
          <a:xfrm>
            <a:off x="4206600" y="2898360"/>
            <a:ext cx="3867120" cy="15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3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3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D39CDB-1D49-4F9D-9AA6-341E91BDE0A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3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223200" y="1706040"/>
            <a:ext cx="10416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dding and Subtracting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Matrix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rcRect l="15732" t="29006" r="71681" b="47943"/>
          <a:stretch/>
        </p:blipFill>
        <p:spPr>
          <a:xfrm>
            <a:off x="223200" y="3036960"/>
            <a:ext cx="2535120" cy="2523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3"/>
          <a:srcRect l="16676" t="34508" r="64540" b="16230"/>
          <a:stretch/>
        </p:blipFill>
        <p:spPr>
          <a:xfrm>
            <a:off x="6890040" y="2399400"/>
            <a:ext cx="3903480" cy="4801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4"/>
          <a:srcRect l="35886" t="29006" r="51721" b="47943"/>
          <a:stretch/>
        </p:blipFill>
        <p:spPr>
          <a:xfrm>
            <a:off x="2968920" y="3036960"/>
            <a:ext cx="2462400" cy="25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4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4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Num" idx="3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D0C2568-2731-425B-B168-C2355BAF476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3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23200" y="1706040"/>
            <a:ext cx="1041696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 by scalar, A scalar is just a number like 3 or -5 or   or .4. We can multiply a matrix by some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4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4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4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D8D6CF9-FD0D-4B69-A713-ACA6A19F33D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23200" y="1706040"/>
            <a:ext cx="1041696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tr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..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times 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"/>
          <p:cNvPicPr/>
          <p:nvPr/>
        </p:nvPicPr>
        <p:blipFill>
          <a:blip r:embed="rId2"/>
          <a:srcRect l="26678" t="45753" r="53533" b="37096"/>
          <a:stretch/>
        </p:blipFill>
        <p:spPr>
          <a:xfrm>
            <a:off x="7529040" y="1919520"/>
            <a:ext cx="2474640" cy="117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3"/>
          <a:srcRect l="23615" t="39045" r="50584" b="45162"/>
          <a:stretch/>
        </p:blipFill>
        <p:spPr>
          <a:xfrm>
            <a:off x="3732120" y="3562560"/>
            <a:ext cx="3108960" cy="1045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4"/>
          <a:srcRect l="24946" t="54626" r="52092" b="29188"/>
          <a:stretch/>
        </p:blipFill>
        <p:spPr>
          <a:xfrm>
            <a:off x="4409280" y="4750560"/>
            <a:ext cx="2431800" cy="108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"/>
          <p:cNvPicPr/>
          <p:nvPr/>
        </p:nvPicPr>
        <p:blipFill>
          <a:blip r:embed="rId5"/>
          <a:srcRect l="28382" t="73952" r="52997" b="9070"/>
          <a:stretch/>
        </p:blipFill>
        <p:spPr>
          <a:xfrm>
            <a:off x="4409280" y="5966640"/>
            <a:ext cx="2431800" cy="10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5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6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Num" idx="4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995797-0A44-457F-8073-D369087F134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4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223200" y="1706040"/>
            <a:ext cx="104169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 of Matrices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ind 5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2"/>
          <a:srcRect l="22201" t="49572" r="49994" b="39070"/>
          <a:stretch/>
        </p:blipFill>
        <p:spPr>
          <a:xfrm>
            <a:off x="2297160" y="3535920"/>
            <a:ext cx="7304760" cy="1676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rcRect l="22340" t="60915" r="64363" b="27820"/>
          <a:stretch/>
        </p:blipFill>
        <p:spPr>
          <a:xfrm>
            <a:off x="2391840" y="5366880"/>
            <a:ext cx="331704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6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4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864ECD-5A57-49B4-878C-DC40AC08070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4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23200" y="1706040"/>
            <a:ext cx="104169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Now, let’s try more difficult 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rcRect l="37874" t="54714" r="36756" b="21438"/>
          <a:stretch/>
        </p:blipFill>
        <p:spPr>
          <a:xfrm>
            <a:off x="2505600" y="4097160"/>
            <a:ext cx="5695560" cy="30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1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121F8D-A2F8-4AAE-9141-18B0A8E979A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1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86840" y="1848600"/>
            <a:ext cx="10584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Definitions: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rix is a collection of numbers ordered by rows and columns. It is customary to enclose the elements of a matrix in parentheses, brackets, or braces. Matrices with more than one row and one column denoted by bold, upper case letters (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7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7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Num" idx="4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E99EAE-BC74-4420-8E23-9448C457D60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4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223200" y="1706040"/>
            <a:ext cx="104169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by scalar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Now, let’s try more difficult 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rcRect l="37399" t="49994" r="35060" b="21266"/>
          <a:stretch/>
        </p:blipFill>
        <p:spPr>
          <a:xfrm>
            <a:off x="5289120" y="3960360"/>
            <a:ext cx="5504400" cy="3230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3"/>
          <a:srcRect l="37399" t="37198" r="37073" b="51350"/>
          <a:stretch/>
        </p:blipFill>
        <p:spPr>
          <a:xfrm>
            <a:off x="186840" y="4346280"/>
            <a:ext cx="5101920" cy="12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8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8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ldNum" idx="4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A26D78-D7E5-46ED-BC3F-C58920CE118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4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223200" y="1706040"/>
            <a:ext cx="1041696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of two matric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o multiply two matrices together is a bit more difficult. First of all, the size of the two matrices you are multiplying is super impor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f the size of matrix 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A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s 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SimSun"/>
              </a:rPr>
              <a:t>3 x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the size of matrix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s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4 x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4" descr=""/>
          <p:cNvPicPr/>
          <p:nvPr/>
        </p:nvPicPr>
        <p:blipFill>
          <a:blip r:embed="rId2"/>
          <a:srcRect l="27497" t="45556" r="41226" b="27835"/>
          <a:stretch/>
        </p:blipFill>
        <p:spPr>
          <a:xfrm>
            <a:off x="5704200" y="3675960"/>
            <a:ext cx="4935960" cy="2285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9"/>
          <p:cNvSpPr/>
          <p:nvPr/>
        </p:nvSpPr>
        <p:spPr>
          <a:xfrm>
            <a:off x="2763000" y="6300360"/>
            <a:ext cx="7876800" cy="672840"/>
          </a:xfrm>
          <a:prstGeom prst="rect">
            <a:avLst/>
          </a:prstGeom>
          <a:solidFill>
            <a:schemeClr val="lt1"/>
          </a:solidFill>
          <a:ln w="6350">
            <a:solidFill>
              <a:srgbClr val="ffffff"/>
            </a:solidFill>
            <a:round/>
          </a:ln>
        </p:spPr>
        <p:style>
          <a:lnRef idx="0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15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Georgia"/>
                <a:ea typeface="SimSun"/>
              </a:rPr>
              <a:t>And the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  <a:ea typeface="SimSun"/>
              </a:rPr>
              <a:t>answer </a:t>
            </a:r>
            <a:r>
              <a:rPr b="1" lang="en-US" sz="2800" spc="-1" strike="noStrike">
                <a:solidFill>
                  <a:schemeClr val="dk1"/>
                </a:solidFill>
                <a:latin typeface="Georgia"/>
                <a:ea typeface="SimSun"/>
              </a:rPr>
              <a:t>will be a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  <a:ea typeface="SimSun"/>
              </a:rPr>
              <a:t>3 x 1 </a:t>
            </a:r>
            <a:r>
              <a:rPr b="1" lang="en-US" sz="2800" spc="-1" strike="noStrike">
                <a:solidFill>
                  <a:schemeClr val="dk1"/>
                </a:solidFill>
                <a:latin typeface="Georgia"/>
                <a:ea typeface="SimSun"/>
              </a:rPr>
              <a:t>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9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9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Num" idx="5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CC17BA-CB35-46F8-908E-9EAC2F1A4FA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5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3200" y="1706040"/>
            <a:ext cx="1041696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of two matric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If Matr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300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301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01615F43-64F2-4028-B7BE-2C194FFA9D4C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rcRect l="21712" t="32830" r="26678" b="24434"/>
          <a:stretch/>
        </p:blipFill>
        <p:spPr>
          <a:xfrm>
            <a:off x="0" y="2360520"/>
            <a:ext cx="10149480" cy="446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Rectangle 2"/>
              <p:cNvSpPr txBox="1"/>
              <p:nvPr/>
            </p:nvSpPr>
            <p:spPr>
              <a:xfrm>
                <a:off x="91440" y="1295280"/>
                <a:ext cx="809856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𝑨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𝟏</m:t>
                              </m:r>
                            </m:e>
                            <m:e>
                              <m:r>
                                <m:t xml:space="preserve">𝟓</m:t>
                              </m:r>
                            </m:e>
                          </m:mr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𝟑</m:t>
                              </m:r>
                            </m:e>
                          </m:mr>
                        </m:m>
                      </m:e>
                    </m:d>
                    <m:r>
                      <m:t xml:space="preserve">𝒂𝒏𝒅</m:t>
                    </m:r>
                    <m:r>
                      <m:t xml:space="preserve">𝑩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𝟑</m:t>
                              </m:r>
                            </m:e>
                          </m:mr>
                          <m:mr>
                            <m:e>
                              <m:r>
                                <m:t xml:space="preserve">𝟓</m:t>
                              </m:r>
                            </m:e>
                            <m:e>
                              <m:r>
                                <m:t xml:space="preserve">𝟏</m:t>
                              </m:r>
                            </m:e>
                          </m:mr>
                        </m:m>
                      </m:e>
                    </m:d>
                    <m:r>
                      <m:t xml:space="preserve">𝑭𝒊𝒏𝒅</m:t>
                    </m:r>
                    <m:r>
                      <m:t xml:space="preserve">𝑨</m:t>
                    </m:r>
                    <m:r>
                      <m:t xml:space="preserve">∙</m:t>
                    </m:r>
                    <m:r>
                      <m:t xml:space="preserve">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Rectangle 3"/>
          <p:cNvSpPr/>
          <p:nvPr/>
        </p:nvSpPr>
        <p:spPr>
          <a:xfrm>
            <a:off x="186840" y="5786280"/>
            <a:ext cx="9871200" cy="9496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06" name="Rectangle 16"/>
          <p:cNvSpPr/>
          <p:nvPr/>
        </p:nvSpPr>
        <p:spPr>
          <a:xfrm>
            <a:off x="182880" y="4836240"/>
            <a:ext cx="9871200" cy="2072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182880" y="3799800"/>
            <a:ext cx="9871200" cy="32814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182880" y="2418120"/>
            <a:ext cx="9871200" cy="46630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200400" y="2632320"/>
            <a:ext cx="6853680" cy="11671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362160" y="4059000"/>
            <a:ext cx="782784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A is 2 by 2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B is 2 by 2.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So, the resul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The result is </a:t>
            </a: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8"/>
          <p:cNvCxnSpPr/>
          <p:nvPr/>
        </p:nvCxnSpPr>
        <p:spPr>
          <a:xfrm flipH="1" flipV="1">
            <a:off x="2255040" y="4591440"/>
            <a:ext cx="549000" cy="119484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312" name="Straight Arrow Connector 22"/>
          <p:cNvCxnSpPr/>
          <p:nvPr/>
        </p:nvCxnSpPr>
        <p:spPr>
          <a:xfrm flipV="1">
            <a:off x="3894840" y="4566960"/>
            <a:ext cx="910080" cy="121932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pic>
        <p:nvPicPr>
          <p:cNvPr id="313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52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7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318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319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8F154E1C-39DE-418D-80B4-F823A13FC242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21712" t="32830" r="26678" b="24434"/>
          <a:stretch/>
        </p:blipFill>
        <p:spPr>
          <a:xfrm>
            <a:off x="344520" y="2360520"/>
            <a:ext cx="10149480" cy="446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2" name="Rectangle 2"/>
              <p:cNvSpPr txBox="1"/>
              <p:nvPr/>
            </p:nvSpPr>
            <p:spPr>
              <a:xfrm>
                <a:off x="91440" y="1295280"/>
                <a:ext cx="809856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𝑨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𝟏</m:t>
                              </m:r>
                            </m:e>
                            <m:e>
                              <m:r>
                                <m:t xml:space="preserve">𝟓</m:t>
                              </m:r>
                            </m:e>
                          </m:mr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𝟑</m:t>
                              </m:r>
                            </m:e>
                          </m:mr>
                        </m:m>
                      </m:e>
                    </m:d>
                    <m:r>
                      <m:t xml:space="preserve">𝒂𝒏𝒅</m:t>
                    </m:r>
                    <m:r>
                      <m:t xml:space="preserve">𝑩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𝟐</m:t>
                              </m:r>
                            </m:e>
                            <m:e>
                              <m:r>
                                <m:t xml:space="preserve">𝟑</m:t>
                              </m:r>
                            </m:e>
                          </m:mr>
                          <m:mr>
                            <m:e>
                              <m:r>
                                <m:t xml:space="preserve">𝟓</m:t>
                              </m:r>
                            </m:e>
                            <m:e>
                              <m:r>
                                <m:t xml:space="preserve">𝟏</m:t>
                              </m:r>
                            </m:e>
                          </m:mr>
                        </m:m>
                      </m:e>
                    </m:d>
                    <m:r>
                      <m:t xml:space="preserve">𝑭𝒊𝒏𝒅</m:t>
                    </m:r>
                    <m:r>
                      <m:t xml:space="preserve">𝑨</m:t>
                    </m:r>
                    <m:r>
                      <m:t xml:space="preserve">∙</m:t>
                    </m:r>
                    <m:r>
                      <m:t xml:space="preserve">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3"/>
          <p:cNvSpPr/>
          <p:nvPr/>
        </p:nvSpPr>
        <p:spPr>
          <a:xfrm>
            <a:off x="186840" y="5786280"/>
            <a:ext cx="9871200" cy="9496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313560" y="4836240"/>
            <a:ext cx="9871200" cy="2072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527400" y="3799800"/>
            <a:ext cx="9871200" cy="32814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527400" y="4059000"/>
            <a:ext cx="839916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A is 2 by 2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 is 2 by 2.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So, the resul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The result is </a:t>
            </a: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Georgia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Straight Arrow Connector 8"/>
          <p:cNvCxnSpPr/>
          <p:nvPr/>
        </p:nvCxnSpPr>
        <p:spPr>
          <a:xfrm flipH="1" flipV="1">
            <a:off x="1371600" y="4582080"/>
            <a:ext cx="1549800" cy="120420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328" name="Straight Arrow Connector 22"/>
          <p:cNvCxnSpPr/>
          <p:nvPr/>
        </p:nvCxnSpPr>
        <p:spPr>
          <a:xfrm flipV="1">
            <a:off x="3930480" y="4521960"/>
            <a:ext cx="550440" cy="126432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sp>
        <p:nvSpPr>
          <p:cNvPr id="329" name="TextBox 4"/>
          <p:cNvSpPr/>
          <p:nvPr/>
        </p:nvSpPr>
        <p:spPr>
          <a:xfrm>
            <a:off x="6829200" y="5440680"/>
            <a:ext cx="3291480" cy="80748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7030a0"/>
                </a:solidFill>
                <a:latin typeface="Georgia"/>
              </a:rPr>
              <a:t>2 rows and 2 colum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Straight Arrow Connector 20"/>
          <p:cNvCxnSpPr/>
          <p:nvPr/>
        </p:nvCxnSpPr>
        <p:spPr>
          <a:xfrm flipV="1">
            <a:off x="8823960" y="3799800"/>
            <a:ext cx="205920" cy="1384560"/>
          </a:xfrm>
          <a:prstGeom prst="straightConnector1">
            <a:avLst/>
          </a:prstGeom>
          <a:ln w="28575">
            <a:solidFill>
              <a:srgbClr val="00b050"/>
            </a:solidFill>
            <a:round/>
            <a:tailEnd len="med" type="arrow" w="med"/>
          </a:ln>
        </p:spPr>
      </p:cxnSp>
      <p:pic>
        <p:nvPicPr>
          <p:cNvPr id="331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5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3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3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Num" idx="5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28E1D8-B24C-434B-872A-B0D96551560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223200" y="1706040"/>
            <a:ext cx="104169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2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ultiplication of Matrices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Multiplication of two matrice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If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2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343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344" name="Rectangle 4"/>
          <p:cNvSpPr/>
          <p:nvPr/>
        </p:nvSpPr>
        <p:spPr>
          <a:xfrm>
            <a:off x="649440" y="1619280"/>
            <a:ext cx="9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spcBef>
                <a:spcPts val="1171"/>
              </a:spcBef>
              <a:spcAft>
                <a:spcPts val="1171"/>
              </a:spcAf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SimSu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0ACAFFE3-75E8-4045-AC50-0932091CAC3E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rcRect l="22268" t="27982" r="39087" b="40664"/>
          <a:stretch/>
        </p:blipFill>
        <p:spPr>
          <a:xfrm>
            <a:off x="678240" y="2870280"/>
            <a:ext cx="9622800" cy="41450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678240" y="5656680"/>
            <a:ext cx="9779760" cy="14677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757800" y="4102200"/>
            <a:ext cx="9779760" cy="30222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722160" y="2870280"/>
            <a:ext cx="9779760" cy="43174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51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56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5" name="Straight Connector 7"/>
          <p:cNvCxnSpPr/>
          <p:nvPr/>
        </p:nvCxnSpPr>
        <p:spPr>
          <a:xfrm>
            <a:off x="640080" y="7167600"/>
            <a:ext cx="932724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cxnSp>
        <p:nvCxnSpPr>
          <p:cNvPr id="356" name="Straight Connector 10"/>
          <p:cNvCxnSpPr/>
          <p:nvPr/>
        </p:nvCxnSpPr>
        <p:spPr>
          <a:xfrm>
            <a:off x="91440" y="7167600"/>
            <a:ext cx="10058760" cy="360"/>
          </a:xfrm>
          <a:prstGeom prst="straightConnector1">
            <a:avLst/>
          </a:prstGeom>
          <a:ln w="28575">
            <a:solidFill>
              <a:srgbClr val="727ca3"/>
            </a:solidFill>
            <a:round/>
          </a:ln>
        </p:spPr>
      </p:cxnSp>
      <p:sp>
        <p:nvSpPr>
          <p:cNvPr id="357" name="Rectangle 4"/>
          <p:cNvSpPr/>
          <p:nvPr/>
        </p:nvSpPr>
        <p:spPr>
          <a:xfrm>
            <a:off x="756360" y="1684440"/>
            <a:ext cx="9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spcBef>
                <a:spcPts val="1171"/>
              </a:spcBef>
              <a:spcAft>
                <a:spcPts val="1171"/>
              </a:spcAf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SimSu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"/>
          <p:cNvSpPr/>
          <p:nvPr/>
        </p:nvSpPr>
        <p:spPr>
          <a:xfrm>
            <a:off x="186840" y="-163800"/>
            <a:ext cx="36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7280" rIns="107280" tIns="53640" bIns="536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8412480" y="6408720"/>
            <a:ext cx="25599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</a:pPr>
            <a:fld id="{B861878A-68F5-467B-9344-A51C52624A4D}" type="slidenum">
              <a:rPr b="1" lang="en-US" sz="2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1" lang="en-US" sz="2100" spc="-1" strike="noStrike">
                <a:solidFill>
                  <a:srgbClr val="ffffff"/>
                </a:solidFill>
                <a:latin typeface="Georgia"/>
              </a:rPr>
              <a:t>/2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rcRect l="21922" t="39734" r="27306" b="26117"/>
          <a:stretch/>
        </p:blipFill>
        <p:spPr>
          <a:xfrm>
            <a:off x="540720" y="2975760"/>
            <a:ext cx="9879120" cy="40586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2"/>
          <p:cNvSpPr/>
          <p:nvPr/>
        </p:nvSpPr>
        <p:spPr>
          <a:xfrm>
            <a:off x="552600" y="5699880"/>
            <a:ext cx="9779760" cy="14677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592560" y="4404240"/>
            <a:ext cx="9779760" cy="276300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616320" y="2975760"/>
            <a:ext cx="9779760" cy="43174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64" name="Picture 2" descr="ISHIK UNIVERSITY"/>
          <p:cNvPicPr/>
          <p:nvPr/>
        </p:nvPicPr>
        <p:blipFill>
          <a:blip r:embed="rId2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ftr" idx="5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7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7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Num" idx="5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B4F8FF-0DB1-4F4C-8F02-FED9EA52562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5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23200" y="1706040"/>
            <a:ext cx="1041696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erminant Matrix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The determinant of a matrix is a </a:t>
            </a: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special number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 that can be calculated from a square matrix. Its very helpful in solving the system of linear equations and invers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Example: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I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n, its determ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A Matrix"/>
          <p:cNvPicPr/>
          <p:nvPr/>
        </p:nvPicPr>
        <p:blipFill>
          <a:blip r:embed="rId2"/>
          <a:stretch/>
        </p:blipFill>
        <p:spPr>
          <a:xfrm>
            <a:off x="4246920" y="4280760"/>
            <a:ext cx="3041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7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7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ldNum" idx="6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E8D1964-BB81-40BA-89F1-42083FB4D10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6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23200" y="1706040"/>
            <a:ext cx="1041696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erminant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Example: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If matrix 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n, its determinat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|A|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×6 − 8×4 = 18 − 32 =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A Matrix"/>
          <p:cNvPicPr/>
          <p:nvPr/>
        </p:nvPicPr>
        <p:blipFill>
          <a:blip r:embed="rId2"/>
          <a:stretch/>
        </p:blipFill>
        <p:spPr>
          <a:xfrm>
            <a:off x="4802760" y="2290320"/>
            <a:ext cx="1945800" cy="1495080"/>
          </a:xfrm>
          <a:prstGeom prst="rect">
            <a:avLst/>
          </a:prstGeom>
          <a:ln w="0">
            <a:solidFill>
              <a:srgbClr val="ffffff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1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3DDB2E-B4A7-43B6-894E-C5A06478CE8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70880" y="1827720"/>
            <a:ext cx="88333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this Matri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2"/>
          <a:srcRect l="26523" t="18853" r="48063" b="57539"/>
          <a:stretch/>
        </p:blipFill>
        <p:spPr>
          <a:xfrm>
            <a:off x="2570400" y="2782800"/>
            <a:ext cx="5649480" cy="2576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1084680" y="5722920"/>
            <a:ext cx="7924320" cy="1273320"/>
          </a:xfrm>
          <a:prstGeom prst="rect">
            <a:avLst/>
          </a:prstGeom>
          <a:noFill/>
          <a:ln w="6350">
            <a:noFill/>
          </a:ln>
        </p:spPr>
        <p:style>
          <a:lnRef idx="0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t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These are called elements or e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8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8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Num" idx="6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C1CA5F-E3B8-409A-886A-04E94EA374B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6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223200" y="1706040"/>
            <a:ext cx="1041696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erminant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Example: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I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n, its determinat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A Matrix"/>
          <p:cNvPicPr/>
          <p:nvPr/>
        </p:nvPicPr>
        <p:blipFill>
          <a:blip r:embed="rId2"/>
          <a:stretch/>
        </p:blipFill>
        <p:spPr>
          <a:xfrm>
            <a:off x="4419720" y="2479320"/>
            <a:ext cx="2649600" cy="11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9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39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Num" idx="6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F18DCC-B5EA-4D9A-AD3B-A635D8289B77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6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23200" y="1706040"/>
            <a:ext cx="1041696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erminant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Example: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I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The determinant 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A Matrix"/>
          <p:cNvPicPr/>
          <p:nvPr/>
        </p:nvPicPr>
        <p:blipFill>
          <a:blip r:embed="rId2"/>
          <a:stretch/>
        </p:blipFill>
        <p:spPr>
          <a:xfrm>
            <a:off x="4623480" y="2200680"/>
            <a:ext cx="3289320" cy="1715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A Matrix"/>
          <p:cNvPicPr/>
          <p:nvPr/>
        </p:nvPicPr>
        <p:blipFill>
          <a:blip r:embed="rId3"/>
          <a:stretch/>
        </p:blipFill>
        <p:spPr>
          <a:xfrm>
            <a:off x="2053080" y="5254560"/>
            <a:ext cx="7854840" cy="19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0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0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ldNum" idx="6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A63750-46EE-454A-9C5A-FA90FAD02BAB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6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223200" y="1706040"/>
            <a:ext cx="104169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erminant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Example: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I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n, its determ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i="1" lang="en-US" sz="2500" spc="-1" strike="noStrike">
                <a:solidFill>
                  <a:srgbClr val="0000ff"/>
                </a:solidFill>
                <a:latin typeface="Cambria Math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A Matrix"/>
          <p:cNvPicPr/>
          <p:nvPr/>
        </p:nvPicPr>
        <p:blipFill>
          <a:blip r:embed="rId2"/>
          <a:stretch/>
        </p:blipFill>
        <p:spPr>
          <a:xfrm>
            <a:off x="4359240" y="2233800"/>
            <a:ext cx="32558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1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1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Num" idx="6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AD6D3C-0883-41E6-9C1D-D577BF5F4E4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6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223200" y="1706040"/>
            <a:ext cx="1041696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verse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Example: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I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Find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4307760" y="2187360"/>
            <a:ext cx="3936600" cy="16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1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2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Num" idx="7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A24BA0-0F23-468A-8188-7B458A743D63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7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223200" y="1706040"/>
            <a:ext cx="10416960" cy="58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verse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Example: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I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First need to find determinants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4307760" y="2187360"/>
            <a:ext cx="3936600" cy="16610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AutoShape 13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0" name="Picture 14" descr=""/>
          <p:cNvPicPr/>
          <p:nvPr/>
        </p:nvPicPr>
        <p:blipFill>
          <a:blip r:embed="rId3"/>
          <a:srcRect l="18019" t="56717" r="18924" b="23050"/>
          <a:stretch/>
        </p:blipFill>
        <p:spPr>
          <a:xfrm>
            <a:off x="155520" y="4926960"/>
            <a:ext cx="10637640" cy="21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3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3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Num" idx="7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7FEBBB-A39B-49C9-82AC-94952604F46B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7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223200" y="1706040"/>
            <a:ext cx="104169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0066"/>
              </a:buClr>
              <a:buFont typeface="Georgia"/>
              <a:buAutoNum type="arabicPeriod" startAt="3"/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verse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First need to find determinants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AutoShape 13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3" name="Picture 14" descr=""/>
          <p:cNvPicPr/>
          <p:nvPr/>
        </p:nvPicPr>
        <p:blipFill>
          <a:blip r:embed="rId2"/>
          <a:srcRect l="18019" t="56717" r="18924" b="23050"/>
          <a:stretch/>
        </p:blipFill>
        <p:spPr>
          <a:xfrm>
            <a:off x="223200" y="2879640"/>
            <a:ext cx="10637640" cy="21150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0"/>
          <p:cNvSpPr/>
          <p:nvPr/>
        </p:nvSpPr>
        <p:spPr>
          <a:xfrm>
            <a:off x="223200" y="5322600"/>
            <a:ext cx="98348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terminant of A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matrix A is invertible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-sing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terminant of A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matrix A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tible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ng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4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4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Num" idx="7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1E9B67-18C1-4A35-B770-777E26B943F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7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223200" y="1706040"/>
            <a:ext cx="1041696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Second need to find matrix of co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917640" y="617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rcRect l="15848" t="38521" r="30177" b="38542"/>
          <a:stretch/>
        </p:blipFill>
        <p:spPr>
          <a:xfrm>
            <a:off x="307800" y="4672800"/>
            <a:ext cx="10050480" cy="2444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4" descr=""/>
          <p:cNvPicPr/>
          <p:nvPr/>
        </p:nvPicPr>
        <p:blipFill>
          <a:blip r:embed="rId3"/>
          <a:srcRect l="18019" t="56717" r="18924" b="23050"/>
          <a:stretch/>
        </p:blipFill>
        <p:spPr>
          <a:xfrm>
            <a:off x="223200" y="1643040"/>
            <a:ext cx="10637640" cy="21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7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6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6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ldNum" idx="7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0374B4-5927-45DA-8FD8-CEDC247A570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7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223200" y="1706040"/>
            <a:ext cx="1041696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rd Step: Adjugate (also called Adj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Now "Transpose" all elements of the previous matrix... in other words swap their positions over the diagonal (the diagonal stays the s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917640" y="617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73" name="Picture 2" descr="matrix adjugate"/>
          <p:cNvPicPr/>
          <p:nvPr/>
        </p:nvPicPr>
        <p:blipFill>
          <a:blip r:embed="rId2"/>
          <a:stretch/>
        </p:blipFill>
        <p:spPr>
          <a:xfrm>
            <a:off x="5863680" y="4253040"/>
            <a:ext cx="4358160" cy="2480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3"/>
          <a:srcRect l="51858" t="40008" r="34942" b="45261"/>
          <a:stretch/>
        </p:blipFill>
        <p:spPr>
          <a:xfrm>
            <a:off x="362160" y="4253040"/>
            <a:ext cx="3881880" cy="2480040"/>
          </a:xfrm>
          <a:prstGeom prst="rect">
            <a:avLst/>
          </a:prstGeom>
          <a:ln w="0">
            <a:noFill/>
          </a:ln>
        </p:spPr>
      </p:pic>
      <p:cxnSp>
        <p:nvCxnSpPr>
          <p:cNvPr id="475" name="Straight Arrow Connector 15"/>
          <p:cNvCxnSpPr/>
          <p:nvPr/>
        </p:nvCxnSpPr>
        <p:spPr>
          <a:xfrm>
            <a:off x="4544640" y="5492880"/>
            <a:ext cx="1023840" cy="360"/>
          </a:xfrm>
          <a:prstGeom prst="straightConnector1">
            <a:avLst/>
          </a:prstGeom>
          <a:ln w="57150">
            <a:solidFill>
              <a:srgbClr val="ff33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47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47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Num" idx="7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E6139A-B2A9-4B97-98FF-1DB36019419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7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223200" y="1706040"/>
            <a:ext cx="1041696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orth Step: Multiply by 1/Deter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AutoShape 13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AutoShape 2"/>
          <p:cNvSpPr/>
          <p:nvPr/>
        </p:nvSpPr>
        <p:spPr>
          <a:xfrm>
            <a:off x="917640" y="617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AutoShape 2"/>
          <p:cNvSpPr/>
          <p:nvPr/>
        </p:nvSpPr>
        <p:spPr>
          <a:xfrm>
            <a:off x="1069920" y="770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1222200" y="9223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1" name="Picture 5" descr=""/>
          <p:cNvPicPr/>
          <p:nvPr/>
        </p:nvPicPr>
        <p:blipFill>
          <a:blip r:embed="rId2"/>
          <a:srcRect l="27758" t="32633" r="29171" b="46521"/>
          <a:stretch/>
        </p:blipFill>
        <p:spPr>
          <a:xfrm>
            <a:off x="793080" y="3439080"/>
            <a:ext cx="92768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3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1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D95EFF-F12E-4648-A93C-BAFDCA627D8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2"/>
          <a:srcRect l="18579" t="51097" r="45155" b="28597"/>
          <a:stretch/>
        </p:blipFill>
        <p:spPr>
          <a:xfrm>
            <a:off x="1258920" y="2743200"/>
            <a:ext cx="7695000" cy="247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"/>
          <p:cNvPicPr/>
          <p:nvPr/>
        </p:nvPicPr>
        <p:blipFill>
          <a:blip r:embed="rId3"/>
          <a:srcRect l="25486" t="32411" r="54734" b="20335"/>
          <a:stretch/>
        </p:blipFill>
        <p:spPr>
          <a:xfrm>
            <a:off x="3599280" y="1923840"/>
            <a:ext cx="350532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4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4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Num" idx="16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452D7C-F580-47E9-8699-2316E721BCF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7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23200" y="1706040"/>
            <a:ext cx="1041696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What's the size of this matr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rows and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columns. This is a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matrix (3x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e: A 2 x 3 matrix and a 3 x 2 matrix are definitely different siz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2"/>
          <a:srcRect l="30250" t="51688" r="58187" b="21821"/>
          <a:stretch/>
        </p:blipFill>
        <p:spPr>
          <a:xfrm>
            <a:off x="3971160" y="2657160"/>
            <a:ext cx="2035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5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18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A74A9B-7B9C-4426-BF61-B4887C3870F6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9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23200" y="1706040"/>
            <a:ext cx="1041696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times, we'll need to refer to a specific entry, so we have a special "tagging" system.  It's based on rows and colum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s element is located in the              row and in the       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aij"/>
          <p:cNvPicPr/>
          <p:nvPr/>
        </p:nvPicPr>
        <p:blipFill>
          <a:blip r:embed="rId2"/>
          <a:stretch/>
        </p:blipFill>
        <p:spPr>
          <a:xfrm>
            <a:off x="4493880" y="3511800"/>
            <a:ext cx="914040" cy="76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 th"/>
          <p:cNvPicPr/>
          <p:nvPr/>
        </p:nvPicPr>
        <p:blipFill>
          <a:blip r:embed="rId3"/>
          <a:stretch/>
        </p:blipFill>
        <p:spPr>
          <a:xfrm>
            <a:off x="5814000" y="5153400"/>
            <a:ext cx="745920" cy="622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j th"/>
          <p:cNvPicPr/>
          <p:nvPr/>
        </p:nvPicPr>
        <p:blipFill>
          <a:blip r:embed="rId4"/>
          <a:stretch/>
        </p:blipFill>
        <p:spPr>
          <a:xfrm>
            <a:off x="9744840" y="5150520"/>
            <a:ext cx="68544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6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6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ldNum" idx="20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0092F4-8FF0-4CB3-8D21-490947B1D063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21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2"/>
          <a:srcRect l="18698" t="30925" r="46041" b="13346"/>
          <a:stretch/>
        </p:blipFill>
        <p:spPr>
          <a:xfrm>
            <a:off x="2158200" y="2322720"/>
            <a:ext cx="6324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6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7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22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737787-291C-45FF-809F-B01F7850D6FB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23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 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23200" y="1706040"/>
            <a:ext cx="67474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A vector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pecial type of matrix that has only one row (called a row vector) or one column (called a column vector). Below, a is a column vector while b is a row ve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s are denoted by bold, lower case letters (e.g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rcRect l="15680" t="31152" r="77146" b="45674"/>
          <a:stretch/>
        </p:blipFill>
        <p:spPr>
          <a:xfrm>
            <a:off x="7351200" y="1897560"/>
            <a:ext cx="1086480" cy="197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[ 4 , -7 ] + [ row1: -3  row 2: 5 ]"/>
          <p:cNvPicPr/>
          <p:nvPr/>
        </p:nvPicPr>
        <p:blipFill>
          <a:blip r:embed="rId3"/>
          <a:srcRect l="17589" t="17175" r="41093" b="17905"/>
          <a:stretch/>
        </p:blipFill>
        <p:spPr>
          <a:xfrm>
            <a:off x="9203040" y="2656440"/>
            <a:ext cx="1448280" cy="6408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7185600" y="3956760"/>
            <a:ext cx="163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lumn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351360" y="3495240"/>
            <a:ext cx="129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ow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45880" y="5861160"/>
            <a:ext cx="10547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A scalar: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trix with only one row and one column. It is customary to denote scalars by italicized, lower case letters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Matrix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8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Num" idx="24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13E367-42BB-4D25-ABBA-B6D335ECB2A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25"/>
          </p:nvPr>
        </p:nvSpPr>
        <p:spPr>
          <a:xfrm>
            <a:off x="102960" y="7293960"/>
            <a:ext cx="964152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 8– System of Linear Differential Equation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23200" y="1706040"/>
            <a:ext cx="10416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Square Matrices: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A square matrix A has the same number of rows and columns. That is, A is n x n.  In this case, A is said to have order 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rcRect l="28137" t="42020" r="41735" b="11342"/>
          <a:stretch/>
        </p:blipFill>
        <p:spPr>
          <a:xfrm>
            <a:off x="3040200" y="2814480"/>
            <a:ext cx="5011200" cy="43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5317</TotalTime>
  <Application>LibreOffice/7.4.7.2$Linux_X86_64 LibreOffice_project/40$Build-2</Application>
  <AppVersion>15.0000</AppVersion>
  <Words>1746</Words>
  <Paragraphs>347</Paragraphs>
  <Company>University of Notre D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20:27:33Z</dcterms:created>
  <dc:creator>Diogo Bolster</dc:creator>
  <dc:description/>
  <dc:language>en-US</dc:language>
  <cp:lastModifiedBy>DR.Ahmed Saker 2o1O</cp:lastModifiedBy>
  <dcterms:modified xsi:type="dcterms:W3CDTF">2018-12-23T08:05:49Z</dcterms:modified>
  <cp:revision>4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Custom</vt:lpwstr>
  </property>
  <property fmtid="{D5CDD505-2E9C-101B-9397-08002B2CF9AE}" pid="4" name="Slides">
    <vt:r8>38</vt:r8>
  </property>
</Properties>
</file>