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9.png" ContentType="image/png"/>
  <Override PartName="/ppt/media/image14.png" ContentType="image/png"/>
  <Override PartName="/ppt/media/image11.gif" ContentType="image/gif"/>
  <Override PartName="/ppt/media/image15.png" ContentType="image/png"/>
  <Override PartName="/ppt/media/image12.gif" ContentType="image/gif"/>
  <Override PartName="/ppt/media/image8.png" ContentType="image/png"/>
  <Override PartName="/ppt/media/hdphoto1.wdp" ContentType="image/vnd.ms-photo"/>
  <Override PartName="/ppt/media/image13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gif" ContentType="image/gif"/>
  <Override PartName="/ppt/media/image21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109728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9463C-D321-40C6-9F62-CE8356F8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9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4E7BB2-D9BA-44C6-934D-4801DACB7C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96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9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103FC4-26B7-47B2-AE90-646F571118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98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9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DD4FF6-5ACE-4CC9-8C0C-AFCF3E4306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100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10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45D854-3DCF-44A2-B864-F020A37EB7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3E1-A03B-4737-92AA-8F96BDDC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D5A-2906-46F0-8915-314576A9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B03-8D3F-4AD0-AFAE-6608CE5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D8F-2800-463D-812F-3653D95F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44A-C59E-483B-9D48-C35A39A5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573-5268-42FE-ACE6-83715466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74DF-DEA1-4D45-A237-75B9C82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D96-64C3-4DA2-897F-5A55E0C7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302F-25A6-48ED-97D7-1E7BF30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845-669B-4800-BC83-BE413423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704-51BC-43D5-8265-2E692C5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C27-7CA3-4279-B210-DB54E71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01F5-D91E-4A15-88AF-166898C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A84-1648-447F-8BAE-6C80C68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934D-4ADA-4873-86EE-91FC6B88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00BE-9017-4A2C-B9ED-7130BB4B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17C5-ACC2-4C18-AB96-74BBF3F0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297-E908-4187-8FF9-E74EDA2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453-1A55-44BF-8883-0F13FC5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751-5B50-49C7-8404-D73E2ED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277-99CD-4A6A-8E45-E03CE33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94F-8DB3-46B3-95CD-028ACAF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E18-3C8C-4572-BD08-0961BBB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EA1-1272-4F07-A348-C80D774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267076-AEEF-416F-B70B-2C7FA580B19C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FB6B40-B650-4AE2-A4C0-C3A5958345A0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00" y="290088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</a:pP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Lecture 7</a:t>
            </a:r>
            <a:br>
              <a:rPr sz="4900"/>
            </a:b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System of Linear Differential Equations </a:t>
            </a:r>
            <a:br>
              <a:rPr sz="4400"/>
            </a:br>
            <a:r>
              <a:rPr b="1" lang="en-US" sz="3100" spc="-1" strike="noStrike">
                <a:solidFill>
                  <a:schemeClr val="accent6">
                    <a:lumMod val="75000"/>
                  </a:schemeClr>
                </a:solidFill>
                <a:latin typeface="Agency FB"/>
              </a:rPr>
              <a:t>fall semester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209520" y="6126480"/>
            <a:ext cx="105951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Instructor: A. S. Brwa / MSc. In Structur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College of Engineering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-2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onvert this third order differential equation to three first order linear differential equ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9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A0B8FF5-F0C1-42AA-AE4A-1F94D60BAE0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0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2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Rectangle 3"/>
              <p:cNvSpPr txBox="1"/>
              <p:nvPr/>
            </p:nvSpPr>
            <p:spPr>
              <a:xfrm>
                <a:off x="8681040" y="3575160"/>
                <a:ext cx="211248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𝒙</m:t>
                            </m:r>
                          </m:e>
                          <m:sub>
                            <m:r>
                              <m:t xml:space="preserve">𝟏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𝒙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𝒚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Rectangle 5"/>
              <p:cNvSpPr txBox="1"/>
              <p:nvPr/>
            </p:nvSpPr>
            <p:spPr>
              <a:xfrm>
                <a:off x="2747160" y="4859640"/>
                <a:ext cx="5486040" cy="23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is process can be easily generalized.  Given an n</a:t>
            </a:r>
            <a:r>
              <a:rPr b="1" lang="en-US" sz="2800" spc="-1" strike="noStrike" baseline="30000">
                <a:solidFill>
                  <a:srgbClr val="00206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 order linear equ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ke the substitution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0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7CFA34-B381-4355-9D84-6653169D9A4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Rectangle 2"/>
              <p:cNvSpPr txBox="1"/>
              <p:nvPr/>
            </p:nvSpPr>
            <p:spPr>
              <a:xfrm>
                <a:off x="222480" y="3921840"/>
                <a:ext cx="2567880" cy="227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𝑥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Rectangle 14"/>
              <p:cNvSpPr txBox="1"/>
              <p:nvPr/>
            </p:nvSpPr>
            <p:spPr>
              <a:xfrm>
                <a:off x="3638520" y="3921840"/>
                <a:ext cx="2567880" cy="227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𝑥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′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𝑦</m:t>
                    </m:r>
                    <m:r>
                      <m:t xml:space="preserve">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Rectangle 15"/>
              <p:cNvSpPr txBox="1"/>
              <p:nvPr/>
            </p:nvSpPr>
            <p:spPr>
              <a:xfrm>
                <a:off x="7176600" y="3921840"/>
                <a:ext cx="2798280" cy="227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𝑥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′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𝑦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09" name="Picture 2" descr=""/>
          <p:cNvPicPr/>
          <p:nvPr/>
        </p:nvPicPr>
        <p:blipFill>
          <a:blip r:embed="rId2"/>
          <a:srcRect l="18180" t="59098" r="23244" b="24247"/>
          <a:stretch/>
        </p:blipFill>
        <p:spPr>
          <a:xfrm>
            <a:off x="1506600" y="6145920"/>
            <a:ext cx="75762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1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B9D3B8-8C81-4BA0-BDA9-12D2C62AB6E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3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rcRect l="14232" t="32810" r="37354" b="41922"/>
          <a:stretch/>
        </p:blipFill>
        <p:spPr>
          <a:xfrm>
            <a:off x="1444680" y="3265560"/>
            <a:ext cx="809100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2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3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CD450D-C9DA-40C5-95E7-2F457924E91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3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rcRect l="12919" t="32810" r="37354" b="61874"/>
          <a:stretch/>
        </p:blipFill>
        <p:spPr>
          <a:xfrm>
            <a:off x="362160" y="2850120"/>
            <a:ext cx="8310600" cy="498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166320" y="4081320"/>
            <a:ext cx="3245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431880" y="4081320"/>
            <a:ext cx="329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7256160" y="4105440"/>
            <a:ext cx="354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Rectangle 16"/>
              <p:cNvSpPr txBox="1"/>
              <p:nvPr/>
            </p:nvSpPr>
            <p:spPr>
              <a:xfrm>
                <a:off x="2616480" y="5609160"/>
                <a:ext cx="5486040" cy="156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3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3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7E54DC-3531-4FCA-88AB-205196E17FF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3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rcRect l="12919" t="32810" r="37354" b="61874"/>
          <a:stretch/>
        </p:blipFill>
        <p:spPr>
          <a:xfrm>
            <a:off x="362160" y="2850120"/>
            <a:ext cx="8310600" cy="498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166320" y="4081320"/>
            <a:ext cx="3245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31880" y="4081320"/>
            <a:ext cx="329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7256160" y="4105440"/>
            <a:ext cx="354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Rectangle 16"/>
              <p:cNvSpPr txBox="1"/>
              <p:nvPr/>
            </p:nvSpPr>
            <p:spPr>
              <a:xfrm>
                <a:off x="2616480" y="5609160"/>
                <a:ext cx="5486040" cy="156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4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3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309371-D841-4C9E-AF2F-A839D2E8DED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3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rcRect l="14232" t="40511" r="37354" b="52278"/>
          <a:stretch/>
        </p:blipFill>
        <p:spPr>
          <a:xfrm>
            <a:off x="362160" y="2755080"/>
            <a:ext cx="8091000" cy="676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166320" y="3727800"/>
            <a:ext cx="3245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31880" y="3727800"/>
            <a:ext cx="329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7256160" y="3751920"/>
            <a:ext cx="354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Rectangle 16"/>
              <p:cNvSpPr txBox="1"/>
              <p:nvPr/>
            </p:nvSpPr>
            <p:spPr>
              <a:xfrm>
                <a:off x="2715120" y="5645880"/>
                <a:ext cx="5486040" cy="156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5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5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BF7351-06D2-4719-9113-B5223C742F7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3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rcRect l="14622" t="50237" r="37354" b="41922"/>
          <a:stretch/>
        </p:blipFill>
        <p:spPr>
          <a:xfrm>
            <a:off x="186840" y="3040200"/>
            <a:ext cx="8025480" cy="7358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0"/>
          <p:cNvSpPr/>
          <p:nvPr/>
        </p:nvSpPr>
        <p:spPr>
          <a:xfrm>
            <a:off x="166320" y="3727800"/>
            <a:ext cx="32450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3431880" y="3727800"/>
            <a:ext cx="32904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7256160" y="3751920"/>
            <a:ext cx="35492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3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e following linear differential equations into a system of first order equ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4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2DBDC3-696C-4757-8465-8F7802CB4DE6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4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rcRect l="14622" t="50237" r="37354" b="41922"/>
          <a:stretch/>
        </p:blipFill>
        <p:spPr>
          <a:xfrm>
            <a:off x="186840" y="2862000"/>
            <a:ext cx="8025480" cy="735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66320" y="3585600"/>
            <a:ext cx="3245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3431880" y="3585600"/>
            <a:ext cx="329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7256160" y="3609360"/>
            <a:ext cx="3549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Rectangle 16"/>
              <p:cNvSpPr txBox="1"/>
              <p:nvPr/>
            </p:nvSpPr>
            <p:spPr>
              <a:xfrm>
                <a:off x="2073960" y="5669640"/>
                <a:ext cx="7366680" cy="20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′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𝑥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28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4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Rewrite the system you found i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61160" indent="-46116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AutoNum type="alphaLcParenR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Example 3.1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61160" indent="-46116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AutoNum type="alphaLcParenR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Example 3.2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61160" indent="-46116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AutoNum type="alphaLcParenR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Example 3.3,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into a matrix-vector equation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8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4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04FD40-43D7-48A0-B129-A8F6AD560BC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4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rcRect l="15810" t="62995" r="59297" b="20329"/>
          <a:stretch/>
        </p:blipFill>
        <p:spPr>
          <a:xfrm>
            <a:off x="186840" y="4821480"/>
            <a:ext cx="4349160" cy="1638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3"/>
          <a:srcRect l="48976" t="59157" r="16663" b="18297"/>
          <a:stretch/>
        </p:blipFill>
        <p:spPr>
          <a:xfrm>
            <a:off x="4766040" y="4532760"/>
            <a:ext cx="6004440" cy="22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8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Num" idx="4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16AD80-5F07-4A54-B765-A7D11C78428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4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186840" y="1848600"/>
            <a:ext cx="10584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Definitions: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rix is a collection of numbers ordered by rows and columns. It is customary to enclose the elements of a matrix in parentheses, brackets, or braces. Matrices with more than one row and one column denoted by bold, upper case letters (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lecture you will learn how to solve systems of simultaneous homogeneous first order linear differential equations. The solutions of such systems require good knowledge of linear algebr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3237FB-8F94-427E-B3DB-7F6A3E416E5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9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Num" idx="4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7CB120-9FBA-4992-9140-A3994FF0249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4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470880" y="1827720"/>
            <a:ext cx="8833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this Matri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2"/>
          <a:srcRect l="26523" t="18853" r="48063" b="57539"/>
          <a:stretch/>
        </p:blipFill>
        <p:spPr>
          <a:xfrm>
            <a:off x="2570400" y="2782800"/>
            <a:ext cx="5649480" cy="25768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6"/>
          <p:cNvSpPr/>
          <p:nvPr/>
        </p:nvSpPr>
        <p:spPr>
          <a:xfrm>
            <a:off x="1084680" y="5722920"/>
            <a:ext cx="7924320" cy="1273320"/>
          </a:xfrm>
          <a:prstGeom prst="rect">
            <a:avLst/>
          </a:prstGeom>
          <a:noFill/>
          <a:ln w="6350">
            <a:noFill/>
          </a:ln>
        </p:spPr>
        <p:style>
          <a:lnRef idx="0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These are called elements or e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0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0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Num" idx="4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D9C9AE-D4AC-41F2-B15F-F282A90F519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4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4" descr=""/>
          <p:cNvPicPr/>
          <p:nvPr/>
        </p:nvPicPr>
        <p:blipFill>
          <a:blip r:embed="rId2"/>
          <a:srcRect l="18579" t="51097" r="45155" b="28597"/>
          <a:stretch/>
        </p:blipFill>
        <p:spPr>
          <a:xfrm>
            <a:off x="1258920" y="2743200"/>
            <a:ext cx="7695000" cy="2475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"/>
          <p:cNvPicPr/>
          <p:nvPr/>
        </p:nvPicPr>
        <p:blipFill>
          <a:blip r:embed="rId3"/>
          <a:srcRect l="25486" t="32411" r="54734" b="20335"/>
          <a:stretch/>
        </p:blipFill>
        <p:spPr>
          <a:xfrm>
            <a:off x="3599280" y="1923840"/>
            <a:ext cx="350532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1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1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Num" idx="5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5CA064-E90E-42B0-B400-102FEECBF32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5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223200" y="1706040"/>
            <a:ext cx="104169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hat's the size of this matr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rows and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columns. This is a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matrix (3x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e: A 2 x 3 matrix and a 3 x 2 matrix are definitely different siz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rcRect l="30250" t="51688" r="58187" b="21821"/>
          <a:stretch/>
        </p:blipFill>
        <p:spPr>
          <a:xfrm>
            <a:off x="3971160" y="2657160"/>
            <a:ext cx="2035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2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2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Num" idx="5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4087B1-7E20-4EB3-9D77-EF5F68B72D0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5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223200" y="1706040"/>
            <a:ext cx="1041696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times, we'll need to refer to a specific entry, so we have a special "tagging" system.  It's based on rows and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s element is located in the              row and in the       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4" descr="aij"/>
          <p:cNvPicPr/>
          <p:nvPr/>
        </p:nvPicPr>
        <p:blipFill>
          <a:blip r:embed="rId2"/>
          <a:stretch/>
        </p:blipFill>
        <p:spPr>
          <a:xfrm>
            <a:off x="4493880" y="3511800"/>
            <a:ext cx="914040" cy="761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i th"/>
          <p:cNvPicPr/>
          <p:nvPr/>
        </p:nvPicPr>
        <p:blipFill>
          <a:blip r:embed="rId3"/>
          <a:stretch/>
        </p:blipFill>
        <p:spPr>
          <a:xfrm>
            <a:off x="5814000" y="5153400"/>
            <a:ext cx="745920" cy="622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j th"/>
          <p:cNvPicPr/>
          <p:nvPr/>
        </p:nvPicPr>
        <p:blipFill>
          <a:blip r:embed="rId4"/>
          <a:stretch/>
        </p:blipFill>
        <p:spPr>
          <a:xfrm>
            <a:off x="9744840" y="5150520"/>
            <a:ext cx="68544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3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3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5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6ABEB83-9D48-4A1B-9140-FB3B95B9229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5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7" descr=""/>
          <p:cNvPicPr/>
          <p:nvPr/>
        </p:nvPicPr>
        <p:blipFill>
          <a:blip r:embed="rId2"/>
          <a:srcRect l="18698" t="30925" r="46041" b="13346"/>
          <a:stretch/>
        </p:blipFill>
        <p:spPr>
          <a:xfrm>
            <a:off x="2158200" y="2322720"/>
            <a:ext cx="6324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3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3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Num" idx="5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E5842A-BAA3-4EB3-93D7-A5C0AF3124A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223200" y="1706040"/>
            <a:ext cx="67474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A vector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pecial type of matrix that has only one row (called a row vector) or one column (called a column vector). Below, a is a column vector while b is a row v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denoted by bold, lower case letters (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rcRect l="15680" t="31152" r="77146" b="45674"/>
          <a:stretch/>
        </p:blipFill>
        <p:spPr>
          <a:xfrm>
            <a:off x="7351200" y="1897560"/>
            <a:ext cx="1086480" cy="1975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[ 4 , -7 ] + [ row1: -3  row 2: 5 ]"/>
          <p:cNvPicPr/>
          <p:nvPr/>
        </p:nvPicPr>
        <p:blipFill>
          <a:blip r:embed="rId3"/>
          <a:srcRect l="17589" t="17175" r="41093" b="17905"/>
          <a:stretch/>
        </p:blipFill>
        <p:spPr>
          <a:xfrm>
            <a:off x="9203040" y="2656440"/>
            <a:ext cx="1448280" cy="640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2"/>
          <p:cNvSpPr/>
          <p:nvPr/>
        </p:nvSpPr>
        <p:spPr>
          <a:xfrm>
            <a:off x="7185600" y="3956760"/>
            <a:ext cx="163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lum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9351360" y="3495240"/>
            <a:ext cx="129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w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45880" y="5861160"/>
            <a:ext cx="10547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A scalar: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trix with only one row and one column. It is customary to denote scalars by italicized, lower case letters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4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5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Num" idx="5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F8743F-3030-412C-81B6-AA28FFE1575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5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Square Matrices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A square matrix A has the same number of rows and columns. That is, A is n x n.  In this case, A is said to have order 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rcRect l="28137" t="42020" r="41735" b="11342"/>
          <a:stretch/>
        </p:blipFill>
        <p:spPr>
          <a:xfrm>
            <a:off x="3040200" y="2814480"/>
            <a:ext cx="5011200" cy="43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5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5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Num" idx="6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277C5F-4B57-4BD0-A144-97A3CFBB25D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6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23200" y="1706040"/>
            <a:ext cx="104169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The Zero Matrix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zero matrix is defined to be 0 = (0), whose dimensions depend on the context.  For exam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32906" t="56419" r="33541" b="26716"/>
          <a:stretch/>
        </p:blipFill>
        <p:spPr>
          <a:xfrm>
            <a:off x="1313640" y="3241800"/>
            <a:ext cx="82353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6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6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Num" idx="6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A7C7C9-502A-4DFA-8169-3C7B68BDC60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6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223200" y="1706040"/>
            <a:ext cx="104169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Identity matrix: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diagonal matrix with 1’s and only 1’s on the diagonal and zeros everywhere else. The identity matrix is almost always denoted as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Image result for identity matrix"/>
          <p:cNvPicPr/>
          <p:nvPr/>
        </p:nvPicPr>
        <p:blipFill>
          <a:blip r:embed="rId2"/>
          <a:srcRect l="0" t="41428" r="0" b="32252"/>
          <a:stretch/>
        </p:blipFill>
        <p:spPr>
          <a:xfrm>
            <a:off x="914040" y="4016520"/>
            <a:ext cx="9444600" cy="18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7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7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Num" idx="6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588EDC-DC91-455D-A78A-09E1E8163ED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6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3200" y="1706040"/>
            <a:ext cx="1041696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d subtracting matrix is really easy, 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SIZES MUST B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rcRect l="16150" t="32643" r="33817" b="20335"/>
          <a:stretch/>
        </p:blipFill>
        <p:spPr>
          <a:xfrm>
            <a:off x="2461320" y="3576960"/>
            <a:ext cx="6508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system of n linear first order differential equations in n unknowns (an n × n system of linear equations) has the general for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36A33D-B232-4BC0-9909-FCDF954405B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rcRect l="22387" t="26318" r="23582" b="39504"/>
          <a:stretch/>
        </p:blipFill>
        <p:spPr>
          <a:xfrm>
            <a:off x="791640" y="2746080"/>
            <a:ext cx="9609120" cy="3036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86840" y="5930280"/>
            <a:ext cx="10469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ere the coefficients aij’s, and gi’s are arbitrary functions of t. If every term gi is constant zero, then the system is said to be homogeneous. Otherwise, it is a nonhomogeneous system if even one of the g’s is non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8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8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Num" idx="6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71002F-ECDD-4379-8C08-82A9D438679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6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223200" y="1706040"/>
            <a:ext cx="1041696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d subtracting matrix is really easy, 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SIZES MUST B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rcRect l="15522" t="21639" r="55730" b="51836"/>
          <a:stretch/>
        </p:blipFill>
        <p:spPr>
          <a:xfrm>
            <a:off x="4206600" y="4650480"/>
            <a:ext cx="4944240" cy="2564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3"/>
          <a:srcRect l="15940" t="54902" r="49884" b="20162"/>
          <a:stretch/>
        </p:blipFill>
        <p:spPr>
          <a:xfrm>
            <a:off x="4206600" y="2898360"/>
            <a:ext cx="3867120" cy="15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9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9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Num" idx="6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883649-4E72-4A6A-B340-1D0983490BD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6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Matrix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5732" t="29006" r="71681" b="47943"/>
          <a:stretch/>
        </p:blipFill>
        <p:spPr>
          <a:xfrm>
            <a:off x="223200" y="3036960"/>
            <a:ext cx="2535120" cy="252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3"/>
          <a:srcRect l="16676" t="34508" r="64540" b="16230"/>
          <a:stretch/>
        </p:blipFill>
        <p:spPr>
          <a:xfrm>
            <a:off x="6890040" y="2399400"/>
            <a:ext cx="3903480" cy="4801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4"/>
          <a:srcRect l="35886" t="29006" r="51721" b="47943"/>
          <a:stretch/>
        </p:blipFill>
        <p:spPr>
          <a:xfrm>
            <a:off x="2968920" y="3036960"/>
            <a:ext cx="2462400" cy="25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0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0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7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7E98A1-FBC8-4076-AA9A-C1E6F66DF5EA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7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 Matrix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rcRect l="15680" t="31152" r="68629" b="45773"/>
          <a:stretch/>
        </p:blipFill>
        <p:spPr>
          <a:xfrm>
            <a:off x="1249560" y="3229560"/>
            <a:ext cx="3512160" cy="2904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rcRect l="15680" t="54631" r="68629" b="19400"/>
          <a:stretch/>
        </p:blipFill>
        <p:spPr>
          <a:xfrm>
            <a:off x="6118560" y="3229560"/>
            <a:ext cx="3121200" cy="29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0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1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Num" idx="7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378E07-6203-49E3-8097-FE309965716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7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223200" y="1706040"/>
            <a:ext cx="1041696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 by scalar, A scalar is just a number like 3 or -5 or   or .4. We can multiply a matrix by some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1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1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Num" idx="7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81C9ED-EF38-4A4E-9044-76130EDFB31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7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223200" y="1706040"/>
            <a:ext cx="1041696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..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times 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"/>
          <p:cNvPicPr/>
          <p:nvPr/>
        </p:nvPicPr>
        <p:blipFill>
          <a:blip r:embed="rId2"/>
          <a:srcRect l="26678" t="45753" r="53533" b="37096"/>
          <a:stretch/>
        </p:blipFill>
        <p:spPr>
          <a:xfrm>
            <a:off x="7529040" y="1919520"/>
            <a:ext cx="2474640" cy="117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"/>
          <p:cNvPicPr/>
          <p:nvPr/>
        </p:nvPicPr>
        <p:blipFill>
          <a:blip r:embed="rId3"/>
          <a:srcRect l="23615" t="39045" r="50584" b="45162"/>
          <a:stretch/>
        </p:blipFill>
        <p:spPr>
          <a:xfrm>
            <a:off x="3732120" y="3562560"/>
            <a:ext cx="3108960" cy="1045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"/>
          <p:cNvPicPr/>
          <p:nvPr/>
        </p:nvPicPr>
        <p:blipFill>
          <a:blip r:embed="rId4"/>
          <a:srcRect l="24946" t="54626" r="52092" b="29188"/>
          <a:stretch/>
        </p:blipFill>
        <p:spPr>
          <a:xfrm>
            <a:off x="4409280" y="4750560"/>
            <a:ext cx="2431800" cy="1087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"/>
          <p:cNvPicPr/>
          <p:nvPr/>
        </p:nvPicPr>
        <p:blipFill>
          <a:blip r:embed="rId5"/>
          <a:srcRect l="28382" t="73952" r="52997" b="9070"/>
          <a:stretch/>
        </p:blipFill>
        <p:spPr>
          <a:xfrm>
            <a:off x="4409280" y="5966640"/>
            <a:ext cx="2431800" cy="10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2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2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Num" idx="7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51694E-B705-4F18-B1D3-7D87F127019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7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 of Matrices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ind 5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2"/>
          <a:srcRect l="22201" t="49572" r="49994" b="39070"/>
          <a:stretch/>
        </p:blipFill>
        <p:spPr>
          <a:xfrm>
            <a:off x="2297160" y="3535920"/>
            <a:ext cx="7304760" cy="1676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rcRect l="22340" t="60915" r="64363" b="27820"/>
          <a:stretch/>
        </p:blipFill>
        <p:spPr>
          <a:xfrm>
            <a:off x="2391840" y="5366880"/>
            <a:ext cx="331704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3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3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7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030D46-3E2D-42EC-9B0E-BC06C885DC6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7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Now, let’s try more difficult 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rcRect l="37874" t="54714" r="36756" b="21438"/>
          <a:stretch/>
        </p:blipFill>
        <p:spPr>
          <a:xfrm>
            <a:off x="2505600" y="4097160"/>
            <a:ext cx="5695560" cy="30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4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4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Num" idx="8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C56AFD-E28D-4641-882F-E8D68DC7DEF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8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Now, let’s try more difficult 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2"/>
          <a:srcRect l="37399" t="49994" r="35060" b="21266"/>
          <a:stretch/>
        </p:blipFill>
        <p:spPr>
          <a:xfrm>
            <a:off x="5289120" y="3960360"/>
            <a:ext cx="5504400" cy="3230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3"/>
          <a:srcRect l="37399" t="37198" r="37073" b="51350"/>
          <a:stretch/>
        </p:blipFill>
        <p:spPr>
          <a:xfrm>
            <a:off x="186840" y="4346280"/>
            <a:ext cx="5101920" cy="12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5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5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Num" idx="8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8BF92B-486D-45B9-BECF-49A5F799EF6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8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223200" y="1706040"/>
            <a:ext cx="104169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o multiply two matrices together is a bit more difficult. First of all, the size of the two matrices you are multiplying is super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f the size of matrix 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A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 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3 x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the size of matrix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4 x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4" descr=""/>
          <p:cNvPicPr/>
          <p:nvPr/>
        </p:nvPicPr>
        <p:blipFill>
          <a:blip r:embed="rId2"/>
          <a:srcRect l="27497" t="45556" r="41226" b="27835"/>
          <a:stretch/>
        </p:blipFill>
        <p:spPr>
          <a:xfrm>
            <a:off x="5704200" y="3675960"/>
            <a:ext cx="4935960" cy="22852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9"/>
          <p:cNvSpPr/>
          <p:nvPr/>
        </p:nvSpPr>
        <p:spPr>
          <a:xfrm>
            <a:off x="2763000" y="6300360"/>
            <a:ext cx="7876800" cy="672840"/>
          </a:xfrm>
          <a:prstGeom prst="rect">
            <a:avLst/>
          </a:prstGeom>
          <a:solidFill>
            <a:schemeClr val="lt1"/>
          </a:solidFill>
          <a:ln w="6350">
            <a:solidFill>
              <a:srgbClr val="ffffff"/>
            </a:solidFill>
            <a:round/>
          </a:ln>
        </p:spPr>
        <p:style>
          <a:lnRef idx="0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15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And the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  <a:ea typeface="SimSun"/>
              </a:rPr>
              <a:t>answer </a:t>
            </a: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will be a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  <a:ea typeface="SimSun"/>
              </a:rPr>
              <a:t>3 x 1 </a:t>
            </a: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6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6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ldNum" idx="8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2D890C-9A3A-4476-BF99-89E2CB4C603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8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23200" y="1706040"/>
            <a:ext cx="1041696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If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 system (*) is most often given in a shorthand format as a matrix-vector equation, in the for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3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D57EE0-F98B-4F23-9448-B675DA13146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rcRect l="24154" t="27615" r="23764" b="6820"/>
          <a:stretch/>
        </p:blipFill>
        <p:spPr>
          <a:xfrm>
            <a:off x="473040" y="3149640"/>
            <a:ext cx="6865560" cy="3917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TextBox 2"/>
              <p:cNvSpPr txBox="1"/>
              <p:nvPr/>
            </p:nvSpPr>
            <p:spPr>
              <a:xfrm>
                <a:off x="4310640" y="2665440"/>
                <a:ext cx="1971000" cy="46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𝒙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𝑨𝒙</m:t>
                    </m:r>
                    <m:r>
                      <m:t xml:space="preserve">+</m:t>
                    </m:r>
                    <m:r>
                      <m:t xml:space="preserve">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7874280" y="5078520"/>
            <a:ext cx="2782080" cy="13093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 the matrix of coefficients, A, is called the coefficient matrix of th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7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468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469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EE94328C-8695-4A81-96A4-D1D38B57238A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rcRect l="21712" t="32830" r="26678" b="24434"/>
          <a:stretch/>
        </p:blipFill>
        <p:spPr>
          <a:xfrm>
            <a:off x="0" y="2360520"/>
            <a:ext cx="10149480" cy="446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2" name="Rectangle 2"/>
              <p:cNvSpPr txBox="1"/>
              <p:nvPr/>
            </p:nvSpPr>
            <p:spPr>
              <a:xfrm>
                <a:off x="91440" y="1295280"/>
                <a:ext cx="809856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𝑨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𝟏</m:t>
                              </m:r>
                            </m:e>
                            <m:e>
                              <m:r>
                                <m:t xml:space="preserve">𝟓</m:t>
                              </m:r>
                            </m:e>
                          </m:mr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𝟑</m:t>
                              </m:r>
                            </m:e>
                          </m:mr>
                        </m:m>
                      </m:e>
                    </m:d>
                    <m:r>
                      <m:t xml:space="preserve">𝒂𝒏𝒅</m:t>
                    </m:r>
                    <m:r>
                      <m:t xml:space="preserve">𝑩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𝟑</m:t>
                              </m:r>
                            </m:e>
                          </m:mr>
                          <m:mr>
                            <m:e>
                              <m:r>
                                <m:t xml:space="preserve">𝟓</m:t>
                              </m:r>
                            </m:e>
                            <m:e>
                              <m:r>
                                <m:t xml:space="preserve">𝟏</m:t>
                              </m:r>
                            </m:e>
                          </m:mr>
                        </m:m>
                      </m:e>
                    </m:d>
                    <m:r>
                      <m:t xml:space="preserve">𝑭𝒊𝒏𝒅</m:t>
                    </m:r>
                    <m:r>
                      <m:t xml:space="preserve">𝑨</m:t>
                    </m:r>
                    <m:r>
                      <m:t xml:space="preserve">∙</m:t>
                    </m:r>
                    <m:r>
                      <m:t xml:space="preserve">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3"/>
          <p:cNvSpPr/>
          <p:nvPr/>
        </p:nvSpPr>
        <p:spPr>
          <a:xfrm>
            <a:off x="186840" y="5786280"/>
            <a:ext cx="9871200" cy="94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182880" y="4836240"/>
            <a:ext cx="9871200" cy="2072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182880" y="3799800"/>
            <a:ext cx="9871200" cy="32814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82880" y="2418120"/>
            <a:ext cx="9871200" cy="46630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3200400" y="2632320"/>
            <a:ext cx="6853680" cy="11671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362160" y="4059000"/>
            <a:ext cx="782784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A is 2 by 2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B is 2 by 2.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So, the resul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The result is </a:t>
            </a: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Straight Arrow Connector 8"/>
          <p:cNvCxnSpPr/>
          <p:nvPr/>
        </p:nvCxnSpPr>
        <p:spPr>
          <a:xfrm flipH="1" flipV="1">
            <a:off x="2255040" y="4591440"/>
            <a:ext cx="549000" cy="119484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480" name="Straight Arrow Connector 22"/>
          <p:cNvCxnSpPr/>
          <p:nvPr/>
        </p:nvCxnSpPr>
        <p:spPr>
          <a:xfrm flipV="1">
            <a:off x="3894840" y="4566960"/>
            <a:ext cx="910080" cy="121932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pic>
        <p:nvPicPr>
          <p:cNvPr id="481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2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ftr" idx="86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5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486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487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289B4B47-3AC7-44C6-AA10-B870805AF0F9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rcRect l="21712" t="32830" r="26678" b="24434"/>
          <a:stretch/>
        </p:blipFill>
        <p:spPr>
          <a:xfrm>
            <a:off x="344520" y="2360520"/>
            <a:ext cx="10149480" cy="446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0" name="Rectangle 2"/>
              <p:cNvSpPr txBox="1"/>
              <p:nvPr/>
            </p:nvSpPr>
            <p:spPr>
              <a:xfrm>
                <a:off x="91440" y="1295280"/>
                <a:ext cx="809856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𝑨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𝟏</m:t>
                              </m:r>
                            </m:e>
                            <m:e>
                              <m:r>
                                <m:t xml:space="preserve">𝟓</m:t>
                              </m:r>
                            </m:e>
                          </m:mr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𝟑</m:t>
                              </m:r>
                            </m:e>
                          </m:mr>
                        </m:m>
                      </m:e>
                    </m:d>
                    <m:r>
                      <m:t xml:space="preserve">𝒂𝒏𝒅</m:t>
                    </m:r>
                    <m:r>
                      <m:t xml:space="preserve">𝑩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𝟑</m:t>
                              </m:r>
                            </m:e>
                          </m:mr>
                          <m:mr>
                            <m:e>
                              <m:r>
                                <m:t xml:space="preserve">𝟓</m:t>
                              </m:r>
                            </m:e>
                            <m:e>
                              <m:r>
                                <m:t xml:space="preserve">𝟏</m:t>
                              </m:r>
                            </m:e>
                          </m:mr>
                        </m:m>
                      </m:e>
                    </m:d>
                    <m:r>
                      <m:t xml:space="preserve">𝑭𝒊𝒏𝒅</m:t>
                    </m:r>
                    <m:r>
                      <m:t xml:space="preserve">𝑨</m:t>
                    </m:r>
                    <m:r>
                      <m:t xml:space="preserve">∙</m:t>
                    </m:r>
                    <m:r>
                      <m:t xml:space="preserve">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Rectangle 3"/>
          <p:cNvSpPr/>
          <p:nvPr/>
        </p:nvSpPr>
        <p:spPr>
          <a:xfrm>
            <a:off x="186840" y="5786280"/>
            <a:ext cx="9871200" cy="94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313560" y="4836240"/>
            <a:ext cx="9871200" cy="2072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527400" y="3799800"/>
            <a:ext cx="9871200" cy="32814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527400" y="4059000"/>
            <a:ext cx="839916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 is 2 by 2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 is 2 by 2.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So, the resul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The result is </a:t>
            </a: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Straight Arrow Connector 8"/>
          <p:cNvCxnSpPr/>
          <p:nvPr/>
        </p:nvCxnSpPr>
        <p:spPr>
          <a:xfrm flipH="1" flipV="1">
            <a:off x="1371600" y="4582080"/>
            <a:ext cx="1549800" cy="120420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496" name="Straight Arrow Connector 22"/>
          <p:cNvCxnSpPr/>
          <p:nvPr/>
        </p:nvCxnSpPr>
        <p:spPr>
          <a:xfrm flipV="1">
            <a:off x="3930480" y="4521960"/>
            <a:ext cx="550440" cy="126432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sp>
        <p:nvSpPr>
          <p:cNvPr id="497" name="TextBox 4"/>
          <p:cNvSpPr/>
          <p:nvPr/>
        </p:nvSpPr>
        <p:spPr>
          <a:xfrm>
            <a:off x="6829200" y="5440680"/>
            <a:ext cx="3291480" cy="8074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7030a0"/>
                </a:solidFill>
                <a:latin typeface="Georgia"/>
              </a:rPr>
              <a:t>2 rows and 2 colum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Straight Arrow Connector 20"/>
          <p:cNvCxnSpPr/>
          <p:nvPr/>
        </p:nvCxnSpPr>
        <p:spPr>
          <a:xfrm flipV="1">
            <a:off x="8823960" y="3799800"/>
            <a:ext cx="205920" cy="138456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pic>
        <p:nvPicPr>
          <p:cNvPr id="499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2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ftr" idx="8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0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50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ldNum" idx="8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065677-2B3F-4FA9-B3A2-A0FAE106DB9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8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223200" y="1706040"/>
            <a:ext cx="104169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If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0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511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512" name="Rectangle 4"/>
          <p:cNvSpPr/>
          <p:nvPr/>
        </p:nvSpPr>
        <p:spPr>
          <a:xfrm>
            <a:off x="649440" y="1619280"/>
            <a:ext cx="9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spcBef>
                <a:spcPts val="1171"/>
              </a:spcBef>
              <a:spcAft>
                <a:spcPts val="1171"/>
              </a:spcAf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SimSu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D6788AC0-9AB4-4173-8D0E-F30B99AC8B8B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rcRect l="22268" t="27982" r="39087" b="40664"/>
          <a:stretch/>
        </p:blipFill>
        <p:spPr>
          <a:xfrm>
            <a:off x="678240" y="2870280"/>
            <a:ext cx="9622800" cy="41450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2"/>
          <p:cNvSpPr/>
          <p:nvPr/>
        </p:nvSpPr>
        <p:spPr>
          <a:xfrm>
            <a:off x="678240" y="5656680"/>
            <a:ext cx="9779760" cy="14677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757800" y="4102200"/>
            <a:ext cx="9779760" cy="30222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722160" y="2870280"/>
            <a:ext cx="9779760" cy="43174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519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90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3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524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525" name="Rectangle 4"/>
          <p:cNvSpPr/>
          <p:nvPr/>
        </p:nvSpPr>
        <p:spPr>
          <a:xfrm>
            <a:off x="756360" y="1684440"/>
            <a:ext cx="9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spcBef>
                <a:spcPts val="1171"/>
              </a:spcBef>
              <a:spcAft>
                <a:spcPts val="1171"/>
              </a:spcAf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SimSu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39D8FD53-F886-4F53-9DA0-889A4EA06894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rcRect l="21922" t="39734" r="27306" b="26117"/>
          <a:stretch/>
        </p:blipFill>
        <p:spPr>
          <a:xfrm>
            <a:off x="540720" y="2975760"/>
            <a:ext cx="9879120" cy="4058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2"/>
          <p:cNvSpPr/>
          <p:nvPr/>
        </p:nvSpPr>
        <p:spPr>
          <a:xfrm>
            <a:off x="552600" y="5699880"/>
            <a:ext cx="9779760" cy="14677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592560" y="4404240"/>
            <a:ext cx="9779760" cy="27630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616320" y="2975760"/>
            <a:ext cx="9779760" cy="43174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532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ftr" idx="9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3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53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Num" idx="9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165E6F-D02F-4EA4-85FC-A17017C563E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9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223200" y="1706040"/>
            <a:ext cx="10416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verse matrix (of a square matri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Given an n × n square matrix A, if there exists a matrix B (necessarily of the same size)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 vectors x′, x, and g a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4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08137B-FA9A-4485-8808-CC297EE5591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rcRect l="24673" t="36938" r="27529" b="15727"/>
          <a:stretch/>
        </p:blipFill>
        <p:spPr>
          <a:xfrm>
            <a:off x="1781280" y="2315520"/>
            <a:ext cx="6672240" cy="3716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186840" y="6174360"/>
            <a:ext cx="977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 a homogeneous system, g is the zero vector.  Hence it has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TextBox 14"/>
              <p:cNvSpPr txBox="1"/>
              <p:nvPr/>
            </p:nvSpPr>
            <p:spPr>
              <a:xfrm>
                <a:off x="4452480" y="6685200"/>
                <a:ext cx="1971000" cy="46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𝒙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𝑨𝒙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act: Every n-th order linear equation is equivalent to a system of n first order linear equations. (This relation is not one-to-one.  There are multiple systems thus associated with each linear equation, for n  &gt; 1.)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5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43066E-D0D9-4F3B-BAC1-517B0BC66026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-1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onvert this second order differential equation that’s represent the mechanical vibration equation to two first order linear differential equ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6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2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C17A2F-9B41-4466-B583-D96C4292BB76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66320" y="5328000"/>
            <a:ext cx="3245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431880" y="5328000"/>
            <a:ext cx="329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256160" y="5352120"/>
            <a:ext cx="354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-1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onvert this second order differential equation that’s represent the mechanical vibration equation to two first order linear differential equ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7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2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A4B52B-2E93-4D90-BE45-F590833BE14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2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Rectangle 3"/>
              <p:cNvSpPr txBox="1"/>
              <p:nvPr/>
            </p:nvSpPr>
            <p:spPr>
              <a:xfrm>
                <a:off x="8681040" y="3575160"/>
                <a:ext cx="211248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𝒙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Rectangle 5"/>
              <p:cNvSpPr txBox="1"/>
              <p:nvPr/>
            </p:nvSpPr>
            <p:spPr>
              <a:xfrm>
                <a:off x="2747160" y="4931640"/>
                <a:ext cx="5486040" cy="226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𝒙</m:t>
                        </m:r>
                      </m:e>
                      <m:sub>
                        <m:r>
                          <m:t xml:space="preserve">𝟏</m:t>
                        </m:r>
                      </m:sub>
                      <m:sup>
                        <m:r>
                          <m:t xml:space="preserve">′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𝒙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ystems of First Order Linear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-2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vert this third order differential equation to three first order linear differential equation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8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2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24F8B3-F52A-411A-9994-69B63C61B27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7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66320" y="4865040"/>
            <a:ext cx="3245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431880" y="4865040"/>
            <a:ext cx="329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7256160" y="4889160"/>
            <a:ext cx="354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o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0</TotalTime>
  <Application>LibreOffice/7.4.7.2$Linux_X86_64 LibreOffice_project/40$Build-2</Application>
  <AppVersion>15.0000</AppVersion>
  <Words>2591</Words>
  <Paragraphs>380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2-15T23:05:03Z</dcterms:modified>
  <cp:revision>4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Custom</vt:lpwstr>
  </property>
  <property fmtid="{D5CDD505-2E9C-101B-9397-08002B2CF9AE}" pid="4" name="Slides">
    <vt:r8>45</vt:r8>
  </property>
</Properties>
</file>