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hdphoto1.wdp" ContentType="image/vnd.ms-photo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972800" cy="7772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3DF-266E-4453-9299-7BD55927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7CE-E015-4A07-85D1-3279207D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C56-FBE6-4056-8CA4-8CDD3AAF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1204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6228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6216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81204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26228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0E6-7684-4E58-9331-208F6D7B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AC8D-4A03-4C25-8E45-1EDB3BC5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DC7A-DF2C-43E9-8742-44BDBC9B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580B-DDB9-4EF4-959F-8C923AC8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0BAE-D1B5-46C4-ABAC-A8A3F954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C1A0-D36B-494A-9150-4A5DB7B8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62160" y="259200"/>
            <a:ext cx="1024092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9068-B46E-487D-BCA7-436AB94C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0F6A-6EF0-4284-B32E-735A3ACD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FA0-441C-4EFD-9030-92F71002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5A2E-FEE4-43E3-8C38-2A7799EF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A6F8-4A4C-434F-AD44-DBC72EC0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567B-0607-4F6D-9F89-B4935B20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5D92-E7CE-4F7B-B857-19875875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1204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26228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6216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81204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726228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6777-BF73-425C-A5B3-91D3F3E8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456-DB18-4C6C-9C51-718AB9E8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5A3-AC0B-4A54-9F23-D129FE00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60C-5142-42CD-A09A-14676457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62160" y="259200"/>
            <a:ext cx="1024092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3E9-2EA2-442D-B571-67D7BBA4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288-955E-4C4A-9C3C-A3DD191F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821-AC4D-4D12-A4CB-0FB6FC2C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A4C-DE11-45BB-8152-BDFADD07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 hidden="1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 hidden="1"/>
          <p:cNvSpPr/>
          <p:nvPr/>
        </p:nvSpPr>
        <p:spPr>
          <a:xfrm>
            <a:off x="0" y="0"/>
            <a:ext cx="10972440" cy="1578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 hidden="1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 hidden="1"/>
          <p:cNvSpPr/>
          <p:nvPr/>
        </p:nvSpPr>
        <p:spPr>
          <a:xfrm>
            <a:off x="1078992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 hidden="1"/>
          <p:cNvSpPr/>
          <p:nvPr/>
        </p:nvSpPr>
        <p:spPr>
          <a:xfrm>
            <a:off x="179280" y="72403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 hidden="1"/>
          <p:cNvSpPr/>
          <p:nvPr/>
        </p:nvSpPr>
        <p:spPr>
          <a:xfrm>
            <a:off x="182880" y="17604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82880" y="1446840"/>
            <a:ext cx="10599480" cy="360"/>
          </a:xfrm>
          <a:prstGeom prst="line">
            <a:avLst/>
          </a:prstGeom>
          <a:ln w="9525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 hidden="1"/>
          <p:cNvSpPr/>
          <p:nvPr/>
        </p:nvSpPr>
        <p:spPr>
          <a:xfrm>
            <a:off x="5120640" y="108360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 hidden="1"/>
          <p:cNvSpPr/>
          <p:nvPr/>
        </p:nvSpPr>
        <p:spPr>
          <a:xfrm>
            <a:off x="5234040" y="1190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18"/>
          <p:cNvSpPr/>
          <p:nvPr/>
        </p:nvSpPr>
        <p:spPr>
          <a:xfrm>
            <a:off x="10789920" y="360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0" y="0"/>
            <a:ext cx="10972440" cy="28494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Rectangle 11"/>
          <p:cNvSpPr/>
          <p:nvPr/>
        </p:nvSpPr>
        <p:spPr>
          <a:xfrm>
            <a:off x="175680" y="72439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6949440" y="7259040"/>
            <a:ext cx="365364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65760" y="7265520"/>
            <a:ext cx="429732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Straight Connector 6"/>
          <p:cNvSpPr/>
          <p:nvPr/>
        </p:nvSpPr>
        <p:spPr>
          <a:xfrm>
            <a:off x="186480" y="2742480"/>
            <a:ext cx="10599480" cy="360"/>
          </a:xfrm>
          <a:prstGeom prst="line">
            <a:avLst/>
          </a:prstGeom>
          <a:ln w="11430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Rectangle 9"/>
          <p:cNvSpPr/>
          <p:nvPr/>
        </p:nvSpPr>
        <p:spPr>
          <a:xfrm>
            <a:off x="182880" y="17280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Oval 12"/>
          <p:cNvSpPr/>
          <p:nvPr/>
        </p:nvSpPr>
        <p:spPr>
          <a:xfrm>
            <a:off x="5120640" y="239724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Oval 13"/>
          <p:cNvSpPr/>
          <p:nvPr/>
        </p:nvSpPr>
        <p:spPr>
          <a:xfrm>
            <a:off x="5234040" y="2504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5212080" y="2492640"/>
            <a:ext cx="548280" cy="49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a3a95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880F944-E9C8-41EA-BCA2-367207FE9661}" type="slidenum">
              <a:rPr b="0" lang="en-US" sz="1600" spc="-1" strike="noStrike">
                <a:solidFill>
                  <a:srgbClr val="a3a95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822960" y="431640"/>
            <a:ext cx="932652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548640" y="1818720"/>
            <a:ext cx="987516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6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0"/>
            <a:ext cx="10972440" cy="1578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1078992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79280" y="72403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82880" y="17604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Straight Connector 9"/>
          <p:cNvSpPr/>
          <p:nvPr/>
        </p:nvSpPr>
        <p:spPr>
          <a:xfrm>
            <a:off x="182880" y="1446840"/>
            <a:ext cx="10599480" cy="360"/>
          </a:xfrm>
          <a:prstGeom prst="line">
            <a:avLst/>
          </a:prstGeom>
          <a:ln w="9525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120640" y="108360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5234040" y="1190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6949440" y="7259040"/>
            <a:ext cx="365364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65760" y="7265520"/>
            <a:ext cx="429732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5234040" y="1163160"/>
            <a:ext cx="548280" cy="49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02B51B2-B5D8-49BA-95F4-819B51A87233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9fb8cd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464653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d2da7a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fada7a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b88472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microsoft.com/office/2007/relationships/hdphoto" Target="../media/hdphoto1.wdp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400" y="2900880"/>
            <a:ext cx="1059516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1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</a:pPr>
            <a:r>
              <a:rPr b="1" lang="en-US" sz="4900" spc="-1" strike="noStrike">
                <a:solidFill>
                  <a:schemeClr val="accent2">
                    <a:lumMod val="50000"/>
                  </a:schemeClr>
                </a:solidFill>
                <a:latin typeface="Agency FB"/>
              </a:rPr>
              <a:t>Lecture 5</a:t>
            </a:r>
            <a:br>
              <a:rPr sz="4900"/>
            </a:br>
            <a:r>
              <a:rPr b="1" lang="en-US" sz="4900" spc="-1" strike="noStrike">
                <a:solidFill>
                  <a:schemeClr val="accent2">
                    <a:lumMod val="50000"/>
                  </a:schemeClr>
                </a:solidFill>
                <a:latin typeface="Agency FB"/>
              </a:rPr>
              <a:t>Second Order Differential Equations</a:t>
            </a:r>
            <a:br>
              <a:rPr sz="4900"/>
            </a:br>
            <a:r>
              <a:rPr b="1" lang="en-US" sz="4000" spc="-1" strike="noStrike">
                <a:solidFill>
                  <a:schemeClr val="accent2">
                    <a:lumMod val="50000"/>
                  </a:schemeClr>
                </a:solidFill>
                <a:latin typeface="Agency FB"/>
              </a:rPr>
              <a:t>Homogeneous Differential Equations</a:t>
            </a:r>
            <a:br>
              <a:rPr sz="4400"/>
            </a:br>
            <a:r>
              <a:rPr b="1" lang="en-US" sz="3100" spc="-1" strike="noStrike">
                <a:solidFill>
                  <a:schemeClr val="accent6">
                    <a:lumMod val="75000"/>
                  </a:schemeClr>
                </a:solidFill>
                <a:latin typeface="Agency FB"/>
              </a:rPr>
              <a:t>fall semester 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194400" y="354960"/>
            <a:ext cx="1059516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200" spc="-1" strike="noStrike">
                <a:solidFill>
                  <a:schemeClr val="accent4">
                    <a:lumMod val="50000"/>
                  </a:schemeClr>
                </a:solidFill>
                <a:latin typeface="comic"/>
              </a:rPr>
              <a:t>Differential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209520" y="6126480"/>
            <a:ext cx="1059516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6">
                    <a:lumMod val="50000"/>
                  </a:schemeClr>
                </a:solidFill>
                <a:latin typeface="Agency FB"/>
              </a:rPr>
              <a:t>Instructor: A. S. Brwa / MSc. In Structur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6">
                    <a:lumMod val="50000"/>
                  </a:schemeClr>
                </a:solidFill>
                <a:latin typeface="Agency FB"/>
              </a:rPr>
              <a:t>College of Engineering </a:t>
            </a: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Agency FB"/>
              </a:rPr>
              <a:t>/ Ishik Univers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2</a:t>
            </a:r>
            <a:r>
              <a:rPr b="1" lang="en-US" sz="3600" spc="-1" strike="noStrike" baseline="30000">
                <a:solidFill>
                  <a:schemeClr val="accent3">
                    <a:lumMod val="75000"/>
                  </a:schemeClr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 Order Linear Homogenous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Notice that it is an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algebraic equation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that is obtained from th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ifferential equation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by replac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,  by , and by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. Sometimes the roots  and of this auxiliary equation can be found by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factoring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. In other cases they are found by using th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quadratic formula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77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78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23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FAD8147-88B3-445F-BC71-F5574A110432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0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24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5 – Second Order Homogeneou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2</a:t>
            </a:r>
            <a:r>
              <a:rPr b="1" lang="en-US" sz="3600" spc="-1" strike="noStrike" baseline="30000">
                <a:solidFill>
                  <a:schemeClr val="accent3">
                    <a:lumMod val="75000"/>
                  </a:schemeClr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 Order Linear Homogenous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istinguish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ree ca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the sign of the discriminant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50000"/>
              </a:lnSpc>
              <a:spcBef>
                <a:spcPts val="56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se 1:  </a:t>
            </a:r>
            <a:r>
              <a:rPr b="0" lang="en-US" sz="2800" spc="-1" strike="noStrike">
                <a:solidFill>
                  <a:srgbClr val="ff0066"/>
                </a:solidFill>
                <a:latin typeface="Georgia"/>
              </a:rPr>
              <a:t>There are two distinct real roots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50000"/>
              </a:lnSpc>
              <a:spcBef>
                <a:spcPts val="56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se 2:  </a:t>
            </a:r>
            <a:r>
              <a:rPr b="0" lang="en-US" sz="2800" spc="-1" strike="noStrike">
                <a:solidFill>
                  <a:srgbClr val="ff0066"/>
                </a:solidFill>
                <a:latin typeface="Georgia"/>
              </a:rPr>
              <a:t>There is one repeated real root 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50000"/>
              </a:lnSpc>
              <a:spcBef>
                <a:spcPts val="56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se 3:  </a:t>
            </a:r>
            <a:r>
              <a:rPr b="0" lang="en-US" sz="2800" spc="-1" strike="noStrike">
                <a:solidFill>
                  <a:srgbClr val="ff0066"/>
                </a:solidFill>
                <a:latin typeface="Georgia"/>
              </a:rPr>
              <a:t>There are two complex conjugate roo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84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85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25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595E296-B21B-4508-936D-E3A5392A198D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26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5 – Second Order Homogeneou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TextBox 2"/>
              <p:cNvSpPr txBox="1"/>
              <p:nvPr/>
            </p:nvSpPr>
            <p:spPr>
              <a:xfrm>
                <a:off x="3816720" y="6621480"/>
                <a:ext cx="2133360" cy="5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𝑟</m:t>
                    </m:r>
                    <m:r>
                      <m:t xml:space="preserve">=</m:t>
                    </m:r>
                    <m:r>
                      <m:t xml:space="preserve">𝛽</m:t>
                    </m:r>
                    <m:r>
                      <m:t xml:space="preserve">±</m:t>
                    </m:r>
                    <m:r>
                      <m:t xml:space="preserve">𝜇</m:t>
                    </m:r>
                    <m:r>
                      <m:t xml:space="preserve">𝑖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2</a:t>
            </a:r>
            <a:r>
              <a:rPr b="1" lang="en-US" sz="3600" spc="-1" strike="noStrike" baseline="30000">
                <a:solidFill>
                  <a:schemeClr val="accent3">
                    <a:lumMod val="75000"/>
                  </a:schemeClr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 Order Linear Homogenous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just">
              <a:lnSpc>
                <a:spcPct val="150000"/>
              </a:lnSpc>
              <a:spcBef>
                <a:spcPts val="56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ase 1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 the roots and of the auxiliary equation ar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 and are two linearly independent solutions of the below DE 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roots and of the auxiliary equation  ar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uneq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the general solution of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2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92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93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27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7FFD59C-F87B-4419-9A2B-D29C8DD91DBE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2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28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5 – Second Order Homogeneou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545720" y="1788480"/>
            <a:ext cx="1395720" cy="51624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uneq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2</a:t>
            </a:r>
            <a:r>
              <a:rPr b="1" lang="en-US" sz="3600" spc="-1" strike="noStrike" baseline="30000">
                <a:solidFill>
                  <a:schemeClr val="accent3">
                    <a:lumMod val="75000"/>
                  </a:schemeClr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 Order Linear Homogenous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Example – 1: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Solve the equ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Solution: The auxiliary equation 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2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00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01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29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9766A79-8A80-442B-A7B9-B7A521BC4A65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3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30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5 – Second Order Homogeneou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7920000" y="5546880"/>
            <a:ext cx="285084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e could verify that this is indeed a solution by differentiating and substituting into the differential eq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186840" y="6100920"/>
            <a:ext cx="2769480" cy="51624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2</a:t>
            </a:r>
            <a:r>
              <a:rPr b="1" lang="en-US" sz="3600" spc="-1" strike="noStrike" baseline="30000">
                <a:solidFill>
                  <a:schemeClr val="accent3">
                    <a:lumMod val="75000"/>
                  </a:schemeClr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 Order Linear Homogenous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Example – 2: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Solve the equation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Solution: The auxiliary equation 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2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0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1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31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6A8A7B5-1331-4EB6-9C5C-F32AEE727C5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4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32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5 – Second Order Homogeneou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2</a:t>
            </a:r>
            <a:r>
              <a:rPr b="1" lang="en-US" sz="3600" spc="-1" strike="noStrike" baseline="30000">
                <a:solidFill>
                  <a:schemeClr val="accent3">
                    <a:lumMod val="75000"/>
                  </a:schemeClr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 Order Linear Homogenous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Example – 3: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Solve the equation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Solution: The auxiliary equation 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2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16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17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33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F6F4CF2-C6A8-4A59-9CCC-8F56AB7A3DCF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5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34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5 – Second Order Homogeneou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2</a:t>
            </a:r>
            <a:r>
              <a:rPr b="1" lang="en-US" sz="3600" spc="-1" strike="noStrike" baseline="30000">
                <a:solidFill>
                  <a:schemeClr val="accent3">
                    <a:lumMod val="75000"/>
                  </a:schemeClr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 Order Linear Homogenous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Example – 4: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Solve the equation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Solution: The auxiliary equation 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1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23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24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5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798D472-52A1-4F6F-8611-8005F17CDFB9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36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5 – Second Order Homogeneou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Rectangle 2"/>
              <p:cNvSpPr txBox="1"/>
              <p:nvPr/>
            </p:nvSpPr>
            <p:spPr>
              <a:xfrm>
                <a:off x="8819640" y="5934240"/>
                <a:ext cx="1850040" cy="106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𝒓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𝟏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𝟏𝟑</m:t>
                            </m:r>
                          </m:e>
                        </m:rad>
                      </m:num>
                      <m:den>
                        <m:r>
                          <m:t xml:space="preserve">𝟔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2</a:t>
            </a:r>
            <a:r>
              <a:rPr b="1" lang="en-US" sz="3600" spc="-1" strike="noStrike" baseline="30000">
                <a:solidFill>
                  <a:schemeClr val="accent3">
                    <a:lumMod val="75000"/>
                  </a:schemeClr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 Order Linear Homogenous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Example – 4: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Solve the equation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Solution: The auxiliary equation 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nce the roots are real and distinct, the general solution i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31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32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37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09DE8B9-624F-4744-A6B0-1320CFDDCF1C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17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38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5 – Second Order Homogeneou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Review of a Differential Equation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General and Standard Form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e general form of a linear first-order ODE is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e general form of a linear second-order ODE is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</a:rPr>
              <a:t>If </a:t>
            </a:r>
            <a:r>
              <a:rPr b="0" lang="en-US" sz="3000" spc="-1" strike="noStrike">
                <a:solidFill>
                  <a:srgbClr val="cc3300"/>
                </a:solidFill>
                <a:latin typeface="Times New Roman"/>
              </a:rPr>
              <a:t>𝑔 (𝑥) = 0</a:t>
            </a:r>
            <a:r>
              <a:rPr b="0" lang="en-US" sz="3000" spc="-1" strike="noStrike">
                <a:solidFill>
                  <a:srgbClr val="002060"/>
                </a:solidFill>
                <a:latin typeface="Times New Roman"/>
              </a:rPr>
              <a:t>, it is called a </a:t>
            </a:r>
            <a:r>
              <a:rPr b="0" lang="en-US" sz="3000" spc="-1" strike="noStrike">
                <a:solidFill>
                  <a:srgbClr val="ff0066"/>
                </a:solidFill>
                <a:latin typeface="Times New Roman"/>
              </a:rPr>
              <a:t>Homogenous Equation</a:t>
            </a:r>
            <a:r>
              <a:rPr b="0" lang="en-US" sz="3000" spc="-1" strike="noStrike">
                <a:solidFill>
                  <a:srgbClr val="00206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14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15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3"/>
          <p:cNvSpPr>
            <a:spLocks noGrp="1"/>
          </p:cNvSpPr>
          <p:nvPr>
            <p:ph type="sldNum" idx="7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014E0DD-EEF3-44D7-A5A1-08F6B6CD0788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2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5 – Second Order Homogeneou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2</a:t>
            </a:r>
            <a:r>
              <a:rPr b="1" lang="en-US" sz="3600" spc="-1" strike="noStrike" baseline="30000">
                <a:solidFill>
                  <a:schemeClr val="accent3">
                    <a:lumMod val="75000"/>
                  </a:schemeClr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 Order Linear Homogenous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e general form of a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omogenous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linear second-order ODE is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Trivial Solution: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For the homogeneous equation above, note that the function y(t) = 0 always satisfies the given equation, regardless what p(t) and q(t) are. This constant zero solution is called the trivial solution of such an equatio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21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22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56757C0-F8C1-404E-ACBE-E6A49ED2AA4B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3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5 – Second Order Homogeneou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2</a:t>
            </a:r>
            <a:r>
              <a:rPr b="1" lang="en-US" sz="3600" spc="-1" strike="noStrike" baseline="30000">
                <a:solidFill>
                  <a:schemeClr val="accent3">
                    <a:lumMod val="75000"/>
                  </a:schemeClr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 Order Linear Homogenous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e general form of a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omogenous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linear second-order ODE is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we can change the above complex functions in terms of x to simple constants, and rewrite the above for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2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3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1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3551A1A-5858-4C12-830E-CD1C2364D04F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4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2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5 – Second Order Homogeneou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38680" y="6758640"/>
            <a:ext cx="8679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Note: The solution of all homogenous equations is always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2</a:t>
            </a:r>
            <a:r>
              <a:rPr b="1" lang="en-US" sz="3600" spc="-1" strike="noStrike" baseline="30000">
                <a:solidFill>
                  <a:schemeClr val="accent3">
                    <a:lumMod val="75000"/>
                  </a:schemeClr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 Order Linear Homogenous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Where, A, B, and C are constant, but  never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herefore, we can have particular solution for the 2</a:t>
            </a:r>
            <a:r>
              <a:rPr b="0" lang="en-US" sz="2800" spc="-1" strike="noStrike" baseline="30000">
                <a:solidFill>
                  <a:srgbClr val="00206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order linear O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orem: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both solutions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der linear homogeneous equation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,  and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any constants, 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linear combin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lso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37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38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3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01E812B-83A3-47DB-9117-2D8EB798E2B4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5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4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5 – Second Order Homogeneou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2</a:t>
            </a:r>
            <a:r>
              <a:rPr b="1" lang="en-US" sz="3600" spc="-1" strike="noStrike" baseline="30000">
                <a:solidFill>
                  <a:schemeClr val="accent3">
                    <a:lumMod val="75000"/>
                  </a:schemeClr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 Order Linear Homogenous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oof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 and are solutions of DE, we ha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Now, we knew that the above two linear equations are solutions of DE.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What if we multiply the two constant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b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respectively and combine them in one linear equation, will they still be a solution of DE 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44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45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5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3DCE981-BFEC-4366-9F34-A3621E1F5A59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6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5 – Second Order Homogeneou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01360" y="3118320"/>
            <a:ext cx="783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2</a:t>
            </a:r>
            <a:r>
              <a:rPr b="1" lang="en-US" sz="3600" spc="-1" strike="noStrike" baseline="30000">
                <a:solidFill>
                  <a:schemeClr val="accent3">
                    <a:lumMod val="75000"/>
                  </a:schemeClr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 Order Linear Homogenous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What if we multiply the two constant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 by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 respectively and combine them in one linear equation, will they still be a solution of DE 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dd  and constan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52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53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7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54D5DA6-F8BA-426A-B622-19379AFC1CE2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7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8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5 – Second Order Homogeneou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40000" contrast="-40000"/>
                    </a14:imgEffect>
                  </a14:imgLayer>
                </a14:imgProps>
              </a:ext>
            </a:extLst>
          </a:blip>
          <a:srcRect l="48986" t="40277" r="32925" b="49053"/>
          <a:stretch/>
        </p:blipFill>
        <p:spPr>
          <a:xfrm>
            <a:off x="8799480" y="6131520"/>
            <a:ext cx="2045880" cy="7671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8600760" y="5747400"/>
            <a:ext cx="246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Previously proof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186840" y="6786720"/>
            <a:ext cx="5958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Therefor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is also a solution of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2</a:t>
            </a:r>
            <a:r>
              <a:rPr b="1" lang="en-US" sz="3600" spc="-1" strike="noStrike" baseline="30000">
                <a:solidFill>
                  <a:schemeClr val="accent3">
                    <a:lumMod val="75000"/>
                  </a:schemeClr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 Order Linear Homogenous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If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1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Where, r is constan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1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hen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substitute these expressions into the above D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62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63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9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DDDC99A-6CC0-417E-B16C-6AE407C7D9F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20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5 – Second Order Homogeneou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744840" y="0"/>
            <a:ext cx="1227600" cy="992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2</a:t>
            </a:r>
            <a:r>
              <a:rPr b="1" lang="en-US" sz="3600" spc="-1" strike="noStrike" baseline="30000">
                <a:solidFill>
                  <a:schemeClr val="accent3">
                    <a:lumMod val="75000"/>
                  </a:schemeClr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 Order Linear Homogenous OD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6840" y="1667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substitute these expressions into the above D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order for last equation to be zero, either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or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hould equal zero, but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can not be zero.  Therefore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6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7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21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2D34055-DE1E-422E-8491-21B28DC3559D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22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5 – Second Order Homogeneou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7482600" y="6470280"/>
            <a:ext cx="2827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is is called a characteristic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ivic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019</TotalTime>
  <Application>LibreOffice/7.4.7.2$Linux_X86_64 LibreOffice_project/40$Build-2</Application>
  <AppVersion>15.0000</AppVersion>
  <Words>2121</Words>
  <Paragraphs>171</Paragraphs>
  <Company>University of Notre D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6T20:27:33Z</dcterms:created>
  <dc:creator>Diogo Bolster</dc:creator>
  <dc:description/>
  <dc:language>en-US</dc:language>
  <cp:lastModifiedBy>DR.Ahmed Saker 2o1O</cp:lastModifiedBy>
  <dcterms:modified xsi:type="dcterms:W3CDTF">2018-11-24T19:56:52Z</dcterms:modified>
  <cp:revision>3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ustom</vt:lpwstr>
  </property>
  <property fmtid="{D5CDD505-2E9C-101B-9397-08002B2CF9AE}" pid="3" name="Slides">
    <vt:r8>17</vt:r8>
  </property>
</Properties>
</file>