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972800" cy="7772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25B-DE0E-4276-AE1C-C0E350BD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B64-8CF1-466A-9057-8195EF83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1B5-DF6D-44A5-885F-9B58C2D7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1204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6228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6216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81204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26228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103-2EAB-4DBE-AD65-F6D90D72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348C-8041-4394-A4E7-0E79E963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1F97-E8A2-4012-914B-D3E568E8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32AA-5EC4-49EC-A237-4A6C07FB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6F6C-DE92-421C-956B-C22DDC6A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E373-C5CB-4DF7-979F-F4DCAAF0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62160" y="259200"/>
            <a:ext cx="1024092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384B-B6FB-46F9-9D2F-60333A8C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C2A1-45F8-4F0E-A01F-3CDFB5E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8F0-B994-4EF4-A64C-3468FB22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D3C4-38A6-4565-86B9-5527B881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094E-F93B-4252-9223-15A51DAF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9FA8-484C-42EB-80C0-86A01ECC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C15F-A6F1-4166-AA25-1EBD13EC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1204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26228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6216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81204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726228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646C-2F3D-40A4-B852-7A8D7518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64B-4754-4875-A282-F378459A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613-55AF-4A33-A623-955866C7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BF0-ED2C-4A35-B9D7-712307CF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62160" y="259200"/>
            <a:ext cx="1024092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30F-14F1-4AA6-9404-CD4FB0BF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A6FB-8AC1-4C82-9A1A-12C2522D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2BB-36F2-4EE5-A4AE-E864274D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D54-F4E8-4531-BAAA-812BD56E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 hidden="1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 hidden="1"/>
          <p:cNvSpPr/>
          <p:nvPr/>
        </p:nvSpPr>
        <p:spPr>
          <a:xfrm>
            <a:off x="0" y="0"/>
            <a:ext cx="10972440" cy="1578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 hidden="1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 hidden="1"/>
          <p:cNvSpPr/>
          <p:nvPr/>
        </p:nvSpPr>
        <p:spPr>
          <a:xfrm>
            <a:off x="1078992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 hidden="1"/>
          <p:cNvSpPr/>
          <p:nvPr/>
        </p:nvSpPr>
        <p:spPr>
          <a:xfrm>
            <a:off x="179280" y="72403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 hidden="1"/>
          <p:cNvSpPr/>
          <p:nvPr/>
        </p:nvSpPr>
        <p:spPr>
          <a:xfrm>
            <a:off x="182880" y="17604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82880" y="1446840"/>
            <a:ext cx="10599480" cy="360"/>
          </a:xfrm>
          <a:prstGeom prst="line">
            <a:avLst/>
          </a:prstGeom>
          <a:ln w="9525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 hidden="1"/>
          <p:cNvSpPr/>
          <p:nvPr/>
        </p:nvSpPr>
        <p:spPr>
          <a:xfrm>
            <a:off x="5120640" y="108360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 hidden="1"/>
          <p:cNvSpPr/>
          <p:nvPr/>
        </p:nvSpPr>
        <p:spPr>
          <a:xfrm>
            <a:off x="5234040" y="1190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18"/>
          <p:cNvSpPr/>
          <p:nvPr/>
        </p:nvSpPr>
        <p:spPr>
          <a:xfrm>
            <a:off x="10789920" y="360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0" y="0"/>
            <a:ext cx="10972440" cy="28494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Rectangle 11"/>
          <p:cNvSpPr/>
          <p:nvPr/>
        </p:nvSpPr>
        <p:spPr>
          <a:xfrm>
            <a:off x="175680" y="72439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6949440" y="7259040"/>
            <a:ext cx="365364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65760" y="7265520"/>
            <a:ext cx="429732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Straight Connector 6"/>
          <p:cNvSpPr/>
          <p:nvPr/>
        </p:nvSpPr>
        <p:spPr>
          <a:xfrm>
            <a:off x="186480" y="2742480"/>
            <a:ext cx="10599480" cy="360"/>
          </a:xfrm>
          <a:prstGeom prst="line">
            <a:avLst/>
          </a:prstGeom>
          <a:ln w="11430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Rectangle 9"/>
          <p:cNvSpPr/>
          <p:nvPr/>
        </p:nvSpPr>
        <p:spPr>
          <a:xfrm>
            <a:off x="182880" y="17280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Oval 12"/>
          <p:cNvSpPr/>
          <p:nvPr/>
        </p:nvSpPr>
        <p:spPr>
          <a:xfrm>
            <a:off x="5120640" y="239724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Oval 13"/>
          <p:cNvSpPr/>
          <p:nvPr/>
        </p:nvSpPr>
        <p:spPr>
          <a:xfrm>
            <a:off x="5234040" y="2504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5212080" y="2492640"/>
            <a:ext cx="548280" cy="49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a3a95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6271E71-262C-4C57-ADA9-27F49ECCD1F5}" type="slidenum">
              <a:rPr b="0" lang="en-US" sz="1600" spc="-1" strike="noStrike">
                <a:solidFill>
                  <a:srgbClr val="a3a95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822960" y="431640"/>
            <a:ext cx="932652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548640" y="1818720"/>
            <a:ext cx="987516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6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0"/>
            <a:ext cx="10972440" cy="1578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1078992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79280" y="72403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82880" y="17604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Straight Connector 9"/>
          <p:cNvSpPr/>
          <p:nvPr/>
        </p:nvSpPr>
        <p:spPr>
          <a:xfrm>
            <a:off x="182880" y="1446840"/>
            <a:ext cx="10599480" cy="360"/>
          </a:xfrm>
          <a:prstGeom prst="line">
            <a:avLst/>
          </a:prstGeom>
          <a:ln w="9525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120640" y="108360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5234040" y="1190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6949440" y="7259040"/>
            <a:ext cx="365364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65760" y="7265520"/>
            <a:ext cx="429732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5234040" y="1163160"/>
            <a:ext cx="548280" cy="49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AF26994-9202-4677-A5F5-DE41E53EFB3B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9fb8cd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464653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d2da7a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fada7a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b88472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400" y="3083760"/>
            <a:ext cx="1059516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900" spc="-1" strike="noStrike">
                <a:solidFill>
                  <a:schemeClr val="accent2">
                    <a:lumMod val="50000"/>
                  </a:schemeClr>
                </a:solidFill>
                <a:latin typeface="Agency FB"/>
              </a:rPr>
              <a:t>Lecture 3</a:t>
            </a:r>
            <a:br>
              <a:rPr sz="4900"/>
            </a:br>
            <a:r>
              <a:rPr b="1" lang="en-US" sz="4900" spc="-1" strike="noStrike">
                <a:solidFill>
                  <a:schemeClr val="accent2">
                    <a:lumMod val="50000"/>
                  </a:schemeClr>
                </a:solidFill>
                <a:latin typeface="Agency FB"/>
              </a:rPr>
              <a:t>Solution of First Order Differential Equations</a:t>
            </a:r>
            <a:br>
              <a:rPr sz="4400"/>
            </a:br>
            <a:r>
              <a:rPr b="1" lang="en-US" sz="4000" spc="-1" strike="noStrike">
                <a:solidFill>
                  <a:schemeClr val="accent6">
                    <a:lumMod val="75000"/>
                  </a:schemeClr>
                </a:solidFill>
                <a:latin typeface="Agency FB"/>
              </a:rPr>
              <a:t>fall semester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194400" y="354960"/>
            <a:ext cx="1059516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200" spc="-1" strike="noStrike">
                <a:solidFill>
                  <a:schemeClr val="accent4">
                    <a:lumMod val="50000"/>
                  </a:schemeClr>
                </a:solidFill>
                <a:latin typeface="comic"/>
              </a:rPr>
              <a:t>Differential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209520" y="5617080"/>
            <a:ext cx="10595160" cy="16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2000"/>
          </a:bodyPr>
          <a:p>
            <a:pPr>
              <a:lnSpc>
                <a:spcPct val="150000"/>
              </a:lnSpc>
            </a:pP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Agency FB"/>
              </a:rPr>
              <a:t>Instructor: A. S. Brwa / MSc. In Structur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Agency FB"/>
              </a:rPr>
              <a:t>College of Engineering / Ishik Univers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olution by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Answer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nnot be written in the stated for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23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74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4"/>
          <p:cNvSpPr>
            <a:spLocks noGrp="1"/>
          </p:cNvSpPr>
          <p:nvPr>
            <p:ph type="sldNum" idx="2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D2C7B07-8E02-4CD4-8101-2504C8DC6206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0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Rectangle 8"/>
              <p:cNvSpPr txBox="1"/>
              <p:nvPr/>
            </p:nvSpPr>
            <p:spPr>
              <a:xfrm>
                <a:off x="8620560" y="2391480"/>
                <a:ext cx="21006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𝒚</m:t>
                        </m:r>
                      </m:e>
                    </m:acc>
                    <m:r>
                      <m:t xml:space="preserve">=</m:t>
                    </m:r>
                    <m:r>
                      <m:t xml:space="preserve">𝒇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𝒙</m:t>
                        </m:r>
                      </m:e>
                    </m:d>
                    <m:r>
                      <m:t xml:space="preserve">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𝒚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olution by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Answer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25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82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4"/>
          <p:cNvSpPr>
            <a:spLocks noGrp="1"/>
          </p:cNvSpPr>
          <p:nvPr>
            <p:ph type="sldNum" idx="2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5735AF9-B1A7-4CAF-AECE-3674781EB55D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Rectangle 8"/>
              <p:cNvSpPr txBox="1"/>
              <p:nvPr/>
            </p:nvSpPr>
            <p:spPr>
              <a:xfrm>
                <a:off x="8620560" y="2391480"/>
                <a:ext cx="21006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𝒚</m:t>
                        </m:r>
                      </m:e>
                    </m:acc>
                    <m:r>
                      <m:t xml:space="preserve">=</m:t>
                    </m:r>
                    <m:r>
                      <m:t xml:space="preserve">𝒇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𝒙</m:t>
                        </m:r>
                      </m:e>
                    </m:d>
                    <m:r>
                      <m:t xml:space="preserve">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𝒚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Rectangle 9"/>
              <p:cNvSpPr txBox="1"/>
              <p:nvPr/>
            </p:nvSpPr>
            <p:spPr>
              <a:xfrm>
                <a:off x="7198920" y="4214880"/>
                <a:ext cx="33886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𝒅𝒊𝒗𝒊𝒅𝒆</m:t>
                    </m:r>
                    <m:r>
                      <m:t xml:space="preserve">𝒃𝒐𝒕𝒉</m:t>
                    </m:r>
                    <m:r>
                      <m:t xml:space="preserve">𝒔𝒊𝒅𝒆</m:t>
                    </m:r>
                    <m:r>
                      <m:t xml:space="preserve">𝒃𝒚</m:t>
                    </m:r>
                    <m:r>
                      <m:t xml:space="preserve">𝒚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olution by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This method use integration technique for so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</a:rPr>
              <a:t>Given a diﬀerential equation in the form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</a:rPr>
              <a:t>Separate variables ( 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divide both side by g(y)</a:t>
            </a:r>
            <a:r>
              <a:rPr b="0" lang="en-US" sz="2600" spc="-1" strike="noStrike">
                <a:solidFill>
                  <a:srgbClr val="002060"/>
                </a:solidFill>
                <a:latin typeface="Times New Roman"/>
              </a:rPr>
              <a:t>)  we obtai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</a:rPr>
              <a:t>If we now 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integrate both sides </a:t>
            </a:r>
            <a:r>
              <a:rPr b="0" lang="en-US" sz="2600" spc="-1" strike="noStrike">
                <a:solidFill>
                  <a:srgbClr val="002060"/>
                </a:solidFill>
                <a:latin typeface="Times New Roman"/>
              </a:rPr>
              <a:t>of this equation with respect to 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2060"/>
                </a:solidFill>
                <a:latin typeface="Times New Roman"/>
              </a:rPr>
              <a:t> we obtai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27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91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4"/>
          <p:cNvSpPr>
            <a:spLocks noGrp="1"/>
          </p:cNvSpPr>
          <p:nvPr>
            <p:ph type="sldNum" idx="2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0D57920-15A0-49E8-99F1-90315E1F0D9C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olution by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We have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eparated the Variables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because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ft-hand side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ontains only the variabl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, and the 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</a:rPr>
              <a:t>right-hand side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ontains only the variable 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We can now try to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integrate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each sid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separately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. If we can actually perform the required integrations we will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obtain a relationship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between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. Examples of this process are given in the next subsection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29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98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4"/>
          <p:cNvSpPr>
            <a:spLocks noGrp="1"/>
          </p:cNvSpPr>
          <p:nvPr>
            <p:ph type="sldNum" idx="3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24BF272-8C2A-41D1-8D42-0C77ECC8135C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olution by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ftr" idx="31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04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3"/>
          <p:cNvSpPr>
            <a:spLocks noGrp="1"/>
          </p:cNvSpPr>
          <p:nvPr>
            <p:ph type="sldNum" idx="3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08EC052-44C4-4DBA-BC5F-8B3997186EC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rcRect l="17856" t="9869" r="16963" b="35724"/>
          <a:stretch/>
        </p:blipFill>
        <p:spPr>
          <a:xfrm>
            <a:off x="-165960" y="1359720"/>
            <a:ext cx="11256120" cy="57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Example – 1: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Use the method of separation of variables to solve the diﬀerential equ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Solution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he equation already has the for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33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11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3"/>
          <p:cNvSpPr>
            <a:spLocks noGrp="1"/>
          </p:cNvSpPr>
          <p:nvPr>
            <p:ph type="sldNum" idx="3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F9ADF67-CE5C-4877-ACCD-419C50CD0C2A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Apply the Method of 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Separate variables by dividing both sides by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g(y)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we ﬁnd and multiple both side by dx, we obt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Integrating both sides with respect to x giv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ftr" idx="35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18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3"/>
          <p:cNvSpPr>
            <a:spLocks noGrp="1"/>
          </p:cNvSpPr>
          <p:nvPr>
            <p:ph type="sldNum" idx="3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4B5DCAE-0169-4A7F-837C-9ECB71A87FCF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Apply the Method of 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Note that th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left-hand side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is an integral involving just y; the right-hand side is an integral involving just x. After integrating both sides with respect to the stated variables we ﬁ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where c is a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constant of integration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. (You might think that there would be a constant on the left-hand side too. You are quite right but the two constants can be combined into a single constant and so we need only write one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ftr" idx="37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25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3"/>
          <p:cNvSpPr>
            <a:spLocks noGrp="1"/>
          </p:cNvSpPr>
          <p:nvPr>
            <p:ph type="sldNum" idx="3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78A61D5-BFED-46BF-9317-7F86302A6C83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Apply the Method of 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We now have a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lationship between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as required. Often it is suﬃcient to leave your answer in this form but you may also be required to obtain an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explicit relation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in terms of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. In this particular c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So th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39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32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3"/>
          <p:cNvSpPr>
            <a:spLocks noGrp="1"/>
          </p:cNvSpPr>
          <p:nvPr>
            <p:ph type="sldNum" idx="4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333F4FE-4F5A-48AA-B1D5-AB73F24AB17F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Apply the Method of 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Example – 2: Use the method of separation of variables to solve the diﬀerential equ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First separate the variables so that terms involving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and appear on th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, and terms involving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appear on t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41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39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3"/>
          <p:cNvSpPr>
            <a:spLocks noGrp="1"/>
          </p:cNvSpPr>
          <p:nvPr>
            <p:ph type="sldNum" idx="4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624BF95-B526-4DE0-9D3D-EF2984E67354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Apply the Method of 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Learning Outcome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On completion you should be able to ..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Explain what is meant by separating the variables of a ﬁrst order diﬀerential equation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Determine whether a ﬁrst order diﬀerential equation is separable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olve a variety of equations using the separation of variables techniqu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7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16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4"/>
          <p:cNvSpPr>
            <a:spLocks noGrp="1"/>
          </p:cNvSpPr>
          <p:nvPr>
            <p:ph type="sldNum" idx="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5224FD0-A370-481F-A8F3-585A6309C625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2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Example – 2: Use the method of separation of variables to solve the diﬀerential equ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Finally, rearrange to obtain an expression for y in terms of x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43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46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3"/>
          <p:cNvSpPr>
            <a:spLocks noGrp="1"/>
          </p:cNvSpPr>
          <p:nvPr>
            <p:ph type="sldNum" idx="4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5257B7E-1099-4851-89E2-C212B97A3B6C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Apply the Method of 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9191160" y="5243040"/>
            <a:ext cx="1203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D = −2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Example – 3: Use the method of separation of variables to solve the diﬀerential equ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ftr" idx="45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54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3"/>
          <p:cNvSpPr>
            <a:spLocks noGrp="1"/>
          </p:cNvSpPr>
          <p:nvPr>
            <p:ph type="sldNum" idx="4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1B0F4E6-40DB-4651-9902-E0A83D0F639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Apply the Method of 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Use the method of separation of variables to solve the diﬀerential equ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ftr" idx="47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61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3"/>
          <p:cNvSpPr>
            <a:spLocks noGrp="1"/>
          </p:cNvSpPr>
          <p:nvPr>
            <p:ph type="sldNum" idx="4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AF4C619-BED5-47CE-BAFB-2290A892CB5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Assignment – 2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tandard Form of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General and Standard Form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e general form of a linear first-order ODE is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</a:rPr>
              <a:t>If </a:t>
            </a:r>
            <a:r>
              <a:rPr b="0" lang="en-US" sz="3000" spc="-1" strike="noStrike">
                <a:solidFill>
                  <a:srgbClr val="002060"/>
                </a:solidFill>
                <a:latin typeface="Times New Roman"/>
              </a:rPr>
              <a:t>𝑎1(𝑥) = 0, it is no longer an differential equation and so 𝑎1 𝑥 cannot be 0; and if 𝑎0 𝑥 = 0, it is a variable separated ODE and can easily be solved by integration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</a:rPr>
              <a:t>If 𝑔 (𝑥) = 0, it is called a </a:t>
            </a:r>
            <a:r>
              <a:rPr b="0" lang="en-US" sz="3000" spc="-1" strike="noStrike">
                <a:solidFill>
                  <a:srgbClr val="ff0066"/>
                </a:solidFill>
                <a:latin typeface="Times New Roman"/>
              </a:rPr>
              <a:t>Homogenous Equation</a:t>
            </a:r>
            <a:r>
              <a:rPr b="0" lang="en-US" sz="3000" spc="-1" strike="noStrike">
                <a:solidFill>
                  <a:srgbClr val="002060"/>
                </a:solidFill>
                <a:latin typeface="Times New Roman"/>
              </a:rPr>
              <a:t>, and can easily be solved by separating the variables, thus in this chapter g(𝑥) is generally not 0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</a:rPr>
              <a:t>If 𝑔(𝑥) ≠ 0 it is a non-homogenous equation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9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23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501C5F2-FDA0-4326-BF5E-C1D13F962615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3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olution by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paration of Variabl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technique commonly used to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lve ﬁrst order ordinary diﬀerential equations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o-called because we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rearrange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quation to be solved such that all terms involving the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pendent variab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 o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 of the equation, and all terms involving the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independent variable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 on the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other side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 DE can be easily solved bt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Integ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3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6082F74-272F-4420-B43D-CEE3B7833BF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4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olution by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0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ot all ﬁrst order equatio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arrang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way so this technique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ot always appropri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urther, it is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ot always 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erform th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integ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n if the variables are separable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0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xact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ﬁrst order diﬀerential equation is one which can be solved by simply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integr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th sides. Only very few ﬁrst order diﬀerential equations ar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x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0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Section you will learn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ow to deci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ther the method i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ppropri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how to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pp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 such case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3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37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4"/>
          <p:cNvSpPr>
            <a:spLocks noGrp="1"/>
          </p:cNvSpPr>
          <p:nvPr>
            <p:ph type="sldNum" idx="1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CD00C26-D270-47E5-BABF-1D0A5F839C17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5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olution by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In this Section we consider diﬀerential equations which can be written in the form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right-h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de is a product of a function of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a function of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Examples of such equations ar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5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44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4"/>
          <p:cNvSpPr>
            <a:spLocks noGrp="1"/>
          </p:cNvSpPr>
          <p:nvPr>
            <p:ph type="sldNum" idx="1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6B2BFCD-BB18-4CE9-B54E-6FB6A0AF76FB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9223920" y="2676600"/>
            <a:ext cx="257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olution by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Not all ﬁrst order equations can be written in this form. For example, it is not possible to rewrite the equation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form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7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52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4"/>
          <p:cNvSpPr>
            <a:spLocks noGrp="1"/>
          </p:cNvSpPr>
          <p:nvPr>
            <p:ph type="sldNum" idx="1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253DB82-4485-45F3-AD15-576DDBEE71DE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7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olution by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Determine which of the following diﬀerential equations can be written in the form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If possible, rewrite each equation in this form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9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59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4"/>
          <p:cNvSpPr>
            <a:spLocks noGrp="1"/>
          </p:cNvSpPr>
          <p:nvPr>
            <p:ph type="sldNum" idx="2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8627287-40BF-43E1-9604-9953318899E8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Solution by Separable Variable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Answer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21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3 – Solution of 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66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4"/>
          <p:cNvSpPr>
            <a:spLocks noGrp="1"/>
          </p:cNvSpPr>
          <p:nvPr>
            <p:ph type="sldNum" idx="2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8BD0362-9FB3-4B59-9E08-8D7F1AB0FC10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Rectangle 3"/>
              <p:cNvSpPr txBox="1"/>
              <p:nvPr/>
            </p:nvSpPr>
            <p:spPr>
              <a:xfrm>
                <a:off x="8620560" y="2391480"/>
                <a:ext cx="21006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𝒚</m:t>
                        </m:r>
                      </m:e>
                    </m:acc>
                    <m:r>
                      <m:t xml:space="preserve">=</m:t>
                    </m:r>
                    <m:r>
                      <m:t xml:space="preserve">𝒇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𝒙</m:t>
                        </m:r>
                      </m:e>
                    </m:d>
                    <m:r>
                      <m:t xml:space="preserve">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𝒚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ivic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3075</TotalTime>
  <Application>LibreOffice/7.4.7.2$Linux_X86_64 LibreOffice_project/40$Build-2</Application>
  <AppVersion>15.0000</AppVersion>
  <Words>1816</Words>
  <Paragraphs>192</Paragraphs>
  <Company>University of Notre D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6T20:27:33Z</dcterms:created>
  <dc:creator>Diogo Bolster</dc:creator>
  <dc:description/>
  <dc:language>en-US</dc:language>
  <cp:lastModifiedBy>DR.Ahmed Saker 2o1O</cp:lastModifiedBy>
  <dcterms:modified xsi:type="dcterms:W3CDTF">2018-11-03T13:30:49Z</dcterms:modified>
  <cp:revision>1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ustom</vt:lpwstr>
  </property>
  <property fmtid="{D5CDD505-2E9C-101B-9397-08002B2CF9AE}" pid="3" name="Slides">
    <vt:r8>22</vt:r8>
  </property>
</Properties>
</file>