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hdphoto1.wdp" ContentType="image/vnd.ms-photo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972800" cy="7772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BFC-0FB0-4976-96F3-75912A24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B75-6C4A-4915-B08F-442980C5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397B-4649-48E2-9F60-4A189114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1204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6228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6216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81204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26228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C03-710B-400A-995C-345C9347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3AF8-4B1E-48DF-9365-D3EDE171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292F-9BCA-4036-9996-FEF188AB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AC8B-FB72-4F6D-BFB7-F2CB313D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E191-5B17-44E6-9EE4-89CBD514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C5C0-CD76-4D04-9A59-EB1F9CC6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62160" y="259200"/>
            <a:ext cx="10240920" cy="39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F2E1-38EA-4015-B2CD-7D1B6BC3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DDE1-F5BF-4568-91EB-C1B42FF1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CCD-CD5F-4FD9-BE53-C51E2AAF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46E0-8081-460F-A974-C0BAC92B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55F7-A22D-4CEB-BD70-25100899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3C46-CB04-465E-940C-657829DE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EF1E-03F3-4008-A324-3E7579CA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1204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26228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6216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81204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726228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CA91-2460-40EE-A5B5-8507DAC2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B6A-2DAA-4974-B340-5900660C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18B-120C-4A9F-9CA4-285927C4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5B3-3F5C-4189-BFDC-D860DBB0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62160" y="259200"/>
            <a:ext cx="10240920" cy="39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6A5-566E-4283-B985-CEF00487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B32-C41B-46DD-A35D-4EAAFE10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54F-0999-412F-833F-1DC95BE6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FAB8-9F5A-4217-89E8-4147E141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 hidden="1"/>
          <p:cNvSpPr/>
          <p:nvPr/>
        </p:nvSpPr>
        <p:spPr>
          <a:xfrm>
            <a:off x="0" y="7599600"/>
            <a:ext cx="10972440" cy="172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 hidden="1"/>
          <p:cNvSpPr/>
          <p:nvPr/>
        </p:nvSpPr>
        <p:spPr>
          <a:xfrm>
            <a:off x="0" y="0"/>
            <a:ext cx="10972440" cy="15789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 hidden="1"/>
          <p:cNvSpPr/>
          <p:nvPr/>
        </p:nvSpPr>
        <p:spPr>
          <a:xfrm>
            <a:off x="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 hidden="1"/>
          <p:cNvSpPr/>
          <p:nvPr/>
        </p:nvSpPr>
        <p:spPr>
          <a:xfrm>
            <a:off x="1078992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 hidden="1"/>
          <p:cNvSpPr/>
          <p:nvPr/>
        </p:nvSpPr>
        <p:spPr>
          <a:xfrm>
            <a:off x="179280" y="7240320"/>
            <a:ext cx="10599480" cy="3506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ectangle 7" hidden="1"/>
          <p:cNvSpPr/>
          <p:nvPr/>
        </p:nvSpPr>
        <p:spPr>
          <a:xfrm>
            <a:off x="182880" y="176040"/>
            <a:ext cx="10599480" cy="7419600"/>
          </a:xfrm>
          <a:prstGeom prst="rect">
            <a:avLst/>
          </a:prstGeom>
          <a:noFill/>
          <a:ln w="9525">
            <a:solidFill>
              <a:srgbClr val="d2da7a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82880" y="1446840"/>
            <a:ext cx="10599480" cy="360"/>
          </a:xfrm>
          <a:prstGeom prst="line">
            <a:avLst/>
          </a:prstGeom>
          <a:ln w="9525">
            <a:solidFill>
              <a:srgbClr val="d2da7a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val 11" hidden="1"/>
          <p:cNvSpPr/>
          <p:nvPr/>
        </p:nvSpPr>
        <p:spPr>
          <a:xfrm>
            <a:off x="5120640" y="1083600"/>
            <a:ext cx="731160" cy="69048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 hidden="1"/>
          <p:cNvSpPr/>
          <p:nvPr/>
        </p:nvSpPr>
        <p:spPr>
          <a:xfrm>
            <a:off x="5234040" y="1190520"/>
            <a:ext cx="504360" cy="47628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d2da7a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0" y="7599600"/>
            <a:ext cx="10972440" cy="172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18"/>
          <p:cNvSpPr/>
          <p:nvPr/>
        </p:nvSpPr>
        <p:spPr>
          <a:xfrm>
            <a:off x="10789920" y="360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0" y="0"/>
            <a:ext cx="10972440" cy="28494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Rectangle 11"/>
          <p:cNvSpPr/>
          <p:nvPr/>
        </p:nvSpPr>
        <p:spPr>
          <a:xfrm>
            <a:off x="175680" y="7243920"/>
            <a:ext cx="10599480" cy="3506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6949440" y="7259040"/>
            <a:ext cx="365364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65760" y="7265520"/>
            <a:ext cx="429732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Straight Connector 6"/>
          <p:cNvSpPr/>
          <p:nvPr/>
        </p:nvSpPr>
        <p:spPr>
          <a:xfrm>
            <a:off x="186480" y="2742480"/>
            <a:ext cx="10599480" cy="360"/>
          </a:xfrm>
          <a:prstGeom prst="line">
            <a:avLst/>
          </a:prstGeom>
          <a:ln w="11430">
            <a:solidFill>
              <a:srgbClr val="d2da7a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Rectangle 9"/>
          <p:cNvSpPr/>
          <p:nvPr/>
        </p:nvSpPr>
        <p:spPr>
          <a:xfrm>
            <a:off x="182880" y="172800"/>
            <a:ext cx="10599480" cy="7419600"/>
          </a:xfrm>
          <a:prstGeom prst="rect">
            <a:avLst/>
          </a:prstGeom>
          <a:noFill/>
          <a:ln w="9525">
            <a:solidFill>
              <a:srgbClr val="d2da7a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Oval 12"/>
          <p:cNvSpPr/>
          <p:nvPr/>
        </p:nvSpPr>
        <p:spPr>
          <a:xfrm>
            <a:off x="5120640" y="2397240"/>
            <a:ext cx="731160" cy="69048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Oval 13"/>
          <p:cNvSpPr/>
          <p:nvPr/>
        </p:nvSpPr>
        <p:spPr>
          <a:xfrm>
            <a:off x="5234040" y="2504520"/>
            <a:ext cx="504360" cy="47628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d2da7a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5212080" y="2492640"/>
            <a:ext cx="548280" cy="49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a3a95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3D5FB24-434A-43D5-9B6C-9034A8E3D703}" type="slidenum">
              <a:rPr b="0" lang="en-US" sz="1600" spc="-1" strike="noStrike">
                <a:solidFill>
                  <a:srgbClr val="a3a95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822960" y="431640"/>
            <a:ext cx="932652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548640" y="1818720"/>
            <a:ext cx="987516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6"/>
          <p:cNvSpPr/>
          <p:nvPr/>
        </p:nvSpPr>
        <p:spPr>
          <a:xfrm>
            <a:off x="0" y="7599600"/>
            <a:ext cx="10972440" cy="172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0" y="0"/>
            <a:ext cx="10972440" cy="15789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1078992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79280" y="7240320"/>
            <a:ext cx="10599480" cy="3506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82880" y="176040"/>
            <a:ext cx="10599480" cy="7419600"/>
          </a:xfrm>
          <a:prstGeom prst="rect">
            <a:avLst/>
          </a:prstGeom>
          <a:noFill/>
          <a:ln w="9525">
            <a:solidFill>
              <a:srgbClr val="d2da7a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Straight Connector 9"/>
          <p:cNvSpPr/>
          <p:nvPr/>
        </p:nvSpPr>
        <p:spPr>
          <a:xfrm>
            <a:off x="182880" y="1446840"/>
            <a:ext cx="10599480" cy="360"/>
          </a:xfrm>
          <a:prstGeom prst="line">
            <a:avLst/>
          </a:prstGeom>
          <a:ln w="9525">
            <a:solidFill>
              <a:srgbClr val="d2da7a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5120640" y="1083600"/>
            <a:ext cx="731160" cy="69048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5234040" y="1190520"/>
            <a:ext cx="504360" cy="47628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d2da7a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6949440" y="7259040"/>
            <a:ext cx="365364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65760" y="7265520"/>
            <a:ext cx="429732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5234040" y="1163160"/>
            <a:ext cx="548280" cy="49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04BFA51-787F-41A9-A431-5EF0A2A73AAE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9fb8cd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464653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d2da7a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fada7a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b88472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microsoft.com/office/2007/relationships/hdphoto" Target="../media/hdphoto1.wdp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400" y="3083760"/>
            <a:ext cx="1059516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900" spc="-1" strike="noStrike">
                <a:solidFill>
                  <a:schemeClr val="accent2">
                    <a:lumMod val="50000"/>
                  </a:schemeClr>
                </a:solidFill>
                <a:latin typeface="Agency FB"/>
              </a:rPr>
              <a:t>Lecture 2</a:t>
            </a:r>
            <a:br>
              <a:rPr sz="4900"/>
            </a:br>
            <a:r>
              <a:rPr b="1" lang="en-US" sz="4900" spc="-1" strike="noStrike">
                <a:solidFill>
                  <a:schemeClr val="accent2">
                    <a:lumMod val="50000"/>
                  </a:schemeClr>
                </a:solidFill>
                <a:latin typeface="Agency FB"/>
              </a:rPr>
              <a:t>Ordinary Differential Equations</a:t>
            </a:r>
            <a:br>
              <a:rPr sz="4400"/>
            </a:br>
            <a:r>
              <a:rPr b="1" lang="en-US" sz="4000" spc="-1" strike="noStrike">
                <a:solidFill>
                  <a:schemeClr val="accent6">
                    <a:lumMod val="75000"/>
                  </a:schemeClr>
                </a:solidFill>
                <a:latin typeface="Agency FB"/>
              </a:rPr>
              <a:t>fall semester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Title 1"/>
          <p:cNvSpPr/>
          <p:nvPr/>
        </p:nvSpPr>
        <p:spPr>
          <a:xfrm>
            <a:off x="194400" y="354960"/>
            <a:ext cx="1059516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200" spc="-1" strike="noStrike">
                <a:solidFill>
                  <a:schemeClr val="accent4">
                    <a:lumMod val="50000"/>
                  </a:schemeClr>
                </a:solidFill>
                <a:latin typeface="comic"/>
              </a:rPr>
              <a:t>Differential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209520" y="5617080"/>
            <a:ext cx="10595160" cy="16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2000"/>
          </a:bodyPr>
          <a:p>
            <a:pPr>
              <a:lnSpc>
                <a:spcPct val="150000"/>
              </a:lnSpc>
            </a:pP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Agency FB"/>
              </a:rPr>
              <a:t>Instructor: A. S. Brwa / MSc. In Structur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Agency FB"/>
              </a:rPr>
              <a:t>College of Engineering / Ishik Univers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Case Stud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this into mathematics, let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time elapsed (in seconds, s),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temperature of the liquid (), and  the temperature of the liquid at the start (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t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The temperature of the surroundings is denoted by</a:t>
            </a:r>
            <a:r>
              <a:rPr b="1" lang="en-US" sz="32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, we can create a mathematical equation which is equivalent to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ewton’s law of cool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tate the accompanying condition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23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73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4"/>
          <p:cNvSpPr>
            <a:spLocks noGrp="1"/>
          </p:cNvSpPr>
          <p:nvPr>
            <p:ph type="sldNum" idx="2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2227EA3-7DDC-4F83-B6D6-44043E6DFE81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7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Case Stud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find an expression for the rate of cooling, and an expression for the difference between the liquid’s temperature and that of the environment: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25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80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4"/>
          <p:cNvSpPr>
            <a:spLocks noGrp="1"/>
          </p:cNvSpPr>
          <p:nvPr>
            <p:ph type="sldNum" idx="2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8FA4F6A-4605-41A1-BB25-AFEF60E469A7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7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Case Stud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ate of cooling is the rate of change of temperature with time: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temperature difference i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27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87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4"/>
          <p:cNvSpPr>
            <a:spLocks noGrp="1"/>
          </p:cNvSpPr>
          <p:nvPr>
            <p:ph type="sldNum" idx="2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D8DDEF6-ED55-4FE6-B0D9-43B41D53D5ED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7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Case Stud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w formulate Newton’s law of cooling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You should obtain equivalently: dθ dt = −k(θ − θs)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ich is equivalent to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29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94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4"/>
          <p:cNvSpPr>
            <a:spLocks noGrp="1"/>
          </p:cNvSpPr>
          <p:nvPr>
            <p:ph type="sldNum" idx="3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8812BE9-F58B-4725-831A-0DD00E487105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7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7635240" y="6194160"/>
            <a:ext cx="30171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s a positive constant of propor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Case Stud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 ok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resent because  is 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as must b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ince  decreases with time. The units of  are. The accompanying condition i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simply states the temperature of the liquid when the cooling begin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31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02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4"/>
          <p:cNvSpPr>
            <a:spLocks noGrp="1"/>
          </p:cNvSpPr>
          <p:nvPr>
            <p:ph type="sldNum" idx="3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1CBA1EF-6B47-432A-8BAF-C578CACAB1B7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7455600" y="4615920"/>
            <a:ext cx="1455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t =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Case Stud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above Task we call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independent variable and  the dependent variable. Since the condition is given at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t = 0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is is considered as a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itial cond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For future reference, the solution of the above differential equation which satisfies the initial condition i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33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10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4"/>
          <p:cNvSpPr>
            <a:spLocks noGrp="1"/>
          </p:cNvSpPr>
          <p:nvPr>
            <p:ph type="sldNum" idx="3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FA9E920-8248-41B1-8EA9-D8CD936360C2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General Solution of a ODE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The general solution of a OD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equation where A is an arbitrary constant. If we differentiate it we obtai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o, since  we obtai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35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17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4"/>
          <p:cNvSpPr>
            <a:spLocks noGrp="1"/>
          </p:cNvSpPr>
          <p:nvPr>
            <p:ph type="sldNum" idx="3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D39F45A-BB3E-4466-AB1A-A10C78508C5A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6688080" y="3886200"/>
            <a:ext cx="4032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cc3300"/>
                </a:solidFill>
                <a:latin typeface="Georgia"/>
              </a:rPr>
              <a:t>An arbitrary constant is a constant whose value could be assumed to be anything, it doesn't depend on the other variables in an equation or expression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cc3300"/>
                </a:solidFill>
                <a:latin typeface="Georgia"/>
              </a:rPr>
              <a:t>A constant that's not arbitrary can usually just take one value, such as 1, 2, or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General Solution of a ODE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us a differential equation satisfied by </a:t>
            </a: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is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te that we have eliminated the arbitrary constant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37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25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4"/>
          <p:cNvSpPr>
            <a:spLocks noGrp="1"/>
          </p:cNvSpPr>
          <p:nvPr>
            <p:ph type="sldNum" idx="3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39BCDEA-C35D-47C7-BE7C-A1937DD2E7D5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General Solution of a ODE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Now consider the equ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A and B are arbitrary constants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ifferentiate once , we obtain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39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32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4"/>
          <p:cNvSpPr>
            <a:spLocks noGrp="1"/>
          </p:cNvSpPr>
          <p:nvPr>
            <p:ph type="sldNum" idx="4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22A4009-481F-45A2-A7BC-46BBF5D29F9A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General Solution of a ODE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Georgia"/>
              </a:rPr>
              <a:t>Differentiating a second time gives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ight hand side is simply (−9) times the expression for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Hence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atisfies the differential equation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41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39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4"/>
          <p:cNvSpPr>
            <a:spLocks noGrp="1"/>
          </p:cNvSpPr>
          <p:nvPr>
            <p:ph type="sldNum" idx="4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6595B8E-9B30-414A-A8B6-E2EE7B455A1C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Ordinary Differential Equ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Ordinary Differential Equation (ODE)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differential equation containing one or more functions of one independent variable and its derivatives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7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16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4"/>
          <p:cNvSpPr>
            <a:spLocks noGrp="1"/>
          </p:cNvSpPr>
          <p:nvPr>
            <p:ph type="sldNum" idx="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E3317C8-6480-492F-99F8-6A058A608B35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2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General Solution of a ODE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Find a differential equation satisfied by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A and B are arbitrary constant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ifferentiating once we obtai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43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46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4"/>
          <p:cNvSpPr>
            <a:spLocks noGrp="1"/>
          </p:cNvSpPr>
          <p:nvPr>
            <p:ph type="sldNum" idx="4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0390BCC-6DCC-439B-839C-2E7447C4D3D2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General Solution of a ODE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ifferentiating a second time we obtain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45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53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4"/>
          <p:cNvSpPr>
            <a:spLocks noGrp="1"/>
          </p:cNvSpPr>
          <p:nvPr>
            <p:ph type="sldNum" idx="4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C702793-24C8-4F3E-BE6F-37358A3096BE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General Solution of a ODE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seen that an expression including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ne arbitrary const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qui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ne differenti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obtain a differential equation which eliminated the arbitrary constant. Wher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wo consta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re presented,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wo differenti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re required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47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60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4"/>
          <p:cNvSpPr>
            <a:spLocks noGrp="1"/>
          </p:cNvSpPr>
          <p:nvPr>
            <p:ph type="sldNum" idx="4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2162F4B-FE08-42A6-A269-3A8736CD0A89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6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General Solution of a ODE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Integrate twice the differential equation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ere, w and L are constants, to find a general solution for y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Georgia"/>
              </a:rPr>
              <a:t>Integrating once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49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67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4"/>
          <p:cNvSpPr>
            <a:spLocks noGrp="1"/>
          </p:cNvSpPr>
          <p:nvPr>
            <p:ph type="sldNum" idx="5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BDBE5B8-C855-4FC6-8601-7DE62DB03888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Rectangle 2"/>
              <p:cNvSpPr txBox="1"/>
              <p:nvPr/>
            </p:nvSpPr>
            <p:spPr>
              <a:xfrm>
                <a:off x="4006440" y="5511240"/>
                <a:ext cx="4386600" cy="17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𝑑𝑦</m:t>
                        </m:r>
                      </m:num>
                      <m:den>
                        <m:r>
                          <m:t xml:space="preserve">𝑑𝑥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𝑤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𝑙</m:t>
                            </m:r>
                            <m:sSup>
                              <m:e>
                                <m:r>
                                  <m:t xml:space="preserve">𝑥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𝑥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Rectangle 3"/>
          <p:cNvSpPr/>
          <p:nvPr/>
        </p:nvSpPr>
        <p:spPr>
          <a:xfrm>
            <a:off x="7890120" y="5415120"/>
            <a:ext cx="30078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3300"/>
                </a:solidFill>
                <a:latin typeface="Georgia"/>
              </a:rPr>
              <a:t>where A is an arbitrary constant (of integ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General Solution of a ODE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Georgia"/>
              </a:rPr>
              <a:t>Integrating again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Where, B is second arbitrary constant (of integration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ftr" idx="51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76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4"/>
          <p:cNvSpPr>
            <a:spLocks noGrp="1"/>
          </p:cNvSpPr>
          <p:nvPr>
            <p:ph type="sldNum" idx="5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85D1C17-3DCE-440C-93AA-AF09D7EE2787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General Solution of a ODE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Consider the simple differential equ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Georgia"/>
              </a:rPr>
              <a:t>On integrating, we obtain the general solution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here, C is an arbitrary constant. As C varies we get different solutions, each of which belongs to the family of solu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53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83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4"/>
          <p:cNvSpPr>
            <a:spLocks noGrp="1"/>
          </p:cNvSpPr>
          <p:nvPr>
            <p:ph type="sldNum" idx="5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65EFE0F-EABD-4490-8657-CF9E46CC1DE7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1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General Solution of a ODE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Consider the simple differential equ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n integrating, we obtain the general solution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here, C is an arbitrary constant. As C varies we get different solutions, each of which belongs to the family of solu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55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90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4"/>
          <p:cNvSpPr>
            <a:spLocks noGrp="1"/>
          </p:cNvSpPr>
          <p:nvPr>
            <p:ph type="sldNum" idx="5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BF8B936-8102-44E5-916C-971FD13F3C81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-184680" y="0"/>
            <a:ext cx="11157120" cy="787644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2"/>
          <a:srcRect l="28321" t="19699" r="30251" b="21879"/>
          <a:stretch/>
        </p:blipFill>
        <p:spPr>
          <a:xfrm>
            <a:off x="1456200" y="406080"/>
            <a:ext cx="8546040" cy="6053760"/>
          </a:xfrm>
          <a:prstGeom prst="rect">
            <a:avLst/>
          </a:prstGeom>
          <a:ln w="0">
            <a:noFill/>
          </a:ln>
        </p:spPr>
      </p:pic>
      <p:sp>
        <p:nvSpPr>
          <p:cNvPr id="295" name="TextBox 2"/>
          <p:cNvSpPr/>
          <p:nvPr/>
        </p:nvSpPr>
        <p:spPr>
          <a:xfrm>
            <a:off x="3425400" y="6608160"/>
            <a:ext cx="460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ws different values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Home Work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Find differential equations satisfied b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1206360" indent="-51444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Georgia"/>
              <a:buAutoNum type="arabicPeriod"/>
            </a:pPr>
            <a:r>
              <a:rPr b="0" lang="es-ES" sz="32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1206360" indent="-51444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Georgia"/>
              <a:buAutoNum type="arabicPeriod"/>
            </a:pPr>
            <a:r>
              <a:rPr b="0" lang="es-ES" sz="32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Solve the differential equation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57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300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4"/>
          <p:cNvSpPr>
            <a:spLocks noGrp="1"/>
          </p:cNvSpPr>
          <p:nvPr>
            <p:ph type="sldNum" idx="5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4BA7FEF-795D-4DD6-ABA9-E41D74189F5B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Learning Outcom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Understand the use of differential equations in modelling engineering systems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dentify the order and type of a differential equation recognize the nature of a general solution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etermine the nature of the appropriate additional conditions which will give a unique solution to the equation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9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23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4"/>
          <p:cNvSpPr>
            <a:spLocks noGrp="1"/>
          </p:cNvSpPr>
          <p:nvPr>
            <p:ph type="sldNum" idx="1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E2953B4-E257-4257-9A54-4D009C25FC94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3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Ordinary Differential Equ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ate of Chang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ate of change is a rate that describes how one quantity changes in relation to another quantity. If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 and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depend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, th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ates of change can be positive or negative. This corresponds to an increase or decrease in the y –value between the two data points. When a quantity does not change over time, it is called zero rate of chang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30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787DEC0-A126-4BF1-8232-B28DE025C542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4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Ordinary Differential Equ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models of engineering systems involve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ate of 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quantity. There is thus a need to incorporate derivatives into the mathematical model. These mathematical models are examples of differential equations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3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37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4"/>
          <p:cNvSpPr>
            <a:spLocks noGrp="1"/>
          </p:cNvSpPr>
          <p:nvPr>
            <p:ph type="sldNum" idx="1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05BCD15-5282-48AB-B378-11BD0A850BA5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5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Ordinary Differential Equ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mpanying the differential equation will be one or more conditions that let us obtain a unique solution to a particular problem. Often we solve the differential equation first to obtain a general solution; then we apply the conditions to obtain the unique solution. It is important to know which conditions must be specified in order to obtain a unique solution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5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44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4"/>
          <p:cNvSpPr>
            <a:spLocks noGrp="1"/>
          </p:cNvSpPr>
          <p:nvPr>
            <p:ph type="sldNum" idx="1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18E3035-F46F-4DB4-A72B-02B46CB2B1CF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Case Stud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Newton’s law of cooling as an example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en a hot liquid is placed in a cooler environment, experimental observation shows that its temperature decreases to approximately that of its surroundings. A typical graph of the temperature of the liquid plotted against time is shown in Figure 1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7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51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4"/>
          <p:cNvSpPr>
            <a:spLocks noGrp="1"/>
          </p:cNvSpPr>
          <p:nvPr>
            <p:ph type="sldNum" idx="1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F89E70B-6907-4790-A055-BAD586AF29A7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7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ftr" idx="19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1</a:t>
            </a:r>
            <a:r>
              <a:rPr b="1" lang="en-US" sz="1400" spc="-1" strike="noStrike" baseline="30000">
                <a:solidFill>
                  <a:srgbClr val="cc0066"/>
                </a:solidFill>
                <a:latin typeface="Georgia"/>
              </a:rPr>
              <a:t>st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Order 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56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sldNum" idx="2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BEC5F63-9AB9-4A42-BD6B-07EC9E2DCE99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7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-184680" y="0"/>
            <a:ext cx="11157120" cy="787644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harpenSoften amount="25000"/>
                    </a14:imgEffect>
                  </a14:imgLayer>
                </a14:imgProps>
              </a:ext>
            </a:extLst>
          </a:blip>
          <a:srcRect l="21654" t="35268" r="23548" b="9460"/>
          <a:stretch/>
        </p:blipFill>
        <p:spPr>
          <a:xfrm>
            <a:off x="607680" y="1071000"/>
            <a:ext cx="96012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Case Stud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n initially rapid decrease the temperature changes progressively less rapidly and eventually the curve appears to ‘flatten out’.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ewton’s law of cool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s that the rate of cooling of liquid is proportional to the difference between its temperature and the temperature of its environment (the ambient temperature)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21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2 – Ordinary Differential Equ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66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4"/>
          <p:cNvSpPr>
            <a:spLocks noGrp="1"/>
          </p:cNvSpPr>
          <p:nvPr>
            <p:ph type="sldNum" idx="2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F83DB45-8904-47D1-8490-9D6254ED198C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7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Civic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2929</TotalTime>
  <Application>LibreOffice/7.4.7.2$Linux_X86_64 LibreOffice_project/40$Build-2</Application>
  <AppVersion>15.0000</AppVersion>
  <Words>1908</Words>
  <Paragraphs>194</Paragraphs>
  <Company>University of Notre Da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6T20:27:33Z</dcterms:created>
  <dc:creator>Diogo Bolster</dc:creator>
  <dc:description/>
  <dc:language>en-US</dc:language>
  <cp:lastModifiedBy>DR.Ahmed Saker 2o1O</cp:lastModifiedBy>
  <dcterms:modified xsi:type="dcterms:W3CDTF">2018-10-21T00:30:01Z</dcterms:modified>
  <cp:revision>1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Custom</vt:lpwstr>
  </property>
  <property fmtid="{D5CDD505-2E9C-101B-9397-08002B2CF9AE}" pid="3" name="Slides">
    <vt:r8>27</vt:r8>
  </property>
</Properties>
</file>