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245A-4D2F-4F7F-9A79-F11CD088C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8332-F5F0-4D3C-B91D-C62D869D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5D84-6607-4C84-B813-3E45AEDE0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1E74-9822-48BE-AE41-AB5A629DB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3C15-C878-434C-8494-589331553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1E63-B734-498B-A062-EA5051C7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D517-3DE0-481A-996E-B42C47FB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F069-C74E-4DA6-A223-3358E85C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8060-FAE9-407F-9434-A4A023D8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AAF7-DC3A-475D-B1E5-C3DD795C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AAF7-F27C-438E-A136-89A96507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2211-C70B-4793-91D5-58BB79DC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72A2-5018-40D1-8A2C-7B22328A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8B87-6D25-49F0-A042-E133DC4C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EC20-7FCE-45E4-9DAA-6A0E6404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FF4F-D55A-4344-8CD4-ACE3E6656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3B2C-1D2C-4C96-9B21-9A59C2D8F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FB46-9B51-4F53-8226-901140E2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947F-E498-41C8-BB9A-59929D33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C9BA-C412-44E5-A70D-13886525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3C19-F421-497A-B5E6-D2A9CD6F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185F-518D-410D-BADB-1918BCE7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EEF1-B177-4C30-84E7-A5DF2554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818E-0229-41F1-8BDB-E02F34D3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" name="Group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Free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" name="Free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5600" spc="-1" strike="noStrike">
                <a:solidFill>
                  <a:srgbClr val="50e0ea"/>
                </a:solidFill>
                <a:latin typeface="Calibri"/>
              </a:rPr>
              <a:t>Click to edit Master title style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0E97862-93DE-4E7A-B0B8-C9D5D2E4D802}" type="slidenum"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Free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Free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Free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Master title style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hird leve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154372-95CE-48CC-AC44-05BD2082FEC7}" type="slidenum"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0" y="615960"/>
            <a:ext cx="9143640" cy="5577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Different methods for concentration 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Mo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The mole (mol) is a fundamental unit describing the amount of chemical species. It is always associated with the chemical formula and represented one Avogadro's number   (6.02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) of atom, ions, molecules or element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No. of moles (A) = No. of (A) / Avogadro's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No. of moles 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= No. of (A) / 6.02 ×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No. of (A)            = No. of moles (A)   ×   6.02 ×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3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A= atoms, molecules, ions or electr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753480" y="6031080"/>
            <a:ext cx="7691040" cy="82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No. of moles = weight (g)/ Molecular weight (g/m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Weight (g) =No. of moles × Molecular weight (g/m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457200" y="1089000"/>
            <a:ext cx="8610120" cy="5225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Ex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Calculate the molar concentration of potassium dichromate (K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Cr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) in a solution that contains 16.5 g/L (K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Cr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How many moles of K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Cr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will be present in 150 ml of the sol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At.wt: (K=39, Cr=52, O=16)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76320" y="1297080"/>
            <a:ext cx="8915040" cy="395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M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09680" y="3390840"/>
            <a:ext cx="2943000" cy="95220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-58320" y="1957680"/>
            <a:ext cx="2506680" cy="815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Wt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(g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x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-109440" y="2489400"/>
            <a:ext cx="2520360" cy="450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(ml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x M.W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30240" y="3405600"/>
            <a:ext cx="3386160" cy="815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M x V</a:t>
            </a:r>
            <a:r>
              <a:rPr b="1" lang="en-US" sz="20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(ml)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 x M.W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3"/>
          <p:cNvSpPr/>
          <p:nvPr/>
        </p:nvSpPr>
        <p:spPr>
          <a:xfrm>
            <a:off x="1400040" y="3886200"/>
            <a:ext cx="1800000" cy="360"/>
          </a:xfrm>
          <a:prstGeom prst="straightConnector1">
            <a:avLst/>
          </a:prstGeom>
          <a:noFill/>
          <a:ln w="158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tIns="360" bIns="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491040" y="3633840"/>
            <a:ext cx="2186280" cy="754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Wt</a:t>
            </a:r>
            <a:r>
              <a:rPr b="1" lang="en-US" sz="20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(g)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 =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6"/>
          <p:cNvSpPr/>
          <p:nvPr/>
        </p:nvSpPr>
        <p:spPr>
          <a:xfrm>
            <a:off x="304920" y="4628880"/>
            <a:ext cx="8610120" cy="118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This equation is very important in analytical chemistry especially in preparation of solutions from solid substa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"/>
          <p:cNvGrpSpPr/>
          <p:nvPr/>
        </p:nvGrpSpPr>
        <p:grpSpPr>
          <a:xfrm>
            <a:off x="204120" y="1043280"/>
            <a:ext cx="6936840" cy="1897560"/>
            <a:chOff x="204120" y="1043280"/>
            <a:chExt cx="6936840" cy="1897560"/>
          </a:xfrm>
        </p:grpSpPr>
        <p:sp>
          <p:nvSpPr>
            <p:cNvPr id="115" name="AutoShape 2"/>
            <p:cNvSpPr/>
            <p:nvPr/>
          </p:nvSpPr>
          <p:spPr>
            <a:xfrm>
              <a:off x="666720" y="1523880"/>
              <a:ext cx="1161720" cy="360"/>
            </a:xfrm>
            <a:prstGeom prst="straightConnector1">
              <a:avLst/>
            </a:prstGeom>
            <a:noFill/>
            <a:ln w="158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16" name="AutoShape 3"/>
            <p:cNvSpPr/>
            <p:nvPr/>
          </p:nvSpPr>
          <p:spPr>
            <a:xfrm>
              <a:off x="2743200" y="1523880"/>
              <a:ext cx="1161720" cy="360"/>
            </a:xfrm>
            <a:prstGeom prst="straightConnector1">
              <a:avLst/>
            </a:prstGeom>
            <a:noFill/>
            <a:ln w="158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559800" y="1043280"/>
              <a:ext cx="3746880" cy="815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No. of mole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       Wt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Times New Roman"/>
                  <a:ea typeface="Calibri"/>
                </a:rPr>
                <a:t>(g)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/M.W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"/>
            <p:cNvSpPr/>
            <p:nvPr/>
          </p:nvSpPr>
          <p:spPr>
            <a:xfrm>
              <a:off x="936720" y="1600200"/>
              <a:ext cx="345168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V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Constantia"/>
                </a:rPr>
                <a:t>(L)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Constantia"/>
                </a:rPr>
                <a:t>	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Constantia"/>
                </a:rPr>
                <a:t>	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    V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Constantia"/>
                </a:rPr>
                <a:t>(ml)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/1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8"/>
            <p:cNvSpPr/>
            <p:nvPr/>
          </p:nvSpPr>
          <p:spPr>
            <a:xfrm>
              <a:off x="2629080" y="2362320"/>
              <a:ext cx="571320" cy="360"/>
            </a:xfrm>
            <a:prstGeom prst="straightConnector1">
              <a:avLst/>
            </a:prstGeom>
            <a:noFill/>
            <a:ln w="9525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20" name="AutoShape 9"/>
            <p:cNvSpPr/>
            <p:nvPr/>
          </p:nvSpPr>
          <p:spPr>
            <a:xfrm>
              <a:off x="2629080" y="2438280"/>
              <a:ext cx="571320" cy="360"/>
            </a:xfrm>
            <a:prstGeom prst="straightConnector1">
              <a:avLst/>
            </a:prstGeom>
            <a:noFill/>
            <a:ln w="9525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21" name="Rectangle 11"/>
            <p:cNvSpPr/>
            <p:nvPr/>
          </p:nvSpPr>
          <p:spPr>
            <a:xfrm>
              <a:off x="204120" y="2185920"/>
              <a:ext cx="6936840" cy="754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anchor="ctr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M =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                      Wt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Times New Roman"/>
                  <a:ea typeface="Calibri"/>
                </a:rPr>
                <a:t>(g)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x 1000 = M x V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Times New Roman"/>
                  <a:ea typeface="Calibri"/>
                </a:rPr>
                <a:t>(ml)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x M.Wt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2" name="Straight Connector 18"/>
            <p:cNvCxnSpPr/>
            <p:nvPr/>
          </p:nvCxnSpPr>
          <p:spPr>
            <a:xfrm>
              <a:off x="761760" y="2438280"/>
              <a:ext cx="1676880" cy="1800"/>
            </a:xfrm>
            <a:prstGeom prst="straightConnector1">
              <a:avLst/>
            </a:prstGeom>
            <a:ln w="19050">
              <a:solidFill>
                <a:srgbClr val="000000"/>
              </a:solidFill>
              <a:round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304920" y="882720"/>
            <a:ext cx="8686440" cy="510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1- Preparation of solutions fro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Soli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comp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Prepare 2 liter of 0.1M N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CO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from the solid materi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What is needed to solve this example…..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Request: how much weighing from the solid material (N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)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By another word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How much gram we needed to weighing from N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and dissolving in 2 liter of water to obtaining 0.1M N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304920" y="477360"/>
            <a:ext cx="8762760" cy="2051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0.1M = 0.1 mole N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in one liter of sol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= 0.1 x 2 = 0.2 mole N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in 2liter of solution. (Because we want 2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2466000" y="2442240"/>
            <a:ext cx="1186560" cy="82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Wt. (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 flipV="1">
            <a:off x="2819520" y="3047400"/>
            <a:ext cx="1066320" cy="9000"/>
          </a:xfrm>
          <a:prstGeom prst="straightConnector1">
            <a:avLst/>
          </a:prstGeom>
          <a:noFill/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422280" y="2823480"/>
            <a:ext cx="3201480" cy="82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no. of mole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M.W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304920" y="3708360"/>
            <a:ext cx="8610120" cy="2051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Wt. (g) = no. of mole x M.W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Wt. of N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(g) = 0.2 x [(2x23) + (1x12) + (3x16)] = 21.2 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which is required to dissolved in 2 liter of water to obtain 0.1M N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in this volume (2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"/>
          <p:cNvSpPr/>
          <p:nvPr/>
        </p:nvSpPr>
        <p:spPr>
          <a:xfrm flipV="1">
            <a:off x="1209600" y="2163960"/>
            <a:ext cx="2371320" cy="45360"/>
          </a:xfrm>
          <a:prstGeom prst="straightConnector1">
            <a:avLst/>
          </a:prstGeom>
          <a:noFill/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tIns="22680" bIns="22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AutoShape 1"/>
          <p:cNvSpPr/>
          <p:nvPr/>
        </p:nvSpPr>
        <p:spPr>
          <a:xfrm flipV="1">
            <a:off x="4114800" y="2163960"/>
            <a:ext cx="2437920" cy="45360"/>
          </a:xfrm>
          <a:prstGeom prst="straightConnector1">
            <a:avLst/>
          </a:prstGeom>
          <a:noFill/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tIns="22680" bIns="22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-152280" y="736920"/>
            <a:ext cx="8762760" cy="1619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M x 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(m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x M.W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0.1 x 2000 x 1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52280" y="1926720"/>
            <a:ext cx="8457840" cy="2417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W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(g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= 21.2 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1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(21.2 g) which is required to dissolved in 2 liter of water to obtain 0.1M N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in this volume (2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"/>
          <p:cNvSpPr/>
          <p:nvPr/>
        </p:nvSpPr>
        <p:spPr>
          <a:xfrm>
            <a:off x="304920" y="609120"/>
            <a:ext cx="8610120" cy="4896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Prepare 0.1M of NaCl in 250ml volu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Question requirement was how many grams of solid NaCl was required to prepare a solution of this salt in 250ml volu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A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0.1M = 0.1 mole NaCl in 1L of sol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= 0.1 x (250/1000) = 0.025 mole NaCl in 250ml of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W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(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No. of mole =                                   Wt = No.of mole x M.W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M.W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Straight Connector 3"/>
          <p:cNvCxnSpPr/>
          <p:nvPr/>
        </p:nvCxnSpPr>
        <p:spPr>
          <a:xfrm>
            <a:off x="2361960" y="4495680"/>
            <a:ext cx="838800" cy="1800"/>
          </a:xfrm>
          <a:prstGeom prst="straightConnector1">
            <a:avLst/>
          </a:prstGeom>
          <a:ln w="22225">
            <a:solidFill>
              <a:srgbClr val="000000"/>
            </a:solidFill>
            <a:round/>
          </a:ln>
        </p:spPr>
      </p:cxnSp>
      <p:sp>
        <p:nvSpPr>
          <p:cNvPr id="135" name="Right Arrow 4"/>
          <p:cNvSpPr/>
          <p:nvPr/>
        </p:nvSpPr>
        <p:spPr>
          <a:xfrm>
            <a:off x="3809880" y="4419720"/>
            <a:ext cx="1066320" cy="228240"/>
          </a:xfrm>
          <a:prstGeom prst="rightArrow">
            <a:avLst>
              <a:gd name="adj1" fmla="val 50000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304920" y="5208120"/>
            <a:ext cx="8534160" cy="1553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Wt. of NaCl (g) = 0.025 x [(1x23) + (1x35.5)] = 1.4625 g NaC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is required to dissolved in 250ml of water to obtain 0.1M Na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438480" y="812880"/>
            <a:ext cx="5671440" cy="1619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M x 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(m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x M.Wt        0.1 x 250 x 58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152280" y="1742760"/>
            <a:ext cx="8534160" cy="271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W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(g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= 1.4625 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1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(1.4625g NaCl) is required to dissolved in 250ml of water to obtain 0.1M Na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Straight Connector 6"/>
          <p:cNvCxnSpPr/>
          <p:nvPr/>
        </p:nvCxnSpPr>
        <p:spPr>
          <a:xfrm>
            <a:off x="1218960" y="2133360"/>
            <a:ext cx="2210400" cy="2160"/>
          </a:xfrm>
          <a:prstGeom prst="straightConnector1">
            <a:avLst/>
          </a:prstGeom>
          <a:ln w="22225">
            <a:solidFill>
              <a:srgbClr val="000000"/>
            </a:solidFill>
            <a:round/>
          </a:ln>
        </p:spPr>
      </p:cxnSp>
      <p:cxnSp>
        <p:nvCxnSpPr>
          <p:cNvPr id="140" name="Straight Connector 7"/>
          <p:cNvCxnSpPr/>
          <p:nvPr/>
        </p:nvCxnSpPr>
        <p:spPr>
          <a:xfrm>
            <a:off x="4038480" y="2133360"/>
            <a:ext cx="2210040" cy="2160"/>
          </a:xfrm>
          <a:prstGeom prst="straightConnector1">
            <a:avLst/>
          </a:prstGeom>
          <a:ln w="22225"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"/>
          <p:cNvSpPr/>
          <p:nvPr/>
        </p:nvSpPr>
        <p:spPr>
          <a:xfrm>
            <a:off x="304920" y="834480"/>
            <a:ext cx="8686440" cy="5873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Q/ Explain how we can prepare each of the following solutions from pure solid substanc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1- Prepare 0.2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BaCl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.2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in 500m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2- Prepare 0.03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CaCl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in 1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3- Prepare 1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Cu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.5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in 100m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(At.Wt: Ba=137, Cl=35.5, H=1, O=16, Ca=40, Cu=63.5, S=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"/>
          <p:cNvSpPr/>
          <p:nvPr/>
        </p:nvSpPr>
        <p:spPr>
          <a:xfrm>
            <a:off x="493200" y="775080"/>
            <a:ext cx="6208560" cy="118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Prepare 0.25M C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in 250ml from NaCl sa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380880" y="784440"/>
            <a:ext cx="8686440" cy="5225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Prepare 2 liter of 0.1M 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from  N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CO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pure solid materi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What is needed to solve this example…..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Request: how mush weighing (N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) by grams to dissolved in 2 liter to obtain solution contained 0.1M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0" y="1160280"/>
            <a:ext cx="9143640" cy="4977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The Molecular weight (M.W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Is the summation of the atomic weights of all the atoms appearing in the chemical formula of a sub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e.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M.wt of methane C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=1× atomic weight of C + 4 × atomic weight of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= 1 × 12 + 4 ×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= 16 g/m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M.wt of ethanol 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OH = 2 × 12 + 6 × 1 + 1 ×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= 46 g/m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419400" y="955440"/>
            <a:ext cx="7526880" cy="52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Q/ Prepare 0.25M C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in 250ml from BaCl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.2H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O sa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"/>
          <p:cNvSpPr/>
          <p:nvPr/>
        </p:nvSpPr>
        <p:spPr>
          <a:xfrm>
            <a:off x="304920" y="830160"/>
            <a:ext cx="8610120" cy="5577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2- Preparation of solutions fro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Liqu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28600" algn="just">
              <a:lnSpc>
                <a:spcPct val="150000"/>
              </a:lnSpc>
              <a:buClr>
                <a:srgbClr val="000000"/>
              </a:buClr>
              <a:buFont typeface="StarSymbol"/>
              <a:buAutoNum type="alphaLcParenR"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Preparation of solutions from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unknown concentration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of liquid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This process was done by two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The first step must be calculated molar concentration of concentrated solution (bott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304920" y="645480"/>
            <a:ext cx="8686440" cy="5343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Q/ Calculate H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PO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molarity in the bottle from the inform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Specific gravity = 1.6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Percentage = 8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A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Must be convert (g/ml) to (mol/L) because we want mola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Density = 1.696 g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= 1.696 x 1000 = 1696 g/L this is when the percentage  of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P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was 100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But the percentage was 8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1696 x (85/100) = 1441.6 g/L for this solution (bott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"/>
          <p:cNvSpPr/>
          <p:nvPr/>
        </p:nvSpPr>
        <p:spPr>
          <a:xfrm>
            <a:off x="442440" y="591480"/>
            <a:ext cx="8134560" cy="396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Wt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Arial"/>
                <a:ea typeface="Calibri"/>
              </a:rPr>
              <a:t>(g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/M.W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      g /M.W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M =                     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  <a:ea typeface="Calibri"/>
              </a:rPr>
              <a:t>(L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                     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144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M.Wt of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= 98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M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= 14.7 mol/L (M) (molar concentration of the concent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acid 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) in the bott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3"/>
          <p:cNvCxnSpPr/>
          <p:nvPr/>
        </p:nvCxnSpPr>
        <p:spPr>
          <a:xfrm>
            <a:off x="1143000" y="1295280"/>
            <a:ext cx="1752840" cy="1800"/>
          </a:xfrm>
          <a:prstGeom prst="straightConnector1">
            <a:avLst/>
          </a:prstGeom>
          <a:ln w="25400">
            <a:solidFill>
              <a:srgbClr val="ff0000"/>
            </a:solidFill>
            <a:round/>
          </a:ln>
        </p:spPr>
      </p:cxnSp>
      <p:cxnSp>
        <p:nvCxnSpPr>
          <p:cNvPr id="149" name="Straight Connector 4"/>
          <p:cNvCxnSpPr/>
          <p:nvPr/>
        </p:nvCxnSpPr>
        <p:spPr>
          <a:xfrm>
            <a:off x="3504960" y="1295280"/>
            <a:ext cx="1753200" cy="1800"/>
          </a:xfrm>
          <a:prstGeom prst="straightConnector1">
            <a:avLst/>
          </a:prstGeom>
          <a:ln w="25400">
            <a:solidFill>
              <a:srgbClr val="ff0000"/>
            </a:solidFill>
            <a:round/>
          </a:ln>
        </p:spPr>
      </p:cxnSp>
      <p:cxnSp>
        <p:nvCxnSpPr>
          <p:cNvPr id="150" name="Straight Connector 6"/>
          <p:cNvCxnSpPr/>
          <p:nvPr/>
        </p:nvCxnSpPr>
        <p:spPr>
          <a:xfrm>
            <a:off x="1143000" y="2743200"/>
            <a:ext cx="1143360" cy="180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Rectangle 1"/>
          <p:cNvSpPr/>
          <p:nvPr/>
        </p:nvSpPr>
        <p:spPr>
          <a:xfrm>
            <a:off x="457200" y="1523880"/>
            <a:ext cx="3580920" cy="129492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152280" y="847440"/>
            <a:ext cx="8686440" cy="1919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There is another way to solve this exampl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(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ea typeface="Calibri"/>
              </a:rPr>
              <a:t>fast way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Sp.gr. x % x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M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M.W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Straight Connector 4"/>
          <p:cNvCxnSpPr/>
          <p:nvPr/>
        </p:nvCxnSpPr>
        <p:spPr>
          <a:xfrm>
            <a:off x="1218960" y="2131920"/>
            <a:ext cx="2667600" cy="1800"/>
          </a:xfrm>
          <a:prstGeom prst="straightConnector1">
            <a:avLst/>
          </a:prstGeom>
          <a:ln w="25400">
            <a:solidFill>
              <a:srgbClr val="ff0000"/>
            </a:solidFill>
            <a:round/>
          </a:ln>
        </p:spPr>
      </p:cxnSp>
      <p:sp>
        <p:nvSpPr>
          <p:cNvPr id="155" name="Rectangle 4"/>
          <p:cNvSpPr/>
          <p:nvPr/>
        </p:nvSpPr>
        <p:spPr>
          <a:xfrm>
            <a:off x="335160" y="3220560"/>
            <a:ext cx="6537600" cy="265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For the above example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1.696 x (85/100) x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M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98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= 14.7 mol/L (M) the same result.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Straight Connector 7"/>
          <p:cNvCxnSpPr/>
          <p:nvPr/>
        </p:nvCxnSpPr>
        <p:spPr>
          <a:xfrm>
            <a:off x="1143000" y="4570200"/>
            <a:ext cx="3505320" cy="216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AutoShape 1"/>
          <p:cNvSpPr/>
          <p:nvPr/>
        </p:nvSpPr>
        <p:spPr>
          <a:xfrm flipV="1">
            <a:off x="1590840" y="2818800"/>
            <a:ext cx="313920" cy="914040"/>
          </a:xfrm>
          <a:prstGeom prst="straightConnector1">
            <a:avLst/>
          </a:prstGeom>
          <a:noFill/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AutoShape 4"/>
          <p:cNvSpPr/>
          <p:nvPr/>
        </p:nvSpPr>
        <p:spPr>
          <a:xfrm flipH="1" flipV="1">
            <a:off x="4876200" y="2894760"/>
            <a:ext cx="533160" cy="828360"/>
          </a:xfrm>
          <a:prstGeom prst="straightConnector1">
            <a:avLst/>
          </a:prstGeom>
          <a:noFill/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AutoShape 3"/>
          <p:cNvSpPr/>
          <p:nvPr/>
        </p:nvSpPr>
        <p:spPr>
          <a:xfrm flipH="1" flipV="1">
            <a:off x="5409360" y="2895480"/>
            <a:ext cx="380520" cy="761760"/>
          </a:xfrm>
          <a:prstGeom prst="straightConnector1">
            <a:avLst/>
          </a:prstGeom>
          <a:noFill/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AutoShape 2"/>
          <p:cNvSpPr/>
          <p:nvPr/>
        </p:nvSpPr>
        <p:spPr>
          <a:xfrm flipH="1" flipV="1">
            <a:off x="2513880" y="2894760"/>
            <a:ext cx="533160" cy="837720"/>
          </a:xfrm>
          <a:prstGeom prst="straightConnector1">
            <a:avLst/>
          </a:prstGeom>
          <a:noFill/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1324080" y="2286000"/>
            <a:ext cx="5304960" cy="7138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304920" y="577080"/>
            <a:ext cx="8610120" cy="1736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The second step dilution process must be done by this re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4022640" y="381600"/>
            <a:ext cx="1098360" cy="608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609480" y="2332440"/>
            <a:ext cx="8610120" cy="1813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(M</a:t>
            </a:r>
            <a:r>
              <a:rPr b="1" lang="en-US" sz="28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V</a:t>
            </a:r>
            <a:r>
              <a:rPr b="1" lang="en-US" sz="28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)</a:t>
            </a:r>
            <a:r>
              <a:rPr b="1" lang="en-US" sz="28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concentrate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= (M</a:t>
            </a:r>
            <a:r>
              <a:rPr b="1" lang="en-US" sz="28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V</a:t>
            </a:r>
            <a:r>
              <a:rPr b="1" lang="en-US" sz="28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)</a:t>
            </a:r>
            <a:r>
              <a:rPr b="1" lang="en-US" sz="28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dil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From first ste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unknow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"/>
          <p:cNvSpPr/>
          <p:nvPr/>
        </p:nvSpPr>
        <p:spPr>
          <a:xfrm>
            <a:off x="304920" y="1751400"/>
            <a:ext cx="8610120" cy="4029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Ex: Prepare 500ml (6M) from the concentrated H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PO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Sp.gr. = 1.696 , percentage = %85 , At.Wt: P=31 , O=1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A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first ste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must be calculate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molar concent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of concentrated solution (bott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"/>
          <p:cNvSpPr/>
          <p:nvPr/>
        </p:nvSpPr>
        <p:spPr>
          <a:xfrm>
            <a:off x="0" y="349200"/>
            <a:ext cx="9143640" cy="715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Calibri"/>
              </a:rPr>
              <a:t>The second step: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Calibri"/>
              </a:rPr>
              <a:t> (dilu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(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concentra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= (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dil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(14.7 x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) = (6 x 5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= (6x500)/14.7 = 204.1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This is meaning we take 204.1 ml from the concentrated solution (bottle) and diluted to 500 ml with distilled water to obtain 6M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228600" y="1390320"/>
            <a:ext cx="8457840" cy="193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Ex: Prepare 250ml of 2M HNO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from the concentrated solution. The information on the bottle:percentage = 69%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, specific gravity 1.42, M.Wt= 63 g/m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533520" y="1570320"/>
            <a:ext cx="8457840" cy="4479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Millimole (mmol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Some times it is more convenient to make calculations with millimoles rather than m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1 mol = 1000 mmol  or 1 mmol = 1/1000 mol =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No. of mmol = (weight (gm) / M.Wt.) x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609480" y="1735560"/>
            <a:ext cx="8381520" cy="118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Ex 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How many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ions are contained in 5.0 moles of sodium 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457200" y="1069200"/>
            <a:ext cx="8534160" cy="2932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Ex 2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How many moles of glucose (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) are contained in 36 gm of the pure suga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If you know that: Atomic weight (At.wt): [H=1, C=12, O=16]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457200" y="1296360"/>
            <a:ext cx="8610120" cy="2482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Ex 3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How many millimoles are contain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6.75 g of A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232 mg of N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S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457200" y="800280"/>
            <a:ext cx="8610120" cy="1553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Molarity [Molar concentration (M)]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Number of moles of solute in one liter of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Object 1"/>
          <p:cNvGraphicFramePr/>
          <p:nvPr/>
        </p:nvGraphicFramePr>
        <p:xfrm>
          <a:off x="3441600" y="2197800"/>
          <a:ext cx="1358640" cy="77364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0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1600" y="2197800"/>
                    <a:ext cx="1358640" cy="7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Rectangle 3"/>
          <p:cNvSpPr/>
          <p:nvPr/>
        </p:nvSpPr>
        <p:spPr>
          <a:xfrm>
            <a:off x="457200" y="2407680"/>
            <a:ext cx="8534160" cy="3016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M = No. of moles / volume(L) = No.of mmoles/volume (m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No. of moles = M × V (L)    or    No. of mmoles = M × V (m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No. of moles = Wt. of solute (g) /M.Wt (g/mo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457200" y="1054440"/>
            <a:ext cx="8534160" cy="5225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Ex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Calculate the molarity of a species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a) An aqueous solution that contains 2.3 g of ethanol     (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OH) in 2.00L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b) An aqueous solution that contains 285mg of trichloroacetic acid (C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CCOOH) in 10 m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Atomic weight (At.wt): [H=1, C=12, Cl=35.5, O=16] g/m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380880" y="1208160"/>
            <a:ext cx="8610120" cy="2285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Ex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An analyst wishes to add 120 mg NaOH base to dissolve an organic acid sample using a 0.248M NaOH solution. How many milliliters of NaOH solution should be added to the organic acid?     At.wt: (Na =23, O =16, H =1)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Flow">
  <a:themeElements>
    <a:clrScheme name="Flow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Flow">
  <a:themeElements>
    <a:clrScheme name="Flow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88</TotalTime>
  <Application>LibreOffice/7.4.7.2$Linux_X86_64 LibreOffice_project/40$Build-2</Application>
  <AppVersion>15.0000</AppVersion>
  <Words>1222</Words>
  <Paragraphs>20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08:57:19Z</dcterms:created>
  <dc:creator>hunar</dc:creator>
  <dc:description/>
  <dc:language>en-US</dc:language>
  <cp:lastModifiedBy>Wrea</cp:lastModifiedBy>
  <dcterms:modified xsi:type="dcterms:W3CDTF">2018-12-03T18:32:29Z</dcterms:modified>
  <cp:revision>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28</vt:r8>
  </property>
</Properties>
</file>