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A25-A5DB-4087-8C47-D608F51B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574-7373-4741-A1C2-D5C9823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1CC-105A-4DE9-9175-DB8F7183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316-6164-4085-9DD6-D2BA30FB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4435-CF9D-45BC-B581-7F006C39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A5B9-44BD-44A6-86FE-6D9F3979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43CB-358D-48A2-920F-30AB126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6448-2D84-4B5B-A33C-75249D7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4A8B-D10B-4EF4-B93D-1375C826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C293-A7E9-42CE-A823-5E94989F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965E-35A4-481B-A89F-3D233241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BD8-E837-43C2-8D3E-BFF82824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DD38-F809-4F7F-BBB5-02AB4FF6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B080-A65E-4476-ABD6-8A031F17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5A60-36B0-48CB-815D-7C6C2AFE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12FB-91D5-45B4-A805-F9CC70FE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0DD6-A1E9-46B5-A497-39CBE4BA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024-BC84-4762-B9EC-3F1D9BFF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287-FA78-4D75-AFC7-6C243051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4C1-AD62-4FDD-B656-62539542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D6C-2916-488A-B070-12DD931C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654-E314-4F94-B764-3AA85F22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813-BEC4-4F4A-8D24-12A9712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49A-9FD0-4471-9434-499C2CB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41D005-2DF1-4ABE-9504-C901EB8DE372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64375D-25F0-440F-B420-B6AD6B6F73C8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0" y="615960"/>
            <a:ext cx="914364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Different methods for concentration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o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The mole (mol) is a fundamental unit describing the amount of chemical species. It is always associated with the chemical formula and represented one Avogadro's number   (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of atom, ions, molecules or elemen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(A) = No. of (A) / Avogadro's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No. of (A) / 6.02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(A)            = No. of moles (A)   ×   6.02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= atoms, molecules, ions or elect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753480" y="6031080"/>
            <a:ext cx="76910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= weight (g)/ Molecular weight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eight (g) =No. of moles × Molecular weight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457200" y="1089000"/>
            <a:ext cx="8610120" cy="52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alculate the molar concentration of potassium dichromate (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in a solution that contains 16.5 g/L (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How many moles of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ill be present in 150 ml of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t.wt: (K=39, Cr=52, O=16)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76320" y="1297080"/>
            <a:ext cx="8915040" cy="39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09680" y="3390840"/>
            <a:ext cx="2943000" cy="9522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-58320" y="1957680"/>
            <a:ext cx="2506680" cy="81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t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g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x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-109440" y="2489400"/>
            <a:ext cx="252036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ml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x M.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0240" y="3405600"/>
            <a:ext cx="3386160" cy="81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M x V</a:t>
            </a:r>
            <a:r>
              <a:rPr b="1" lang="en-US" sz="2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(ml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x M.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400040" y="3886200"/>
            <a:ext cx="1800000" cy="360"/>
          </a:xfrm>
          <a:prstGeom prst="straightConnector1">
            <a:avLst/>
          </a:prstGeom>
          <a:noFill/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tIns="360" bIns="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491040" y="3633840"/>
            <a:ext cx="2186280" cy="75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Wt</a:t>
            </a:r>
            <a:r>
              <a:rPr b="1" lang="en-US" sz="2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(g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04920" y="4628880"/>
            <a:ext cx="86101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is equation is very important in analytical chemistry especially in preparation of solutions from solid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"/>
          <p:cNvGrpSpPr/>
          <p:nvPr/>
        </p:nvGrpSpPr>
        <p:grpSpPr>
          <a:xfrm>
            <a:off x="204120" y="1043280"/>
            <a:ext cx="6936840" cy="1897560"/>
            <a:chOff x="204120" y="1043280"/>
            <a:chExt cx="6936840" cy="1897560"/>
          </a:xfrm>
        </p:grpSpPr>
        <p:sp>
          <p:nvSpPr>
            <p:cNvPr id="115" name="AutoShape 2"/>
            <p:cNvSpPr/>
            <p:nvPr/>
          </p:nvSpPr>
          <p:spPr>
            <a:xfrm>
              <a:off x="666720" y="1523880"/>
              <a:ext cx="1161720" cy="360"/>
            </a:xfrm>
            <a:prstGeom prst="straightConnector1">
              <a:avLst/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6" name="AutoShape 3"/>
            <p:cNvSpPr/>
            <p:nvPr/>
          </p:nvSpPr>
          <p:spPr>
            <a:xfrm>
              <a:off x="2743200" y="1523880"/>
              <a:ext cx="1161720" cy="360"/>
            </a:xfrm>
            <a:prstGeom prst="straightConnector1">
              <a:avLst/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559800" y="1043280"/>
              <a:ext cx="3746880" cy="81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No. of mol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Wt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(g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/M.W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936720" y="1600200"/>
              <a:ext cx="345168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(L)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	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	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   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</a:rPr>
                <a:t>(ml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/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8"/>
            <p:cNvSpPr/>
            <p:nvPr/>
          </p:nvSpPr>
          <p:spPr>
            <a:xfrm>
              <a:off x="2629080" y="2362320"/>
              <a:ext cx="571320" cy="360"/>
            </a:xfrm>
            <a:prstGeom prst="straightConnector1">
              <a:avLst/>
            </a:prstGeom>
            <a:noFill/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0" name="AutoShape 9"/>
            <p:cNvSpPr/>
            <p:nvPr/>
          </p:nvSpPr>
          <p:spPr>
            <a:xfrm>
              <a:off x="2629080" y="2438280"/>
              <a:ext cx="571320" cy="360"/>
            </a:xfrm>
            <a:prstGeom prst="straightConnector1">
              <a:avLst/>
            </a:prstGeom>
            <a:noFill/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204120" y="2185920"/>
              <a:ext cx="6936840" cy="754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M 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 Wt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(g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x 1000 = M x V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(ml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x M.W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Connector 18"/>
            <p:cNvCxnSpPr/>
            <p:nvPr/>
          </p:nvCxnSpPr>
          <p:spPr>
            <a:xfrm>
              <a:off x="761760" y="2438280"/>
              <a:ext cx="1676880" cy="180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4920" y="882720"/>
            <a:ext cx="8686440" cy="51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- Preparation of solutions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Sol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2 liter of 0.1M N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solid mat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hat is needed to solve this example….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quest: how much weighing from the solid material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y another word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How much gram we needed to weighing from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and dissolving in 2 liter of water to obtaining 0.1M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304920" y="477360"/>
            <a:ext cx="876276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.1M = 0.1 mole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one liter of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0.1 x 2 = 0.2 mole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2liter of solution. (Because we want 2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466000" y="2442240"/>
            <a:ext cx="118656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.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V="1">
            <a:off x="2819520" y="3047400"/>
            <a:ext cx="1066320" cy="9000"/>
          </a:xfrm>
          <a:prstGeom prst="straightConnector1">
            <a:avLst/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22280" y="2823480"/>
            <a:ext cx="320148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04920" y="3708360"/>
            <a:ext cx="861012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. (g) = no. of mole x M.W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. of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(g) = 0.2 x [(2x23) + (1x12) + (3x16)] = 21.2 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hich is required to dissolved in 2 liter of water to obtain 0.1M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this volume (2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 flipV="1">
            <a:off x="1209600" y="2163960"/>
            <a:ext cx="2371320" cy="45360"/>
          </a:xfrm>
          <a:prstGeom prst="straightConnector1">
            <a:avLst/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AutoShape 1"/>
          <p:cNvSpPr/>
          <p:nvPr/>
        </p:nvSpPr>
        <p:spPr>
          <a:xfrm flipV="1">
            <a:off x="4114800" y="2163960"/>
            <a:ext cx="2437920" cy="45360"/>
          </a:xfrm>
          <a:prstGeom prst="straightConnector1">
            <a:avLst/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-152280" y="736920"/>
            <a:ext cx="8762760" cy="161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x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x M.W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0.1 x 2000 x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52280" y="1926720"/>
            <a:ext cx="8457840" cy="241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21.2 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21.2 g) which is required to dissolved in 2 liter of water to obtain 0.1M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this volume (2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4920" y="609120"/>
            <a:ext cx="8610120" cy="489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0.1M of NaCl in 250ml volu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uestion requirement was how many grams of solid NaCl was required to prepare a solution of this salt in 250ml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.1M = 0.1 mole NaCl in 1L of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0.1 x (250/1000) = 0.025 mole NaCl in 250ml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 =                                   Wt = No.of mole x M.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Connector 3"/>
          <p:cNvCxnSpPr/>
          <p:nvPr/>
        </p:nvCxnSpPr>
        <p:spPr>
          <a:xfrm>
            <a:off x="2361960" y="4495680"/>
            <a:ext cx="838800" cy="180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35" name="Right Arrow 4"/>
          <p:cNvSpPr/>
          <p:nvPr/>
        </p:nvSpPr>
        <p:spPr>
          <a:xfrm>
            <a:off x="3809880" y="4419720"/>
            <a:ext cx="1066320" cy="22824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04920" y="5208120"/>
            <a:ext cx="853416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. of NaCl (g) = 0.025 x [(1x23) + (1x35.5)] = 1.4625 g N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s required to dissolved in 250ml of water to obtain 0.1M Na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438480" y="812880"/>
            <a:ext cx="5671440" cy="161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x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x M.Wt        0.1 x 250 x 5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52280" y="1742760"/>
            <a:ext cx="8534160" cy="271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= 1.4625 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1.4625g NaCl) is required to dissolved in 250ml of water to obtain 0.1M Na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Connector 6"/>
          <p:cNvCxnSpPr/>
          <p:nvPr/>
        </p:nvCxnSpPr>
        <p:spPr>
          <a:xfrm>
            <a:off x="1218960" y="2133360"/>
            <a:ext cx="221040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40" name="Straight Connector 7"/>
          <p:cNvCxnSpPr/>
          <p:nvPr/>
        </p:nvCxnSpPr>
        <p:spPr>
          <a:xfrm>
            <a:off x="4038480" y="2133360"/>
            <a:ext cx="2210040" cy="21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304920" y="834480"/>
            <a:ext cx="8686440" cy="5873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/ Explain how we can prepare each of the following solutions from pure solid substan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- Prepare 0.2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a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2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500m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- Prepare 0.03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a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 1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3- Prepare 1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5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100m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At.Wt: Ba=137, Cl=35.5, H=1, O=16, Ca=40, Cu=63.5, S=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493200" y="775080"/>
            <a:ext cx="620856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0.25M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250ml from NaCl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380880" y="784440"/>
            <a:ext cx="8686440" cy="52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e 2 liter of 0.1M 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 N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pure solid mat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What is needed to solve this example….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quest: how mush weighing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by grams to dissolved in 2 liter to obtain solution contained 0.1M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1160280"/>
            <a:ext cx="9143640" cy="4977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Molecular weight (M.W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s the summation of the atomic weights of all the atoms appearing in the chemical formula of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 of methane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1× atomic weight of C + 4 × atomic weigh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 × 12 + 4 ×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6 g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 of ethanol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H = 2 × 12 + 6 × 1 + 1 ×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46 g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19400" y="955440"/>
            <a:ext cx="7526880" cy="52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/ Prepare 0.25M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n 250ml from BaCl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2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304920" y="830160"/>
            <a:ext cx="861012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- Preparation of solutions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Liqu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lnSpc>
                <a:spcPct val="150000"/>
              </a:lnSpc>
              <a:buClr>
                <a:srgbClr val="000000"/>
              </a:buClr>
              <a:buFont typeface="StarSymbol"/>
              <a:buAutoNum type="alphaLcParenR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reparation of solutions fro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unknown concentration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of liqui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is process was done by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first step must be calculated molar concentration of concentrated solution (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304920" y="645480"/>
            <a:ext cx="8686440" cy="534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Q/ Calculate 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molarity in the bottle from the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pecific gravity = 1.6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ercentage =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ust be convert (g/ml) to (mol/L) because we want 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Density = 1.696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.696 x 1000 = 1696 g/L this is when the percentage 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as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ut the percentage was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696 x (85/100) = 1441.6 g/L for this solution (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442440" y="591480"/>
            <a:ext cx="8134560" cy="396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Wt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(g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/M.W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g /M.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M =                 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Calibri"/>
              </a:rPr>
              <a:t>(L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     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44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.W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9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4.7 mol/L (M) (molar concentration of the concent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cid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in the 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3"/>
          <p:cNvCxnSpPr/>
          <p:nvPr/>
        </p:nvCxnSpPr>
        <p:spPr>
          <a:xfrm>
            <a:off x="1143000" y="1295280"/>
            <a:ext cx="175284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49" name="Straight Connector 4"/>
          <p:cNvCxnSpPr/>
          <p:nvPr/>
        </p:nvCxnSpPr>
        <p:spPr>
          <a:xfrm>
            <a:off x="3504960" y="1295280"/>
            <a:ext cx="175320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50" name="Straight Connector 6"/>
          <p:cNvCxnSpPr/>
          <p:nvPr/>
        </p:nvCxnSpPr>
        <p:spPr>
          <a:xfrm>
            <a:off x="1143000" y="2743200"/>
            <a:ext cx="114336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57200" y="1523880"/>
            <a:ext cx="3580920" cy="1294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52280" y="847440"/>
            <a:ext cx="868644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re is another way to solve this examp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fast wa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Sp.gr. x % x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M.W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4"/>
          <p:cNvCxnSpPr/>
          <p:nvPr/>
        </p:nvCxnSpPr>
        <p:spPr>
          <a:xfrm>
            <a:off x="1218960" y="2131920"/>
            <a:ext cx="266760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sp>
        <p:nvSpPr>
          <p:cNvPr id="155" name="Rectangle 4"/>
          <p:cNvSpPr/>
          <p:nvPr/>
        </p:nvSpPr>
        <p:spPr>
          <a:xfrm>
            <a:off x="335160" y="3220560"/>
            <a:ext cx="653760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the above exampl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.696 x (85/100) x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98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= 14.7 mol/L (M) the same result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Connector 7"/>
          <p:cNvCxnSpPr/>
          <p:nvPr/>
        </p:nvCxnSpPr>
        <p:spPr>
          <a:xfrm>
            <a:off x="1143000" y="4570200"/>
            <a:ext cx="350532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1"/>
          <p:cNvSpPr/>
          <p:nvPr/>
        </p:nvSpPr>
        <p:spPr>
          <a:xfrm flipV="1">
            <a:off x="1590840" y="2818800"/>
            <a:ext cx="313920" cy="91404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AutoShape 4"/>
          <p:cNvSpPr/>
          <p:nvPr/>
        </p:nvSpPr>
        <p:spPr>
          <a:xfrm flipH="1" flipV="1">
            <a:off x="4876200" y="2894760"/>
            <a:ext cx="533160" cy="8283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AutoShape 3"/>
          <p:cNvSpPr/>
          <p:nvPr/>
        </p:nvSpPr>
        <p:spPr>
          <a:xfrm flipH="1" flipV="1">
            <a:off x="5409360" y="2895480"/>
            <a:ext cx="380520" cy="76176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AutoShape 2"/>
          <p:cNvSpPr/>
          <p:nvPr/>
        </p:nvSpPr>
        <p:spPr>
          <a:xfrm flipH="1" flipV="1">
            <a:off x="2513880" y="2894760"/>
            <a:ext cx="533160" cy="83772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324080" y="2286000"/>
            <a:ext cx="5304960" cy="7138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04920" y="577080"/>
            <a:ext cx="861012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second step dilution process must be done by this re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4022640" y="381600"/>
            <a:ext cx="1098360" cy="60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09480" y="2332440"/>
            <a:ext cx="8610120" cy="18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(M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V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concentrat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= (M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V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dil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rom first st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unkn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304920" y="1751400"/>
            <a:ext cx="8610120" cy="402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 Prepare 500ml (6M) from the concentrated 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p.gr. = 1.696 , percentage = %85 , At.Wt: P=31 , O=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first 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must be calculat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molar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of concentrated solution (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349200"/>
            <a:ext cx="9143640" cy="715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The second step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 (di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concentr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14.7 x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= (6 x 5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(6x500)/14.7 = 204.1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is is meaning we take 204.1 ml from the concentrated solution (bottle) and diluted to 500 ml with distilled water to obtain 6M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1390320"/>
            <a:ext cx="8457840" cy="19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x: Prepare 250ml of 2M HN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from the concentrated solution. The information on the bottle:percentage = 69%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, specific gravity 1.42, M.Wt= 63 g/m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533520" y="1570320"/>
            <a:ext cx="8457840" cy="447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Millimole (mmo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me times it is more convenient to make calculations with millimoles rather than m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 mol = 1000 mmol  or 1 mmol = 1/1000 mol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mol = (weight (gm) / M.Wt.) x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09480" y="1735560"/>
            <a:ext cx="83815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How many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ons are contained in 5.0 moles of sodium 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57200" y="1069200"/>
            <a:ext cx="8534160" cy="293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How many moles of glucose 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are contained in 36 gm of the pure suga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f you know that: Atomic weight (At.wt): [H=1, C=12, O=16]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457200" y="1296360"/>
            <a:ext cx="8610120" cy="24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How many millimoles are contain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6.75 g of A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232 mg of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800280"/>
            <a:ext cx="861012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olarity [Molar concentration (M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umber of moles of solute in one liter of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"/>
          <p:cNvGraphicFramePr/>
          <p:nvPr/>
        </p:nvGraphicFramePr>
        <p:xfrm>
          <a:off x="3441600" y="2197800"/>
          <a:ext cx="1358640" cy="773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1600" y="2197800"/>
                    <a:ext cx="1358640" cy="7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3"/>
          <p:cNvSpPr/>
          <p:nvPr/>
        </p:nvSpPr>
        <p:spPr>
          <a:xfrm>
            <a:off x="457200" y="2407680"/>
            <a:ext cx="8534160" cy="301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= No. of moles / volume(L) = No.of mmoles/volume (m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= M × V (L)    or    No. of mmoles = M × V (m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o. of moles = Wt. of solute (g) /M.Wt (g/mo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457200" y="1054440"/>
            <a:ext cx="8534160" cy="52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alculate the molarity of a species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) An aqueous solution that contains 2.3 g of ethanol     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OH) in 2.00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) An aqueous solution that contains 285mg of trichloroacetic acid (C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CCOOH) in 10 m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tomic weight (At.wt): [H=1, C=12, Cl=35.5, O=16] g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80880" y="1208160"/>
            <a:ext cx="861012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An analyst wishes to add 120 mg NaOH base to dissolve an organic acid sample using a 0.248M NaOH solution. How many milliliters of NaOH solution should be added to the organic acid?     At.wt: (Na =23, O =16, H =1)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88</TotalTime>
  <Application>LibreOffice/7.4.7.2$Linux_X86_64 LibreOffice_project/40$Build-2</Application>
  <AppVersion>15.0000</AppVersion>
  <Words>1222</Words>
  <Paragraphs>2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57:19Z</dcterms:created>
  <dc:creator>hunar</dc:creator>
  <dc:description/>
  <dc:language>en-US</dc:language>
  <cp:lastModifiedBy>Wrea</cp:lastModifiedBy>
  <dcterms:modified xsi:type="dcterms:W3CDTF">2018-12-03T18:32:29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8</vt:r8>
  </property>
</Properties>
</file>