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5D0-3E71-4F4E-A879-339247B4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1AC3-D9C9-45CB-BD1C-BED68B1D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C94-F3A1-4444-A787-84B5687C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A53-7398-4551-A754-645C8DDA9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CD7B-A53E-46BD-95E2-7E8B9150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B5C8-9089-41AD-89D2-3F57F670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4442-5FAF-4D71-8834-2ED378AB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0A-5ECB-4A94-B6D3-A34BD348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A5E8-F077-4F5A-99FF-F6667427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9E7C-64FA-4C1E-B563-74B12824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174-8406-4BE9-A94E-540A1E0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591F-5F77-468E-8D6C-75D482F8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5E871D-9CF3-4B09-B256-6A9C4FF85F5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0"/>
            <a:ext cx="9143640" cy="800964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Methods 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for the preparation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r>
              <a:rPr b="1" lang="en-US" sz="5200" spc="-1" strike="noStrike">
                <a:solidFill>
                  <a:srgbClr val="ff0000"/>
                </a:solidFill>
                <a:latin typeface="Arial"/>
              </a:rPr>
              <a:t>of Chemical substances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50000"/>
              </a:lnSpc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-11160"/>
            <a:ext cx="9143640" cy="69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 algn="ctr">
              <a:lnSpc>
                <a:spcPct val="150000"/>
              </a:lnSpc>
            </a:pPr>
            <a:r>
              <a:rPr b="1" lang="en-MY" sz="4000" spc="-1" strike="noStrike">
                <a:solidFill>
                  <a:srgbClr val="ff0000"/>
                </a:solidFill>
                <a:latin typeface="Arial Narrow"/>
                <a:ea typeface="Calibri"/>
              </a:rPr>
              <a:t>Methods of Chemicals Preparation</a:t>
            </a:r>
            <a:r>
              <a:rPr b="0" lang="en-MY" sz="28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A) Mola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Molarity (M):</a:t>
            </a: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Number of moles in one liter of solution, expressed as M. Unit (mol/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(no. of mole of solute) / (volume of solution by l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mole / Vol. (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(no. of mmole solute) / (volume of solution by millili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457200" algn="just">
              <a:lnSpc>
                <a:spcPct val="150000"/>
              </a:lnSpc>
              <a:spcAft>
                <a:spcPts val="799"/>
              </a:spcAft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mmole / Vol. (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an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no. mole = wt. of solute (g) / M.Wt. (g/m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Therefore: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2000" spc="-1" strike="noStrike">
                <a:solidFill>
                  <a:srgbClr val="ff0000"/>
                </a:solidFill>
                <a:latin typeface="Arial Narrow"/>
                <a:ea typeface="Calibri"/>
              </a:rPr>
              <a:t>M = [Wt. (g)] / [M.Wt. (g/mol) × Vol. (L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Or: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 = [Wt. (g) × 1000] / [M.Wt. (g/mol) × Vol. (mL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</a:tabLst>
            </a:pPr>
            <a:r>
              <a:rPr b="1" lang="en-MY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Wt. = M x V (mL) x M.Wt. (g/mol) /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3640" cy="74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1- Preparation of solutions from </a:t>
            </a:r>
            <a:r>
              <a:rPr b="1" i="1" lang="en-MY" sz="2000" spc="-1" strike="noStrike" u="sng">
                <a:solidFill>
                  <a:srgbClr val="c00000"/>
                </a:solidFill>
                <a:uFillTx/>
                <a:latin typeface="Arial Narrow"/>
                <a:ea typeface="Calibri"/>
              </a:rPr>
              <a:t>Solid</a:t>
            </a:r>
            <a:r>
              <a:rPr b="1" i="1" lang="en-MY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 substan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Exam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Q/ Prepare 2 litre of 0.1M from Na</a:t>
            </a:r>
            <a:r>
              <a:rPr b="1" lang="en-MY" sz="1800" spc="-1" strike="noStrike" baseline="-25000">
                <a:solidFill>
                  <a:srgbClr val="0070c0"/>
                </a:solidFill>
                <a:latin typeface="Arial Narrow"/>
                <a:ea typeface="Calibri"/>
              </a:rPr>
              <a:t>2</a:t>
            </a: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CO</a:t>
            </a:r>
            <a:r>
              <a:rPr b="1" lang="en-MY" sz="1800" spc="-1" strike="noStrike" baseline="-25000">
                <a:solidFill>
                  <a:srgbClr val="0070c0"/>
                </a:solidFill>
                <a:latin typeface="Arial Narrow"/>
                <a:ea typeface="Calibri"/>
              </a:rPr>
              <a:t>3</a:t>
            </a:r>
            <a:r>
              <a:rPr b="1" lang="en-MY" sz="1800" spc="-1" strike="noStrike">
                <a:solidFill>
                  <a:srgbClr val="0070c0"/>
                </a:solidFill>
                <a:latin typeface="Arial Narrow"/>
                <a:ea typeface="Calibri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• 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Request: How many grams of Na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s needed and dissolving in 2 liter of water to obtaining 0.1M Na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i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i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0.1M = 0.1 mole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one liter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= 0.1 × 2 = 0.2 mole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2 liter of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o. of mole = Wt. (g) / M.Wt. (g/mo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g = no. of mole × M.W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of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(g) = 0.2 × [(2×23) + (1×12) + (3×16)] = 21.2 g which is required to dissolved in 2 litre of water to obtain 0.1M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this volume (2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Wt.(gm) = M x V (ml) x M. Wt. (gm/mol) / 1000</a:t>
            </a:r>
            <a:r>
              <a:rPr b="0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= 0.1 x 2000 ml x 106 / 1000 = 21.2 g which is required to dissolved in 2 litre of water to obtain 0.1M Na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CO</a:t>
            </a:r>
            <a:r>
              <a:rPr b="1" lang="en-MY" sz="2000" spc="-1" strike="noStrike" baseline="-25000">
                <a:solidFill>
                  <a:srgbClr val="000000"/>
                </a:solidFill>
                <a:latin typeface="Arial Narrow"/>
                <a:ea typeface="Calibri"/>
              </a:rPr>
              <a:t>3</a:t>
            </a: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 in this volume (2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"/>
          <p:cNvSpPr/>
          <p:nvPr/>
        </p:nvSpPr>
        <p:spPr>
          <a:xfrm>
            <a:off x="0" y="58680"/>
            <a:ext cx="91436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Q/ Prepare 0.1M of NaCl in 250ml volu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MY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- Question requirement is how many grams of solid NaCl is required to prepare 250ml sol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0.1M = 0.1 mole NaCl in 1000ml of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= 0.1 x (250/1000) = 0.025 mole NaCl in 250ml of s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no. of mole = Wt. (g) / M.Wt. (g/mo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(g) = no. of mole × M.W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of NaCl (g) = 0.025 × [(1×23) + (1×35.5)] = 1.4625 g NaCl is required to dissolved in 250ml of water to obtain 0.1M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MY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Wt.(gm) = M x V (ml) x M. Wt. (gm/mol) /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lang="en-MY" sz="2000" spc="-1" strike="noStrike">
                <a:solidFill>
                  <a:srgbClr val="000000"/>
                </a:solidFill>
                <a:latin typeface="Arial Narrow"/>
                <a:ea typeface="Calibri"/>
              </a:rPr>
              <a:t>Wt. (gm) = 0.1 x 250 x 58.5 / 1000 = 1.4625 g NaCl is required to dissolved in 250ml of water to obtain 0.1M NaC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0" y="152280"/>
            <a:ext cx="9143640" cy="61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250000"/>
              </a:lnSpc>
            </a:pPr>
            <a:r>
              <a:rPr b="1" i="1" lang="en-MY" sz="3600" spc="-1" strike="noStrike">
                <a:solidFill>
                  <a:srgbClr val="c00000"/>
                </a:solidFill>
                <a:latin typeface="Arial Narrow"/>
                <a:ea typeface="Calibri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250000"/>
              </a:lnSpc>
            </a:pPr>
            <a:r>
              <a:rPr b="0" lang="en-MY" sz="2800" spc="-1" strike="noStrike">
                <a:solidFill>
                  <a:srgbClr val="ff0000"/>
                </a:solidFill>
                <a:latin typeface="Arial Narrow"/>
                <a:ea typeface="Calibri"/>
              </a:rPr>
              <a:t>Explain how we can prepare each of the following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0.2 M BaCl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.2H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O in 50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0.03 M CaCl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 in 1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buClr>
                <a:srgbClr val="002060"/>
              </a:buClr>
              <a:buFont typeface="Calibri"/>
              <a:buAutoNum type="arabicPeriod"/>
            </a:pP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Prepare 1×10</a:t>
            </a:r>
            <a:r>
              <a:rPr b="1" lang="en-MY" sz="2800" spc="-1" strike="noStrike" baseline="30000">
                <a:solidFill>
                  <a:srgbClr val="002060"/>
                </a:solidFill>
                <a:latin typeface="Arial Narrow"/>
                <a:ea typeface="Calibri"/>
              </a:rPr>
              <a:t>-3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 M CuSO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.5H</a:t>
            </a:r>
            <a:r>
              <a:rPr b="1" lang="en-MY" sz="28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2</a:t>
            </a:r>
            <a:r>
              <a:rPr b="1" lang="en-MY" sz="2800" spc="-1" strike="noStrike">
                <a:solidFill>
                  <a:srgbClr val="002060"/>
                </a:solidFill>
                <a:latin typeface="Arial Narrow"/>
                <a:ea typeface="Calibri"/>
              </a:rPr>
              <a:t>O in 100m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4724280" y="3200400"/>
            <a:ext cx="3123720" cy="1218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7"/>
          <p:cNvSpPr/>
          <p:nvPr/>
        </p:nvSpPr>
        <p:spPr>
          <a:xfrm>
            <a:off x="0" y="3963960"/>
            <a:ext cx="914364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Second step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dilution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(M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 * 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) concentrated = (M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 * V</a:t>
            </a:r>
            <a:r>
              <a:rPr b="1" lang="en-US" sz="1800" spc="-1" strike="noStrike" baseline="-30000">
                <a:solidFill>
                  <a:srgbClr val="ff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rial Narrow"/>
                <a:ea typeface="Calibri"/>
              </a:rPr>
              <a:t>) dil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From first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</a:t>
            </a:r>
            <a:r>
              <a:rPr b="1" i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M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Needed molarity (concent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1" lang="en-US" sz="18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Calibri"/>
              </a:rPr>
              <a:t>: Required volum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0"/>
            <a:ext cx="9143640" cy="32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200000"/>
              </a:lnSpc>
            </a:pPr>
            <a:r>
              <a:rPr b="1" i="1" lang="en-US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2-Preparation of solutions from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 Narrow"/>
                <a:ea typeface="Calibri"/>
              </a:rPr>
              <a:t>Liquids</a:t>
            </a:r>
            <a:r>
              <a:rPr b="1" i="1" lang="en-US" sz="3200" spc="-1" strike="noStrike">
                <a:solidFill>
                  <a:srgbClr val="ff0000"/>
                </a:solidFill>
                <a:latin typeface="Arial Narrow"/>
                <a:ea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200000"/>
              </a:lnSpc>
              <a:buClr>
                <a:srgbClr val="00b050"/>
              </a:buClr>
              <a:buFont typeface="Symbol" charset="2"/>
              <a:buChar char=""/>
            </a:pPr>
            <a:r>
              <a:rPr b="1" i="1" lang="en-US" sz="2400" spc="-1" strike="noStrike">
                <a:solidFill>
                  <a:srgbClr val="00b050"/>
                </a:solidFill>
                <a:latin typeface="Arial Narrow"/>
                <a:ea typeface="Calibri"/>
              </a:rPr>
              <a:t>Preparation of solutions from </a:t>
            </a:r>
            <a:r>
              <a:rPr b="1" i="1" lang="en-US" sz="2400" spc="-1" strike="noStrike" u="sng">
                <a:solidFill>
                  <a:srgbClr val="00b050"/>
                </a:solidFill>
                <a:uFillTx/>
                <a:latin typeface="Arial Narrow"/>
                <a:ea typeface="Calibri"/>
              </a:rPr>
              <a:t>concentrated liquids</a:t>
            </a:r>
            <a:r>
              <a:rPr b="1" i="1" lang="en-US" sz="2400" spc="-1" strike="noStrike">
                <a:solidFill>
                  <a:srgbClr val="00b050"/>
                </a:solidFill>
                <a:latin typeface="Arial Narrow"/>
                <a:ea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This process was done by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</a:pPr>
            <a:r>
              <a:rPr b="1" i="1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First step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calculation of molar concentration of concentrated solution (bott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-33480"/>
            <a:ext cx="914364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Prepare 250ml of 2M HNO</a:t>
            </a:r>
            <a:r>
              <a:rPr b="0" lang="en-US" sz="2400" spc="-1" strike="noStrike" baseline="-30000">
                <a:solidFill>
                  <a:srgbClr val="7030a0"/>
                </a:solidFill>
                <a:latin typeface="Arial Narrow"/>
                <a:ea typeface="Calibri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 from the traditional solution. The information on the bottle: 69%(w/w) HNO</a:t>
            </a:r>
            <a:r>
              <a:rPr b="0" lang="en-US" sz="2400" spc="-1" strike="noStrike" baseline="-30000">
                <a:solidFill>
                  <a:srgbClr val="7030a0"/>
                </a:solidFill>
                <a:latin typeface="Arial Narrow"/>
                <a:ea typeface="Calibri"/>
              </a:rPr>
              <a:t>3</a:t>
            </a:r>
            <a:r>
              <a:rPr b="0" lang="en-US" sz="2400" spc="-1" strike="noStrike">
                <a:solidFill>
                  <a:srgbClr val="7030a0"/>
                </a:solidFill>
                <a:latin typeface="Arial Narrow"/>
                <a:ea typeface="Calibri"/>
              </a:rPr>
              <a:t> , specific gravity 1.42 g/ml, formula weight 63 g/m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First st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2437920" cy="10897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0" y="2210400"/>
            <a:ext cx="9143640" cy="48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[(69/100) × (1.42) × 1000] / [(1×1)+(1×14)+(3×16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[(0.69)×(1.42)×1000] / [6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M = 15.55 mol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c00000"/>
                </a:solidFill>
                <a:latin typeface="Arial Narrow"/>
                <a:ea typeface="Calibri"/>
              </a:rPr>
              <a:t>Second step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di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) concentrated = (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)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15.55 × 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2 × 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(2×250) / 15.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V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Arial Narrow"/>
                <a:ea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= 32.15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0" y="-79560"/>
            <a:ext cx="9143640" cy="73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2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750 mL of 6.00 M H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P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commercial reagent that is 86% H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P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(W/W) and has a specific gravity of 1.71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3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500 mL of 0.0750 M AgN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solid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 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4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1.00 L of 0.285 M HCI, starting with a 6.00 M solution of the reagent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Ex.5.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  <a:ea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Describe the preparation of 2.00 L of 0.120 M HCI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from the commercial reagent [71.0% HCIO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 Narrow"/>
                <a:ea typeface="Calibri"/>
              </a:rPr>
              <a:t>4</a:t>
            </a:r>
            <a:r>
              <a:rPr b="1" lang="en-US" sz="2400" spc="-1" strike="noStrike">
                <a:solidFill>
                  <a:srgbClr val="002060"/>
                </a:solidFill>
                <a:latin typeface="Arial Narrow"/>
                <a:ea typeface="Calibri"/>
              </a:rPr>
              <a:t> (w/w), sp gr 1.67]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000" spc="-1" strike="noStrike">
                <a:solidFill>
                  <a:srgbClr val="00b050"/>
                </a:solidFill>
                <a:latin typeface="Arial Narrow"/>
                <a:ea typeface="Calibri"/>
              </a:rPr>
              <a:t>A.Wt.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Arial Narrow"/>
                <a:ea typeface="Calibri"/>
              </a:rPr>
              <a:t>(H=1 , C=12 , N=14 , O=16 , Na=23 , P=31 , S=32 , Cl=35.5 , Ca=40 , Cu=63.5 , Ag=107.9 , Ba=137.3) g/m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  <Words>511</Words>
  <Paragraphs>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5T18:54:35Z</dcterms:created>
  <dc:creator>Wrea</dc:creator>
  <dc:description/>
  <dc:language>en-US</dc:language>
  <cp:lastModifiedBy>Wrea</cp:lastModifiedBy>
  <dcterms:modified xsi:type="dcterms:W3CDTF">2018-12-03T18:43:31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