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CCC-5F79-4AF8-8466-0731AE2B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127-9C3D-4B9F-9092-D36F1A2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790-9986-4143-8C50-A520D261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87C-D533-4A74-8A4F-D9BEB273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A1A-16BC-4EF7-8841-DFE47C9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B06-FB65-4927-8143-0F481136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CD6-A804-4B2D-B81F-6E6B89A6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76C-DB2D-4FB6-80C0-3A2FE22B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CEC-B641-456D-94FC-9E64677B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984-BF92-4C82-A184-6B76BB0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B6D-F82B-480B-850A-89514D9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392-D25D-4CAD-8026-55B72C3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BB30EB-AF7C-43F6-8FC1-97D86C9C3E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0"/>
            <a:ext cx="9143640" cy="800964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50000"/>
              </a:lnSpc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Method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for the preparatio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of Chemical substanc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-11160"/>
            <a:ext cx="9143640" cy="69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MY" sz="4000" spc="-1" strike="noStrike">
                <a:solidFill>
                  <a:srgbClr val="ff0000"/>
                </a:solidFill>
                <a:latin typeface="Arial Narrow"/>
                <a:ea typeface="Calibri"/>
              </a:rPr>
              <a:t>Methods of Chemicals Preparation</a:t>
            </a:r>
            <a:r>
              <a:rPr b="0" lang="en-MY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MY" sz="2400" spc="-1" strike="noStrike">
                <a:solidFill>
                  <a:srgbClr val="c00000"/>
                </a:solidFill>
                <a:latin typeface="Arial Narrow"/>
                <a:ea typeface="Calibri"/>
              </a:rPr>
              <a:t>A) Mol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Molarity (M):</a:t>
            </a:r>
            <a:r>
              <a:rPr b="0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Number of moles in one liter of solution, expressed as M. Unit (mol/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(no. of mole of solute) / (volume of solution by li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mole / Vol.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(no. of mmole solute) / (volume of solution by millili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mmole / Vol. (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an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no. mole = wt. of solute (g) / M.Wt. (g/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Therefore: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2000" spc="-1" strike="noStrike">
                <a:solidFill>
                  <a:srgbClr val="ff0000"/>
                </a:solidFill>
                <a:latin typeface="Arial Narrow"/>
                <a:ea typeface="Calibri"/>
              </a:rPr>
              <a:t>M = [Wt. (g)] / [M.Wt. (g/mol) × Vol. (L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Or: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[Wt. (g) × 1000] / [M.Wt. (g/mol) × Vol. (mL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Wt. = M x V (mL) x M.Wt. (g/mol) /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3640" cy="74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i="1" lang="en-MY" sz="2000" spc="-1" strike="noStrike">
                <a:solidFill>
                  <a:srgbClr val="c00000"/>
                </a:solidFill>
                <a:latin typeface="Arial Narrow"/>
                <a:ea typeface="Calibri"/>
              </a:rPr>
              <a:t>1- Preparation of solutions from </a:t>
            </a:r>
            <a:r>
              <a:rPr b="1" i="1" lang="en-MY" sz="2000" spc="-1" strike="noStrike" u="sng">
                <a:solidFill>
                  <a:srgbClr val="c00000"/>
                </a:solidFill>
                <a:uFillTx/>
                <a:latin typeface="Arial Narrow"/>
                <a:ea typeface="Calibri"/>
              </a:rPr>
              <a:t>Solid</a:t>
            </a:r>
            <a:r>
              <a:rPr b="1" i="1" lang="en-MY" sz="2000" spc="-1" strike="noStrike">
                <a:solidFill>
                  <a:srgbClr val="c00000"/>
                </a:solidFill>
                <a:latin typeface="Arial Narrow"/>
                <a:ea typeface="Calibri"/>
              </a:rPr>
              <a:t> sub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i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MY" sz="1800" spc="-1" strike="noStrike">
                <a:solidFill>
                  <a:srgbClr val="0070c0"/>
                </a:solidFill>
                <a:latin typeface="Arial Narrow"/>
                <a:ea typeface="Calibri"/>
              </a:rPr>
              <a:t>Q/ Prepare 2 litre of 0.1M from Na</a:t>
            </a:r>
            <a:r>
              <a:rPr b="1" lang="en-MY" sz="1800" spc="-1" strike="noStrike" baseline="-25000">
                <a:solidFill>
                  <a:srgbClr val="0070c0"/>
                </a:solidFill>
                <a:latin typeface="Arial Narrow"/>
                <a:ea typeface="Calibri"/>
              </a:rPr>
              <a:t>2</a:t>
            </a:r>
            <a:r>
              <a:rPr b="1" lang="en-MY" sz="1800" spc="-1" strike="noStrike">
                <a:solidFill>
                  <a:srgbClr val="0070c0"/>
                </a:solidFill>
                <a:latin typeface="Arial Narrow"/>
                <a:ea typeface="Calibri"/>
              </a:rPr>
              <a:t>CO</a:t>
            </a:r>
            <a:r>
              <a:rPr b="1" lang="en-MY" sz="1800" spc="-1" strike="noStrike" baseline="-25000">
                <a:solidFill>
                  <a:srgbClr val="0070c0"/>
                </a:solidFill>
                <a:latin typeface="Arial Narrow"/>
                <a:ea typeface="Calibri"/>
              </a:rPr>
              <a:t>3</a:t>
            </a:r>
            <a:r>
              <a:rPr b="1" lang="en-MY" sz="1800" spc="-1" strike="noStrike">
                <a:solidFill>
                  <a:srgbClr val="0070c0"/>
                </a:solidFill>
                <a:latin typeface="Arial Narrow"/>
                <a:ea typeface="Calibri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• 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Request: How many grams of Na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s needed and dissolving in 2 liter of water to obtaining 0.1M Na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0.1M = 0.1 mole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one liter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= 0.1 × 2 = 0.2 mole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2 liter of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no. of mole = Wt. (g) / M.Wt. (g/mo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g = no. of mole × M.W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of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(g) = 0.2 × [(2×23) + (1×12) + (3×16)] = 21.2 g which is required to dissolved in 2 litre of water to obtain 0.1M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this volume (2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Wt.(gm) = M x V (ml) x M. Wt. (gm/mol) / 1000</a:t>
            </a:r>
            <a:r>
              <a:rPr b="0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= 0.1 x 2000 ml x 106 / 1000 = 21.2 g which is required to dissolved in 2 litre of water to obtain 0.1M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this volume (2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8680"/>
            <a:ext cx="91436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MY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Q/ Prepare 0.1M of NaCl in 250ml volu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MY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- Question requirement is how many grams of solid NaCl is required to prepare 250m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0.1M = 0.1 mole NaCl in 1000ml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= 0.1 x (250/1000) = 0.025 mole NaCl in 250ml of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no. of mole = Wt. (g) / M.Wt. (g/mo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(g) = no. of mole × M.W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of NaCl (g) = 0.025 × [(1×23) + (1×35.5)] = 1.4625 g NaCl is required to dissolved in 250ml of water to obtain 0.1M Na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Wt.(gm) = M x V (ml) x M. Wt. (gm/mol) /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(gm) = 0.1 x 250 x 58.5 / 1000 = 1.4625 g NaCl is required to dissolved in 250ml of water to obtain 0.1M Na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152280"/>
            <a:ext cx="914364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50000"/>
              </a:lnSpc>
            </a:pPr>
            <a:r>
              <a:rPr b="1" i="1" lang="en-MY" sz="3600" spc="-1" strike="noStrike">
                <a:solidFill>
                  <a:srgbClr val="c00000"/>
                </a:solidFill>
                <a:latin typeface="Arial Narrow"/>
                <a:ea typeface="Calibri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50000"/>
              </a:lnSpc>
            </a:pPr>
            <a:r>
              <a:rPr b="0" lang="en-MY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Explain how we can prepare each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buClr>
                <a:srgbClr val="002060"/>
              </a:buClr>
              <a:buFont typeface="Calibri"/>
              <a:buAutoNum type="arabicPeriod"/>
            </a:pP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Prepare 0.2 M BaCl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.2H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O in 50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buClr>
                <a:srgbClr val="002060"/>
              </a:buClr>
              <a:buFont typeface="Calibri"/>
              <a:buAutoNum type="arabicPeriod"/>
            </a:pP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Prepare 0.03 M CaCl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 in 1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buClr>
                <a:srgbClr val="002060"/>
              </a:buClr>
              <a:buFont typeface="Calibri"/>
              <a:buAutoNum type="arabicPeriod"/>
            </a:pP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Prepare 1×10</a:t>
            </a:r>
            <a:r>
              <a:rPr b="1" lang="en-MY" sz="2800" spc="-1" strike="noStrike" baseline="30000">
                <a:solidFill>
                  <a:srgbClr val="002060"/>
                </a:solidFill>
                <a:latin typeface="Arial Narrow"/>
                <a:ea typeface="Calibri"/>
              </a:rPr>
              <a:t>-3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 M CuSO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.5H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O in 10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1237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0" y="3963960"/>
            <a:ext cx="914364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Second step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dilu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(M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 * V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) concentrated = (M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 * V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) dil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From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Needed molarity (concen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Required volum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36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i="1" lang="en-US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2-Preparation of solutions from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 Narrow"/>
                <a:ea typeface="Calibri"/>
              </a:rPr>
              <a:t>Liquids</a:t>
            </a:r>
            <a:r>
              <a:rPr b="1" i="1" lang="en-US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200000"/>
              </a:lnSpc>
              <a:buClr>
                <a:srgbClr val="00b050"/>
              </a:buClr>
              <a:buFont typeface="Symbol" charset="2"/>
              <a:buChar char=""/>
            </a:pPr>
            <a:r>
              <a:rPr b="1" i="1" lang="en-US" sz="2400" spc="-1" strike="noStrike">
                <a:solidFill>
                  <a:srgbClr val="00b050"/>
                </a:solidFill>
                <a:latin typeface="Arial Narrow"/>
                <a:ea typeface="Calibri"/>
              </a:rPr>
              <a:t>Preparation of solutions from </a:t>
            </a: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 Narrow"/>
                <a:ea typeface="Calibri"/>
              </a:rPr>
              <a:t>concentrated liquids</a:t>
            </a:r>
            <a:r>
              <a:rPr b="1" i="1" lang="en-US" sz="2400" spc="-1" strike="noStrike">
                <a:solidFill>
                  <a:srgbClr val="00b050"/>
                </a:solidFill>
                <a:latin typeface="Arial Narrow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This process was done by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i="1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First step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calculation of molar concentration of concentrated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-33480"/>
            <a:ext cx="91436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Prepare 250ml of 2M HNO</a:t>
            </a:r>
            <a:r>
              <a:rPr b="0" lang="en-US" sz="2400" spc="-1" strike="noStrike" baseline="-30000">
                <a:solidFill>
                  <a:srgbClr val="7030a0"/>
                </a:solidFill>
                <a:latin typeface="Arial Narrow"/>
                <a:ea typeface="Calibri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 from the traditional solution. The information on the bottle: 69%(w/w) HNO</a:t>
            </a:r>
            <a:r>
              <a:rPr b="0" lang="en-US" sz="2400" spc="-1" strike="noStrike" baseline="-30000">
                <a:solidFill>
                  <a:srgbClr val="7030a0"/>
                </a:solidFill>
                <a:latin typeface="Arial Narrow"/>
                <a:ea typeface="Calibri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 , specific gravity 1.42 g/ml, formula weight 63 g/m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 Narrow"/>
                <a:ea typeface="Calibri"/>
              </a:rPr>
              <a:t>First st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437920" cy="1089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2210400"/>
            <a:ext cx="9143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M = [(69/100) × (1.42) × 1000] / [(1×1)+(1×14)+(3×16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M = [(0.69)×(1.42)×1000] / [6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M = 15.55 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 Narrow"/>
                <a:ea typeface="Calibri"/>
              </a:rPr>
              <a:t>Second step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) concentrated = 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)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15.55 ×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= 2 ×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= (2×250) / 15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= 32.1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79560"/>
            <a:ext cx="9143640" cy="73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2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750 mL of 6.00 M H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P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from the commercial reagent that is 86% H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P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(W/W) and has a specific gravity of 1.71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3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500 mL of 0.0750 M AgN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from the solid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4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1.00 L of 0.285 M HCI, starting with a 6.00 M solution of the reagen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5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2.00 L of 0.120 M HCI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from the commercial reagent [71.0% HCI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(w/w), sp gr 1.67]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Arial Narrow"/>
                <a:ea typeface="Calibri"/>
              </a:rPr>
              <a:t>A.Wt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Arial Narrow"/>
                <a:ea typeface="Calibri"/>
              </a:rPr>
              <a:t>(H=1 , C=12 , N=14 , O=16 , Na=23 , P=31 , S=32 , Cl=35.5 , Ca=40 , Cu=63.5 , Ag=107.9 , Ba=137.3) 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  <Words>511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5T18:54:35Z</dcterms:created>
  <dc:creator>Wrea</dc:creator>
  <dc:description/>
  <dc:language>en-US</dc:language>
  <cp:lastModifiedBy>Wrea</cp:lastModifiedBy>
  <dcterms:modified xsi:type="dcterms:W3CDTF">2018-12-03T18:43:3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