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406-A047-417C-B99C-3A536C1B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F47B-DBF8-4DA0-8142-66060C9C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D13-E23A-41E0-BD4E-3A6C5D49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C83-A481-4ECA-958F-3BBFCE91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EB90-2133-4AF7-BF30-C1322BD7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7FB4-E427-46C3-8031-09731221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07FF-8446-4E89-B230-3382A825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6F53-0570-4545-A51C-D355685C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38F2-4DAA-4AC7-821A-0F55D662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FA0B-87AC-40FB-BE6F-D2C8238B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ADED-C3DF-46B0-A4BF-C2B84378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EEA-4BF9-4575-BD6D-837D4FD3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8416-898B-4B41-A156-81B59ABE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D3F7-88FF-46E6-A80F-3742FA34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E89B-EE0F-4D80-8ABF-4E78037B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4AEA-BF58-4A75-A626-BF50910A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8736-197A-4F8B-8061-39053F4D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4DC-1DFB-4638-B00D-39627693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D09-C774-403E-934B-4D3B9318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98A-81C6-4F38-A774-5064854B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5B2-1142-4180-907F-3FCE7BC2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ECB-AEA6-42BC-855A-19866A5E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4E1-E724-480F-9685-18EF9E18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330-2C3E-43B4-B93E-0992561C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30D3678-F14B-4245-9F0E-CFB7111B458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5b6973"/>
                </a:solidFill>
                <a:latin typeface="Arial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98c723"/>
              </a:buClr>
              <a:buSzPct val="8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00"/>
              </a:spcBef>
              <a:buClr>
                <a:srgbClr val="98c723"/>
              </a:buClr>
              <a:buSzPct val="8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360"/>
              </a:spcBef>
              <a:buClr>
                <a:srgbClr val="98c723"/>
              </a:buClr>
              <a:buSzPct val="90000"/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320"/>
              </a:spcBef>
              <a:buClr>
                <a:srgbClr val="98c723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281"/>
              </a:spcBef>
              <a:buClr>
                <a:srgbClr val="98c723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011B519-5322-484A-9111-7C5E6F0386C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0" y="2213280"/>
            <a:ext cx="9143640" cy="1918080"/>
          </a:xfrm>
          <a:prstGeom prst="rect">
            <a:avLst/>
          </a:prstGeom>
          <a:solidFill>
            <a:srgbClr val="ffffff"/>
          </a:solidFill>
          <a:ln>
            <a:solidFill>
              <a:srgbClr val="b77bb4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n-US" sz="8000" spc="-1" strike="noStrike">
                <a:solidFill>
                  <a:srgbClr val="00b050"/>
                </a:solidFill>
                <a:latin typeface="Arial"/>
              </a:rPr>
              <a:t>Sublima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9525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304920"/>
            <a:ext cx="9143640" cy="54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50000"/>
              <a:buFont typeface="Wingdings" charset="2"/>
              <a:buChar char="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blim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ansition of a substance from the solid phase to the gas phase without passing through an intermediate liquid ph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8800" algn="just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b0f0"/>
                </a:solidFill>
                <a:latin typeface="Arial"/>
              </a:rPr>
              <a:t>Solid↔ vap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380880"/>
            <a:ext cx="9143640" cy="58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sublimation can be used to purify an organic compound only after meeting four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ff0000"/>
              </a:buClr>
              <a:buFont typeface="Arial"/>
              <a:buAutoNum type="arabicParenR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ound must vaporize without mel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ff0000"/>
              </a:buClr>
              <a:buFont typeface="Arial"/>
              <a:buAutoNum type="arabicParenR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be stable enough to vaporize without decompo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ff0000"/>
              </a:buClr>
              <a:buFont typeface="Arial"/>
              <a:buAutoNum type="arabicParenR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pors of the compound must be able to condense back to the sol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ff0000"/>
              </a:buClr>
              <a:buFont typeface="Arial"/>
              <a:buAutoNum type="arabicParenR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urities within the compound do not also subl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72392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1" i="1" lang="en-US" sz="4000" spc="-100" strike="noStrike">
                <a:solidFill>
                  <a:srgbClr val="5b6973"/>
                </a:solidFill>
                <a:latin typeface="Times New Roman"/>
              </a:rPr>
              <a:t>Sublimatio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1816200" y="4952880"/>
            <a:ext cx="76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Sol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ight Arrow 7"/>
          <p:cNvSpPr/>
          <p:nvPr/>
        </p:nvSpPr>
        <p:spPr>
          <a:xfrm>
            <a:off x="1981080" y="3581280"/>
            <a:ext cx="1599840" cy="380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8c723"/>
          </a:solidFill>
          <a:ln>
            <a:solidFill>
              <a:srgbClr val="70931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8"/>
          <p:cNvSpPr/>
          <p:nvPr/>
        </p:nvSpPr>
        <p:spPr>
          <a:xfrm>
            <a:off x="3585240" y="2747160"/>
            <a:ext cx="2426760" cy="2274120"/>
          </a:xfrm>
          <a:prstGeom prst="ellipse">
            <a:avLst/>
          </a:prstGeom>
          <a:gradFill rotWithShape="0">
            <a:gsLst>
              <a:gs pos="0">
                <a:srgbClr val="98c723"/>
              </a:gs>
              <a:gs pos="100000">
                <a:srgbClr val="ffffff">
                  <a:alpha val="44313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(G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12"/>
          <p:cNvGraphicFramePr/>
          <p:nvPr/>
        </p:nvGraphicFramePr>
        <p:xfrm>
          <a:off x="228600" y="1676520"/>
          <a:ext cx="1638000" cy="342864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9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1638000" cy="34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ight Arrow 7"/>
          <p:cNvSpPr/>
          <p:nvPr/>
        </p:nvSpPr>
        <p:spPr>
          <a:xfrm>
            <a:off x="6095880" y="3657600"/>
            <a:ext cx="1218960" cy="30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8c723"/>
          </a:solidFill>
          <a:ln>
            <a:solidFill>
              <a:srgbClr val="70931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5"/>
          <p:cNvGraphicFramePr/>
          <p:nvPr/>
        </p:nvGraphicFramePr>
        <p:xfrm>
          <a:off x="7391520" y="2819520"/>
          <a:ext cx="1752120" cy="2590560"/>
        </p:xfrm>
        <a:graphic>
          <a:graphicData uri="http://schemas.openxmlformats.org/presentationml/2006/ole">
            <p:oleObj progId="ChemDraw.Document.6.0" r:id="rId3" spid="">
              <p:embed/>
              <p:pic>
                <p:nvPicPr>
                  <p:cNvPr id="9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2819520"/>
                    <a:ext cx="17521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0" y="380880"/>
            <a:ext cx="9143640" cy="624600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xampl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Carbon dioxide, Iodine, Naphthalene, Benzo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por on cooling gives crystals of the pure solid organic compound, the crystalline material so obtained is called subli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limation used to purification of solid organic compound by separating volatile organic compounds from nonvolatile impu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0" y="380880"/>
            <a:ext cx="9143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200000"/>
              </a:lnSpc>
              <a:buClr>
                <a:srgbClr val="ff0000"/>
              </a:buClr>
              <a:buSzPct val="120000"/>
              <a:buFont typeface="Arial"/>
              <a:buAutoNum type="arabicParenR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lid 0.5 gm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nzoic 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placed in a sublimation appara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200000"/>
              </a:lnSpc>
              <a:buClr>
                <a:srgbClr val="ff0000"/>
              </a:buClr>
              <a:buSzPct val="120000"/>
              <a:buFont typeface="Arial"/>
              <a:buAutoNum type="arabicParenR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heating for 30 min, the cooled surface is weigh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200000"/>
              </a:lnSpc>
              <a:buClr>
                <a:srgbClr val="ff0000"/>
              </a:buClr>
              <a:buSzPct val="120000"/>
              <a:buFont typeface="Arial"/>
              <a:buAutoNum type="arabicParenR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centage of purity is calcu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200000"/>
              </a:lnSpc>
              <a:buClr>
                <a:srgbClr val="ff0000"/>
              </a:buClr>
              <a:buSzPct val="120000"/>
              <a:buFont typeface="Arial"/>
              <a:buAutoNum type="arabicParenR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purity= wt. of pure solid/wt. of total so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4"/>
          <p:cNvSpPr/>
          <p:nvPr/>
        </p:nvSpPr>
        <p:spPr>
          <a:xfrm>
            <a:off x="3602520" y="468720"/>
            <a:ext cx="1938240" cy="516240"/>
          </a:xfrm>
          <a:prstGeom prst="rect">
            <a:avLst/>
          </a:prstGeom>
          <a:solidFill>
            <a:srgbClr val="ffffff"/>
          </a:solidFill>
          <a:ln>
            <a:solidFill>
              <a:srgbClr val="e0773c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dk1"/>
                </a:solidFill>
                <a:latin typeface="Arial"/>
              </a:rPr>
              <a:t>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09920" cy="56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rcRect l="19647" t="36321" r="6249" b="30135"/>
          <a:stretch/>
        </p:blipFill>
        <p:spPr>
          <a:xfrm>
            <a:off x="0" y="1371600"/>
            <a:ext cx="9143640" cy="2839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rcRect l="44679" t="39137" r="11774" b="29216"/>
          <a:stretch/>
        </p:blipFill>
        <p:spPr>
          <a:xfrm>
            <a:off x="653040" y="4211640"/>
            <a:ext cx="7534440" cy="2646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3602520" y="468720"/>
            <a:ext cx="1938240" cy="516240"/>
          </a:xfrm>
          <a:prstGeom prst="rect">
            <a:avLst/>
          </a:prstGeom>
          <a:solidFill>
            <a:srgbClr val="ffffff"/>
          </a:solidFill>
          <a:ln>
            <a:solidFill>
              <a:srgbClr val="e0773c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dk1"/>
                </a:solidFill>
                <a:latin typeface="Arial"/>
              </a:rPr>
              <a:t>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larity">
  <a:themeElements>
    <a:clrScheme name="Composite">
      <a:dk1>
        <a:srgbClr val="000000"/>
      </a:dk1>
      <a:lt1>
        <a:srgbClr val="ffffff"/>
      </a:lt1>
      <a:dk2>
        <a:srgbClr val="5b6973"/>
      </a:dk2>
      <a:lt2>
        <a:srgbClr val="e7eced"/>
      </a:lt2>
      <a:accent1>
        <a:srgbClr val="98c723"/>
      </a:accent1>
      <a:accent2>
        <a:srgbClr val="59b0b9"/>
      </a:accent2>
      <a:accent3>
        <a:srgbClr val="deae00"/>
      </a:accent3>
      <a:accent4>
        <a:srgbClr val="b77bb4"/>
      </a:accent4>
      <a:accent5>
        <a:srgbClr val="e0773c"/>
      </a:accent5>
      <a:accent6>
        <a:srgbClr val="a98d63"/>
      </a:accent6>
      <a:hlink>
        <a:srgbClr val="26cbec"/>
      </a:hlink>
      <a:folHlink>
        <a:srgbClr val="59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larity">
  <a:themeElements>
    <a:clrScheme name="Composite">
      <a:dk1>
        <a:srgbClr val="000000"/>
      </a:dk1>
      <a:lt1>
        <a:srgbClr val="ffffff"/>
      </a:lt1>
      <a:dk2>
        <a:srgbClr val="5b6973"/>
      </a:dk2>
      <a:lt2>
        <a:srgbClr val="e7eced"/>
      </a:lt2>
      <a:accent1>
        <a:srgbClr val="98c723"/>
      </a:accent1>
      <a:accent2>
        <a:srgbClr val="59b0b9"/>
      </a:accent2>
      <a:accent3>
        <a:srgbClr val="deae00"/>
      </a:accent3>
      <a:accent4>
        <a:srgbClr val="b77bb4"/>
      </a:accent4>
      <a:accent5>
        <a:srgbClr val="e0773c"/>
      </a:accent5>
      <a:accent6>
        <a:srgbClr val="a98d63"/>
      </a:accent6>
      <a:hlink>
        <a:srgbClr val="26cbec"/>
      </a:hlink>
      <a:folHlink>
        <a:srgbClr val="59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larity</Template>
  <TotalTime>671</TotalTime>
  <Application>LibreOffice/7.4.7.2$Linux_X86_64 LibreOffice_project/40$Build-2</Application>
  <AppVersion>15.0000</AppVersion>
  <Words>195</Words>
  <Paragraphs>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8:05:52Z</dcterms:created>
  <dc:creator>Wrea</dc:creator>
  <dc:description/>
  <dc:language>en-US</dc:language>
  <cp:lastModifiedBy>Wrea</cp:lastModifiedBy>
  <dcterms:modified xsi:type="dcterms:W3CDTF">2018-05-14T15:35:29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9</vt:r8>
  </property>
</Properties>
</file>