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75D-CD7E-42B4-9661-327ACF9F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E91-0AE7-4334-A72E-7B035C22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741-0ADF-4C49-BF51-961E38F9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E9D0-740D-4FED-9974-80AD615D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3C50-E56D-4C07-A89A-D2A3376B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30A4-46EF-4723-92FB-E70EF513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B9D1-79CB-40E6-A16E-95FD7418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9BD2-CE77-403F-B756-99446218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5699-3913-4DD7-9681-AAEB78E3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BC3A-665E-4DE1-800F-7386EDBC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5E66-D7E0-4E30-9199-8463A1AA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604-13D5-4ECA-B7D8-36D825B4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36EB-54F9-4C09-AAA0-BBAF2AA7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063B-F35F-4FA5-881E-3BE7892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EED3-47FE-4B9D-A31C-8ADAC5DA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FB82-C3CB-452B-B9B1-0CDE2059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96CF-330A-4A0D-A850-BE0AD8B5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AF9-85E7-4EAD-ACEA-282822DE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177-CD12-4210-B037-CC937F33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561-7525-4B7A-B31E-A147AF10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8ED6-4150-491C-A675-6388308E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72E-F92F-4892-BF56-8067E31E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1BD-FC75-4E7E-ADE5-B59F3DBF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C97-7147-438A-83C8-BDA9360D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565B550-4954-4EDA-A037-127F5803CD8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3640" cy="2282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3640" cy="3654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00" strike="noStrike">
                <a:solidFill>
                  <a:srgbClr val="5b6973"/>
                </a:solidFill>
                <a:latin typeface="Arial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100000"/>
              </a:lnSpc>
              <a:spcBef>
                <a:spcPts val="479"/>
              </a:spcBef>
              <a:buClr>
                <a:srgbClr val="98c723"/>
              </a:buClr>
              <a:buSzPct val="8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880">
              <a:lnSpc>
                <a:spcPct val="100000"/>
              </a:lnSpc>
              <a:spcBef>
                <a:spcPts val="400"/>
              </a:spcBef>
              <a:buClr>
                <a:srgbClr val="98c723"/>
              </a:buClr>
              <a:buSzPct val="8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82880">
              <a:lnSpc>
                <a:spcPct val="100000"/>
              </a:lnSpc>
              <a:spcBef>
                <a:spcPts val="360"/>
              </a:spcBef>
              <a:buClr>
                <a:srgbClr val="98c723"/>
              </a:buClr>
              <a:buSzPct val="90000"/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05840" indent="-182880">
              <a:lnSpc>
                <a:spcPct val="100000"/>
              </a:lnSpc>
              <a:spcBef>
                <a:spcPts val="320"/>
              </a:spcBef>
              <a:buClr>
                <a:srgbClr val="98c723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137160">
              <a:lnSpc>
                <a:spcPct val="100000"/>
              </a:lnSpc>
              <a:spcBef>
                <a:spcPts val="281"/>
              </a:spcBef>
              <a:buClr>
                <a:srgbClr val="98c723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18360"/>
            <a:ext cx="28951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29000" y="18360"/>
            <a:ext cx="411444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18360"/>
            <a:ext cx="1066320" cy="3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73E4D649-772B-430A-9CFA-EB2A817557A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0" y="2213280"/>
            <a:ext cx="9143640" cy="1918080"/>
          </a:xfrm>
          <a:prstGeom prst="rect">
            <a:avLst/>
          </a:prstGeom>
          <a:solidFill>
            <a:srgbClr val="ffffff"/>
          </a:solidFill>
          <a:ln>
            <a:solidFill>
              <a:srgbClr val="b77bb4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8000" spc="-1" strike="noStrike">
                <a:solidFill>
                  <a:srgbClr val="00b050"/>
                </a:solidFill>
                <a:latin typeface="Arial"/>
              </a:rPr>
              <a:t>Sublim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952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304920"/>
            <a:ext cx="914364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ff0000"/>
              </a:buClr>
              <a:buSzPct val="150000"/>
              <a:buFont typeface="Wingdings" charset="2"/>
              <a:buChar char="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lim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ansition of a substance from the solid phase to the gas phase without passing through an intermediate liquid ph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algn="just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b0f0"/>
                </a:solidFill>
                <a:latin typeface="Arial"/>
              </a:rPr>
              <a:t>Solid↔ vap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380880"/>
            <a:ext cx="9143640" cy="58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2800" spc="-1" strike="noStrike">
                <a:solidFill>
                  <a:srgbClr val="00b0f0"/>
                </a:solidFill>
                <a:latin typeface="Arial"/>
              </a:rPr>
              <a:t>sublimation can be used to purify an organic compound only after meeting four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ff0000"/>
              </a:buClr>
              <a:buFont typeface="Arial"/>
              <a:buAutoNum type="arabicParenR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ound must vaporize without mel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ff0000"/>
              </a:buClr>
              <a:buFont typeface="Arial"/>
              <a:buAutoNum type="arabicParenR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stable enough to vaporize without decomp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ff0000"/>
              </a:buClr>
              <a:buFont typeface="Arial"/>
              <a:buAutoNum type="arabicParenR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pors of the compound must be able to condense back to the sol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ff0000"/>
              </a:buClr>
              <a:buFont typeface="Arial"/>
              <a:buAutoNum type="arabicParenR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rities within the compound do not also subl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72392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i="1" lang="en-US" sz="4000" spc="-100" strike="noStrike">
                <a:solidFill>
                  <a:srgbClr val="5b6973"/>
                </a:solidFill>
                <a:latin typeface="Times New Roman"/>
              </a:rPr>
              <a:t>Sublim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1816200" y="4952880"/>
            <a:ext cx="76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Sol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ight Arrow 7"/>
          <p:cNvSpPr/>
          <p:nvPr/>
        </p:nvSpPr>
        <p:spPr>
          <a:xfrm>
            <a:off x="1981080" y="3581280"/>
            <a:ext cx="1599840" cy="380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8c723"/>
          </a:solidFill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8"/>
          <p:cNvSpPr/>
          <p:nvPr/>
        </p:nvSpPr>
        <p:spPr>
          <a:xfrm>
            <a:off x="3585240" y="2747160"/>
            <a:ext cx="2426760" cy="2274120"/>
          </a:xfrm>
          <a:prstGeom prst="ellipse">
            <a:avLst/>
          </a:prstGeom>
          <a:gradFill rotWithShape="0">
            <a:gsLst>
              <a:gs pos="0">
                <a:srgbClr val="98c723"/>
              </a:gs>
              <a:gs pos="100000">
                <a:srgbClr val="ffffff">
                  <a:alpha val="4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12"/>
          <p:cNvGraphicFramePr/>
          <p:nvPr/>
        </p:nvGraphicFramePr>
        <p:xfrm>
          <a:off x="228600" y="1676520"/>
          <a:ext cx="1638000" cy="342864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9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1638000" cy="34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ight Arrow 7"/>
          <p:cNvSpPr/>
          <p:nvPr/>
        </p:nvSpPr>
        <p:spPr>
          <a:xfrm>
            <a:off x="6095880" y="3657600"/>
            <a:ext cx="1218960" cy="30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8c723"/>
          </a:solidFill>
          <a:ln>
            <a:solidFill>
              <a:srgbClr val="70931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15"/>
          <p:cNvGraphicFramePr/>
          <p:nvPr/>
        </p:nvGraphicFramePr>
        <p:xfrm>
          <a:off x="7391520" y="2819520"/>
          <a:ext cx="1752120" cy="2590560"/>
        </p:xfrm>
        <a:graphic>
          <a:graphicData uri="http://schemas.openxmlformats.org/presentationml/2006/ole">
            <p:oleObj progId="ChemDraw.Document.6.0" r:id="rId3" spid="">
              <p:embed/>
              <p:pic>
                <p:nvPicPr>
                  <p:cNvPr id="9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1520" y="2819520"/>
                    <a:ext cx="17521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0" y="380880"/>
            <a:ext cx="9143640" cy="624600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xamp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Carbon dioxide, Iodine, Naphthalene, Benzo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por on cooling gives crystals of the pure solid organic compound, the crystalline material so obtained is called subl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limation used to purification of solid organic compound by separating volatile organic compounds from nonvolatile impu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380880"/>
            <a:ext cx="9143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200000"/>
              </a:lnSpc>
              <a:buClr>
                <a:srgbClr val="ff0000"/>
              </a:buClr>
              <a:buSzPct val="120000"/>
              <a:buFont typeface="Arial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lid 0.5 gm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enzoic 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placed in a sublimation appar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200000"/>
              </a:lnSpc>
              <a:buClr>
                <a:srgbClr val="ff0000"/>
              </a:buClr>
              <a:buSzPct val="120000"/>
              <a:buFont typeface="Arial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heating for 30 min, the cooled surface is weigh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200000"/>
              </a:lnSpc>
              <a:buClr>
                <a:srgbClr val="ff0000"/>
              </a:buClr>
              <a:buSzPct val="120000"/>
              <a:buFont typeface="Arial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ntage of purity is calc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200000"/>
              </a:lnSpc>
              <a:buClr>
                <a:srgbClr val="ff0000"/>
              </a:buClr>
              <a:buSzPct val="120000"/>
              <a:buFont typeface="Arial"/>
              <a:buAutoNum type="arabicParenR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of purity= wt. of pure solid/wt. of total so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4"/>
          <p:cNvSpPr/>
          <p:nvPr/>
        </p:nvSpPr>
        <p:spPr>
          <a:xfrm>
            <a:off x="3602520" y="468720"/>
            <a:ext cx="1938240" cy="516240"/>
          </a:xfrm>
          <a:prstGeom prst="rect">
            <a:avLst/>
          </a:prstGeom>
          <a:solidFill>
            <a:srgbClr val="ffffff"/>
          </a:solidFill>
          <a:ln>
            <a:solidFill>
              <a:srgbClr val="e0773c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Arial"/>
              </a:rPr>
              <a:t>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009920" cy="56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rcRect l="19647" t="36321" r="6249" b="30135"/>
          <a:stretch/>
        </p:blipFill>
        <p:spPr>
          <a:xfrm>
            <a:off x="0" y="1371600"/>
            <a:ext cx="9143640" cy="283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rcRect l="44679" t="39137" r="11774" b="29216"/>
          <a:stretch/>
        </p:blipFill>
        <p:spPr>
          <a:xfrm>
            <a:off x="653040" y="4211640"/>
            <a:ext cx="7534440" cy="2646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3602520" y="468720"/>
            <a:ext cx="1938240" cy="516240"/>
          </a:xfrm>
          <a:prstGeom prst="rect">
            <a:avLst/>
          </a:prstGeom>
          <a:solidFill>
            <a:srgbClr val="ffffff"/>
          </a:solidFill>
          <a:ln>
            <a:solidFill>
              <a:srgbClr val="e0773c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dk1"/>
                </a:solidFill>
                <a:latin typeface="Arial"/>
              </a:rPr>
              <a:t>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larity">
  <a:themeElements>
    <a:clrScheme name="Composite">
      <a:dk1>
        <a:srgbClr val="000000"/>
      </a:dk1>
      <a:lt1>
        <a:srgbClr val="ffffff"/>
      </a:lt1>
      <a:dk2>
        <a:srgbClr val="5b6973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larity">
  <a:themeElements>
    <a:clrScheme name="Composite">
      <a:dk1>
        <a:srgbClr val="000000"/>
      </a:dk1>
      <a:lt1>
        <a:srgbClr val="ffffff"/>
      </a:lt1>
      <a:dk2>
        <a:srgbClr val="5b6973"/>
      </a:dk2>
      <a:lt2>
        <a:srgbClr val="e7eced"/>
      </a:lt2>
      <a:accent1>
        <a:srgbClr val="98c723"/>
      </a:accent1>
      <a:accent2>
        <a:srgbClr val="59b0b9"/>
      </a:accent2>
      <a:accent3>
        <a:srgbClr val="deae00"/>
      </a:accent3>
      <a:accent4>
        <a:srgbClr val="b77bb4"/>
      </a:accent4>
      <a:accent5>
        <a:srgbClr val="e0773c"/>
      </a:accent5>
      <a:accent6>
        <a:srgbClr val="a98d63"/>
      </a:accent6>
      <a:hlink>
        <a:srgbClr val="26cbec"/>
      </a:hlink>
      <a:folHlink>
        <a:srgbClr val="598c8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larity</Template>
  <TotalTime>671</TotalTime>
  <Application>LibreOffice/7.4.7.2$Linux_X86_64 LibreOffice_project/40$Build-2</Application>
  <AppVersion>15.0000</AppVersion>
  <Words>195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8:05:52Z</dcterms:created>
  <dc:creator>Wrea</dc:creator>
  <dc:description/>
  <dc:language>en-US</dc:language>
  <cp:lastModifiedBy>Wrea</cp:lastModifiedBy>
  <dcterms:modified xsi:type="dcterms:W3CDTF">2018-05-14T15:35:29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9</vt:r8>
  </property>
</Properties>
</file>