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262-1A70-4676-8662-8603B6C9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E79-50FF-4B93-B16A-A9F5498C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124-1DAD-4124-A124-D3F1D8E2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A01-DA50-4604-A271-A6435D14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D9A-7D10-4484-AD70-346C0C38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D56-672D-4ECB-968E-2B0AB1DC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D9C-88FA-4CFB-98E0-3C44811F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8F0-3549-42FA-8FC5-575341D1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A2F-C4AE-4E60-BBDD-29260DD3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13D-2243-49A1-AC40-1FEA604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DDE-D014-4DA9-8AEB-FF57C8D6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258-AC2B-4774-8F3A-3DC4E47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C5AC234-D140-4D59-8E2F-E2D055E9D4A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2213280"/>
            <a:ext cx="914364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b77bb4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Arial"/>
              </a:rPr>
              <a:t>Boiling Point Determin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34488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actors affecting boiling point (b.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tructure of the molecule &amp; intermolecular inter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70c0"/>
                </a:solidFill>
                <a:latin typeface="Arial"/>
              </a:rPr>
              <a:t>4- Hydrogen bo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Related image"/>
          <p:cNvPicPr/>
          <p:nvPr/>
        </p:nvPicPr>
        <p:blipFill>
          <a:blip r:embed="rId1"/>
          <a:srcRect l="2561" t="0" r="17612" b="42418"/>
          <a:stretch/>
        </p:blipFill>
        <p:spPr>
          <a:xfrm>
            <a:off x="0" y="2590920"/>
            <a:ext cx="4647960" cy="42112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426672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971440" cy="259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380880"/>
            <a:ext cx="3447000" cy="2949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rcRect l="14756" t="15743" r="14236" b="10763"/>
          <a:stretch/>
        </p:blipFill>
        <p:spPr>
          <a:xfrm>
            <a:off x="1546920" y="3331080"/>
            <a:ext cx="5994720" cy="3526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602520" y="468720"/>
            <a:ext cx="1938240" cy="516240"/>
          </a:xfrm>
          <a:prstGeom prst="rect">
            <a:avLst/>
          </a:prstGeom>
          <a:solidFill>
            <a:srgbClr val="ffffff"/>
          </a:solidFill>
          <a:ln>
            <a:solidFill>
              <a:srgbClr val="e0773c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Arial"/>
              </a:rPr>
              <a:t>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5" descr=""/>
          <p:cNvPicPr/>
          <p:nvPr/>
        </p:nvPicPr>
        <p:blipFill>
          <a:blip r:embed="rId1"/>
          <a:srcRect l="3723" t="0" r="0" b="0"/>
          <a:stretch/>
        </p:blipFill>
        <p:spPr>
          <a:xfrm>
            <a:off x="0" y="1219320"/>
            <a:ext cx="8762760" cy="5567040"/>
          </a:xfrm>
          <a:prstGeom prst="rect">
            <a:avLst/>
          </a:prstGeom>
          <a:ln w="9525">
            <a:noFill/>
          </a:ln>
        </p:spPr>
      </p:pic>
      <p:sp>
        <p:nvSpPr>
          <p:cNvPr id="66" name="TextBox 2"/>
          <p:cNvSpPr/>
          <p:nvPr/>
        </p:nvSpPr>
        <p:spPr>
          <a:xfrm>
            <a:off x="803520" y="304920"/>
            <a:ext cx="2689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366840"/>
            <a:ext cx="9143640" cy="61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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iling p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emperature at which the vapor pressure of the liquid is equal to the atmospheric pressure and change its state from a liquid to a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"/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 terms of intermolecular interaction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.p. represents the energy required to overcome the various intermolecular attractions binding the molecules as a liquid (e.g. dipole-dipole attraction and hydrogen bonding). Therefore the boiling point of a liquid is also an indicator of the strength of the attractive forces between the liquid’s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533520"/>
            <a:ext cx="914364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actors affecting boiling point (b.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SzPct val="150000"/>
              <a:buFont typeface="Arial"/>
              <a:buAutoNum type="arabicParenR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SzPct val="150000"/>
              <a:buFont typeface="Arial"/>
              <a:buAutoNum type="arabicParenR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ar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SzPct val="150000"/>
              <a:buFont typeface="Arial"/>
              <a:buAutoNum type="arabicParenR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u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SzPct val="150000"/>
              <a:buFont typeface="Arial"/>
              <a:buAutoNum type="arabicParenR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the molecule &amp; intermolecular interaction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7030a0"/>
              </a:buClr>
              <a:buFont typeface="Arial"/>
              <a:buAutoNum type="alphaUcPeriod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7030a0"/>
              </a:buClr>
              <a:buFont typeface="Arial"/>
              <a:buAutoNum type="alphaUcPeriod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7030a0"/>
              </a:buClr>
              <a:buFont typeface="Arial"/>
              <a:buAutoNum type="alphaUcPeriod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der Waal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7030a0"/>
              </a:buClr>
              <a:buFont typeface="Arial"/>
              <a:buAutoNum type="alphaUcPeriod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Content Placeholder 2"/>
          <p:cNvSpPr/>
          <p:nvPr/>
        </p:nvSpPr>
        <p:spPr>
          <a:xfrm>
            <a:off x="0" y="563760"/>
            <a:ext cx="914364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actors affecting boiling point (b.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479"/>
              </a:spcBef>
              <a:buClr>
                <a:srgbClr val="ff0000"/>
              </a:buClr>
              <a:buSzPct val="105000"/>
              <a:buFont typeface="Arial"/>
              <a:buAutoNum type="alphaLcParenR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ressure is less than 1 atm , the boiling point of the liquid is less than its normal b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479"/>
              </a:spcBef>
              <a:buClr>
                <a:srgbClr val="ff0000"/>
              </a:buClr>
              <a:buSzPct val="105000"/>
              <a:buFont typeface="Arial"/>
              <a:buAutoNum type="alphaLcParenR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 = 1 atm, the b.p. of the liquid is called normal boil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479"/>
              </a:spcBef>
              <a:buClr>
                <a:srgbClr val="ff0000"/>
              </a:buClr>
              <a:buSzPct val="105000"/>
              <a:buFont typeface="Arial"/>
              <a:buAutoNum type="alphaLcParenR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 is greater than 1 atm, the b.p. of the liquid is greater than its normal b.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344880"/>
            <a:ext cx="91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actors affecting boiling point (b.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lecular 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creasing Molecular weight b.p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Image result for boiling point vs molecular weight"/>
          <p:cNvPicPr/>
          <p:nvPr/>
        </p:nvPicPr>
        <p:blipFill>
          <a:blip r:embed="rId1"/>
          <a:stretch/>
        </p:blipFill>
        <p:spPr>
          <a:xfrm>
            <a:off x="0" y="2819520"/>
            <a:ext cx="9143640" cy="47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344880"/>
            <a:ext cx="914364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actors affecting boiling point (b.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mpu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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olution has a higher boiling point than a pure solvent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" charset="2"/>
              <a:buChar char="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.p. of pure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is 100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, but that b.p. can be elevated by adding a solute such as a sa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344880"/>
            <a:ext cx="91436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actors affecting boiling point (b.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tructure of the molecule &amp; intermolecular inter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70c0"/>
                </a:solidFill>
                <a:latin typeface="Arial"/>
              </a:rPr>
              <a:t>1-Bran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branched series, increased branch leads to lower boiling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PRAC. ORG. CHEM\MELTING\m.p.REVIEW\tetris-31.jpg"/>
          <p:cNvPicPr/>
          <p:nvPr/>
        </p:nvPicPr>
        <p:blipFill>
          <a:blip r:embed="rId1"/>
          <a:srcRect l="0" t="0" r="0" b="13843"/>
          <a:stretch/>
        </p:blipFill>
        <p:spPr>
          <a:xfrm>
            <a:off x="2133720" y="3068640"/>
            <a:ext cx="5771880" cy="37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344880"/>
            <a:ext cx="914364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actors affecting boiling point (b.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tructure of the molecule &amp; intermolecular inter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70c0"/>
                </a:solidFill>
                <a:latin typeface="Arial"/>
              </a:rPr>
              <a:t>2-Po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rity raises b.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Related image"/>
          <p:cNvPicPr/>
          <p:nvPr/>
        </p:nvPicPr>
        <p:blipFill>
          <a:blip r:embed="rId1"/>
          <a:srcRect l="10302" t="17981" r="8942" b="48075"/>
          <a:stretch/>
        </p:blipFill>
        <p:spPr>
          <a:xfrm>
            <a:off x="879840" y="3733920"/>
            <a:ext cx="73839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344880"/>
            <a:ext cx="91436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actors affecting boiling point (b.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tructure of the molecule &amp; intermolecular inter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600" spc="-1" strike="noStrike">
                <a:solidFill>
                  <a:srgbClr val="0070c0"/>
                </a:solidFill>
                <a:latin typeface="Arial"/>
              </a:rPr>
              <a:t>3-Van der Waal inter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number of carbon in an alkanes increase, the boiling point increase due to the larger surface area and the van der walls interactions increa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Image result for hydrocarbon boiling points and van der waal forces"/>
          <p:cNvPicPr/>
          <p:nvPr/>
        </p:nvPicPr>
        <p:blipFill>
          <a:blip r:embed="rId1"/>
          <a:srcRect l="6817" t="21870" r="9850" b="15826"/>
          <a:stretch/>
        </p:blipFill>
        <p:spPr>
          <a:xfrm>
            <a:off x="1856520" y="3391920"/>
            <a:ext cx="529200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larity">
  <a:themeElements>
    <a:clrScheme name="Composite">
      <a:dk1>
        <a:srgbClr val="000000"/>
      </a:dk1>
      <a:lt1>
        <a:srgbClr val="ffffff"/>
      </a:lt1>
      <a:dk2>
        <a:srgbClr val="5b6973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508</TotalTime>
  <Application>LibreOffice/7.4.7.2$Linux_X86_64 LibreOffice_project/40$Build-2</Application>
  <AppVersion>15.0000</AppVersion>
  <Words>362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8:05:52Z</dcterms:created>
  <dc:creator>Wrea</dc:creator>
  <dc:description/>
  <dc:language>en-US</dc:language>
  <cp:lastModifiedBy>Wrea</cp:lastModifiedBy>
  <dcterms:modified xsi:type="dcterms:W3CDTF">2018-04-13T17:59:23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