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8BA-70D2-4A6C-B263-D6E64D8B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8F8-E615-4D12-AE4D-F686B86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E99-4881-4E0F-8FB8-8F800D9A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F9A-EB3F-46C6-944D-D5DFBE55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319-7003-4E56-8925-12793DD2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12E-3127-4FD8-AF62-EB5E658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6EC-1BA9-43E4-8C5C-CEE38420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FC9-4FB4-47EC-B34B-79FCDD1C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551-ECB9-40B1-B0E2-0DAEC564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AF3-1B6F-4370-8023-E954DAE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BF9-CD20-44C5-9E3B-0801635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E18-43CE-4B80-915D-6A852AB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399843-2A86-4AF7-99D6-7D234277207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4640" y="4964040"/>
            <a:ext cx="63896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10 ml of vinegar and dilute to 25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57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52280" y="1219680"/>
            <a:ext cx="853416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of Neutralization Titration (Acid – Base Titration): Determination of Acetic Acid in Vin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"/>
          <p:cNvGraphicFramePr/>
          <p:nvPr/>
        </p:nvGraphicFramePr>
        <p:xfrm>
          <a:off x="894240" y="990720"/>
          <a:ext cx="7487280" cy="54097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4240" y="990720"/>
                    <a:ext cx="7487280" cy="54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52280" y="613800"/>
            <a:ext cx="8610120" cy="584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lculation (N) of acetic acid in 250 ml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a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0.1 × 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a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1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./L (Normal) (Acetic acid in 25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lculation (N) of acetic acid in 10 ml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efore di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fter d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1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efore di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× 25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fter d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eq./L (Normal) (Acetic acid in 1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400040" y="666720"/>
            <a:ext cx="3037320" cy="70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425600" y="1676520"/>
            <a:ext cx="299376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1186920" y="3429000"/>
            <a:ext cx="3841920" cy="752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2590920" y="4343400"/>
            <a:ext cx="3641040" cy="68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5"/>
          <a:stretch/>
        </p:blipFill>
        <p:spPr>
          <a:xfrm>
            <a:off x="2366280" y="5381640"/>
            <a:ext cx="3272400" cy="790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857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398600" y="2747160"/>
            <a:ext cx="66592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t.=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   (Acetic acid in 1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2743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3476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4343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265480" y="1523880"/>
            <a:ext cx="41724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65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8:03:03Z</dcterms:created>
  <dc:creator>hunar</dc:creator>
  <dc:description/>
  <dc:language>en-US</dc:language>
  <cp:lastModifiedBy>Wrea</cp:lastModifiedBy>
  <dcterms:modified xsi:type="dcterms:W3CDTF">2018-01-28T18:56:50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