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D9A-CC09-4EC1-8D4A-AD916B1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072-FE34-4FF5-A820-17DB2EE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7F5B-6D4F-48E0-AA0A-2110796C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2CE-D1DC-4B9D-B4F5-61AEED8A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89D8-42A5-4875-91B5-D66FA8CF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2DE-EFE7-469D-A9DE-ADDFBB84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F0C-C0A3-4FCC-84E4-BF6D8DFC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E7B-5D67-44A8-B0FB-836FD898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445-D5FE-41F5-A0DC-7C9828E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AD0-0EF1-43B7-8717-2CD85FC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F62-7337-4F8D-AAB7-FE4EC5AB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A27-588F-45F1-A39B-8FAD5872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F7FCA3-C67E-4E9A-BD62-28D2AC63B43F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04640" y="4964040"/>
            <a:ext cx="63896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10 ml of vinegar and dilute to 250 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0" y="457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52280" y="1219680"/>
            <a:ext cx="853416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of Neutralization Titration (Acid – Base Titration): Determination of Acetic Acid in Vin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"/>
          <p:cNvGraphicFramePr/>
          <p:nvPr/>
        </p:nvGraphicFramePr>
        <p:xfrm>
          <a:off x="894240" y="990720"/>
          <a:ext cx="7487280" cy="54097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4240" y="990720"/>
                    <a:ext cx="7487280" cy="54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152280" y="613800"/>
            <a:ext cx="8610120" cy="5840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lculation (N) of acetic acid in 250 ml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a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0.1 × 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a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1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./L (Normal) (Acetic acid in 25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lculation (N) of acetic acid in 10 ml vine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efore di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fter d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 × 1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efore di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× 250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fter d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=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eq./L (Normal) (Acetic acid in 1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400040" y="666720"/>
            <a:ext cx="3037320" cy="704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1425600" y="1676520"/>
            <a:ext cx="2993760" cy="780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1186920" y="3429000"/>
            <a:ext cx="3841920" cy="752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2590920" y="4343400"/>
            <a:ext cx="3641040" cy="68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5"/>
          <a:stretch/>
        </p:blipFill>
        <p:spPr>
          <a:xfrm>
            <a:off x="2366280" y="5381640"/>
            <a:ext cx="3272400" cy="790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85716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398600" y="2747160"/>
            <a:ext cx="665928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t.= 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   (Acetic acid in 10 ml vineg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27432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3476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0" y="43434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265480" y="1523880"/>
            <a:ext cx="41724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65</Words>
  <Paragraphs>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8:03:03Z</dcterms:created>
  <dc:creator>hunar</dc:creator>
  <dc:description/>
  <dc:language>en-US</dc:language>
  <cp:lastModifiedBy>Wrea</cp:lastModifiedBy>
  <dcterms:modified xsi:type="dcterms:W3CDTF">2018-01-28T18:56:50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4</vt:r8>
  </property>
</Properties>
</file>