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3875-7B69-4C18-81E1-545E7A1D3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85F9-2AAA-462D-88BF-B953C5E8E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D17-465F-4E2E-B051-A5C0E313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F12F-CB41-45C4-8CC5-07A6E257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0D68-C99E-4A08-9889-7C32F3178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845-ABE2-47FD-A046-68C75568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4AB5-2618-4B0A-85FE-DB9303D8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279-7531-4FF3-8CFE-7F83EB65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4FA8-2CB1-4CE6-BA63-158311C8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DEF1-C971-44AB-8138-0ACB8781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AFD-3E3E-451E-8911-669B8B4C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F72-8A09-4EC5-8A9F-F412C82A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2369E80-E705-4C07-972B-90B0AA2CD1A9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0" y="1174320"/>
            <a:ext cx="861012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periment No.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ion and standardization of approximately 0.1N sodium hydroxide (NaOH) by using standardized hydrochloric acid (HC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0" y="645120"/>
            <a:ext cx="9143640" cy="1835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dium hydroxide are always coated with thin layer of sodium carbonate as a result of reaction of hydroxide with atmospheric carbon dioxide (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248520"/>
            <a:ext cx="9143640" cy="45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1190520" y="2514600"/>
          <a:ext cx="6962400" cy="4568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90520" y="2514600"/>
                    <a:ext cx="6962400" cy="45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Rectangle 4"/>
          <p:cNvSpPr/>
          <p:nvPr/>
        </p:nvSpPr>
        <p:spPr>
          <a:xfrm>
            <a:off x="0" y="3491640"/>
            <a:ext cx="9143640" cy="283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13334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ure sodium hydroxide cannot be obtained; so that a standard solution of NaOH cannot be prepared by dissolving a known weight in a definite volume of water. Therefore carbonate should remove from sodium hydroxide before preparation of the solution. Several methods are available for this purpose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304920" y="1324800"/>
            <a:ext cx="8610120" cy="3031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- Ba(OH)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metho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slight excess of barium hydroxide is added to the solution of NaOH to precipitate carbonate as Ba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precipitation), then filtered the solution to remove the precipitate (Filtrati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4" name="Object 2"/>
          <p:cNvGraphicFramePr/>
          <p:nvPr/>
        </p:nvGraphicFramePr>
        <p:xfrm>
          <a:off x="762120" y="4676760"/>
          <a:ext cx="7391160" cy="80928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676760"/>
                    <a:ext cx="7391160" cy="80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0" y="108360"/>
            <a:ext cx="9143640" cy="293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Anion exchange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nvolves passing NaOH solution through a column of a strongly basic anion exchanger which has higher affinity to carbonate anion 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han for hydroxide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 The carbonate is removed and replaced by 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f the anion exchan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1066680" y="2950920"/>
          <a:ext cx="6324120" cy="383040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50920"/>
                    <a:ext cx="6324120" cy="38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80880" y="952920"/>
            <a:ext cx="8686440" cy="4029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eparation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0.1N 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250mL of distill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approximate 0.1N HCl in 250mL of distill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Symbol" charset="2"/>
              <a:buChar char=""/>
              <a:tabLst>
                <a:tab algn="l" pos="457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e approximate 0.1N NaOH in 250mL distilled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549440" y="5603760"/>
            <a:ext cx="5976360" cy="522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OH   +   HCl                      NaCl   +  H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5"/>
          <p:cNvCxnSpPr/>
          <p:nvPr/>
        </p:nvCxnSpPr>
        <p:spPr>
          <a:xfrm>
            <a:off x="3809880" y="5867280"/>
            <a:ext cx="1524240" cy="1800"/>
          </a:xfrm>
          <a:prstGeom prst="straightConnector1">
            <a:avLst/>
          </a:prstGeom>
          <a:ln w="25400"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1"/>
          <p:cNvGraphicFramePr/>
          <p:nvPr/>
        </p:nvGraphicFramePr>
        <p:xfrm>
          <a:off x="914400" y="1981080"/>
          <a:ext cx="9600840" cy="23619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6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81080"/>
                    <a:ext cx="960084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AutoShape 2"/>
          <p:cNvSpPr/>
          <p:nvPr/>
        </p:nvSpPr>
        <p:spPr>
          <a:xfrm>
            <a:off x="3238560" y="2438280"/>
            <a:ext cx="495000" cy="171000"/>
          </a:xfrm>
          <a:prstGeom prst="rightArrow">
            <a:avLst>
              <a:gd name="adj1" fmla="val 50000"/>
              <a:gd name="adj2" fmla="val 72222"/>
            </a:avLst>
          </a:prstGeom>
          <a:solidFill>
            <a:srgbClr val="ffffff"/>
          </a:solidFill>
          <a:ln w="9525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numCol="1" spcCol="0" tIns="42840" bIns="4284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264600" y="918360"/>
            <a:ext cx="73220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ion of approximate 0.1N NaOH in 250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28600" y="5497560"/>
            <a:ext cx="8686440" cy="822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solve 1.00 gm of NaOH in 250 mL of distilled water to obtain 0.1N NaOH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561240" y="607320"/>
            <a:ext cx="1791720" cy="456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2"/>
          <p:cNvGraphicFramePr/>
          <p:nvPr/>
        </p:nvGraphicFramePr>
        <p:xfrm>
          <a:off x="2332080" y="1701720"/>
          <a:ext cx="5078160" cy="363672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080" y="1701720"/>
                    <a:ext cx="5078160" cy="36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2" name="Object 1"/>
          <p:cNvGraphicFramePr/>
          <p:nvPr/>
        </p:nvGraphicFramePr>
        <p:xfrm>
          <a:off x="152280" y="1143000"/>
          <a:ext cx="8703360" cy="36572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7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3000"/>
                    <a:ext cx="8703360" cy="36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189</TotalTime>
  <Application>LibreOffice/7.4.7.2$Linux_X86_64 LibreOffice_project/40$Build-2</Application>
  <AppVersion>15.0000</AppVersion>
  <Words>242</Words>
  <Paragraphs>2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08:40:04Z</dcterms:created>
  <dc:creator>hunar</dc:creator>
  <dc:description/>
  <dc:language>en-US</dc:language>
  <cp:lastModifiedBy>Wrea</cp:lastModifiedBy>
  <dcterms:modified xsi:type="dcterms:W3CDTF">2018-02-02T19:00:56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