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C90-BB1B-4EA8-911B-54568351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7A0-FFFE-4159-B542-0747172A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955-D11C-47E7-A172-B67AEDE0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F5B-211C-4CCB-83EA-A0B03714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A5C-090C-4D55-8BFE-71600867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29E-2A90-4603-B356-98F97025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FD1-96E6-4137-8073-F7D6D61C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419-00B8-4511-9034-4511344F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B24-30EF-47E2-A69F-CBF99C86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8C9-94C8-4EB5-8251-F802734D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0DD-EBC1-4ADE-B7EF-D351EDBC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583-B4EC-43A1-8D65-5E8BE221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AF5084-5926-476C-BFFB-1FBA35B4FD90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1174320"/>
            <a:ext cx="861012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periment No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tion and standardization of approximately 0.1N sodium hydroxide (NaOH) by using standardized hydrochloric acid (H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645120"/>
            <a:ext cx="9143640" cy="183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dium hydroxide are always coated with thin layer of sodium carbonate as a result of reaction of hydroxide with atmospheric carbon dioxide (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248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1190520" y="2514600"/>
          <a:ext cx="6962400" cy="45684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514600"/>
                    <a:ext cx="6962400" cy="4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0" y="3491640"/>
            <a:ext cx="914364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133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re sodium hydroxide cannot be obtained; so that a standard solution of NaOH cannot be prepared by dissolving a known weight in a definite volume of water. Therefore carbonate should remove from sodium hydroxide before preparation of the solution. Several methods are available for this purpos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04920" y="1324800"/>
            <a:ext cx="8610120" cy="303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- Ba(OH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light excess of barium hydroxide is added to the solution of NaOH to precipitate carbonate as Ba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precipitation), then filtered the solution to remove the precipitate (Filtr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762120" y="4676760"/>
          <a:ext cx="7391160" cy="80928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676760"/>
                    <a:ext cx="7391160" cy="80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108360"/>
            <a:ext cx="9143640" cy="293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Anion exchang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nvolves passing NaOH solution through a column of a strongly basic anion exchanger which has higher affinity to carbonate anion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an for hydroxide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The carbonate is removed and replaced by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anion excha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58" name="Object 2"/>
          <p:cNvGraphicFramePr/>
          <p:nvPr/>
        </p:nvGraphicFramePr>
        <p:xfrm>
          <a:off x="1066680" y="2950920"/>
          <a:ext cx="6324120" cy="383040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50920"/>
                    <a:ext cx="632412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80880" y="952920"/>
            <a:ext cx="8686440" cy="402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eparation of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 0.1N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250mL of distill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 approximate 0.1N HCl in 250mL of distill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 approximate 0.1N NaOH in 250mL distill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549440" y="5603760"/>
            <a:ext cx="5976360" cy="52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OH   +   HCl                      NaCl   +  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5"/>
          <p:cNvCxnSpPr/>
          <p:nvPr/>
        </p:nvCxnSpPr>
        <p:spPr>
          <a:xfrm>
            <a:off x="3809880" y="5867280"/>
            <a:ext cx="15242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1"/>
          <p:cNvGraphicFramePr/>
          <p:nvPr/>
        </p:nvGraphicFramePr>
        <p:xfrm>
          <a:off x="914400" y="1981080"/>
          <a:ext cx="9600840" cy="236196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960084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AutoShape 2"/>
          <p:cNvSpPr/>
          <p:nvPr/>
        </p:nvSpPr>
        <p:spPr>
          <a:xfrm>
            <a:off x="3238560" y="2438280"/>
            <a:ext cx="495000" cy="171000"/>
          </a:xfrm>
          <a:prstGeom prst="rightArrow">
            <a:avLst>
              <a:gd name="adj1" fmla="val 50000"/>
              <a:gd name="adj2" fmla="val 72222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tIns="42840" bIns="428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64600" y="918360"/>
            <a:ext cx="73220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tion of approximate 0.1N NaOH in 25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28600" y="5497560"/>
            <a:ext cx="86864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solve 1.00 gm of NaOH in 250 mL of distilled water to obtain 0.1N NaOH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561240" y="607320"/>
            <a:ext cx="179172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2"/>
          <p:cNvGraphicFramePr/>
          <p:nvPr/>
        </p:nvGraphicFramePr>
        <p:xfrm>
          <a:off x="2332080" y="1701720"/>
          <a:ext cx="5078160" cy="363672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701720"/>
                    <a:ext cx="5078160" cy="36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2" name="Object 1"/>
          <p:cNvGraphicFramePr/>
          <p:nvPr/>
        </p:nvGraphicFramePr>
        <p:xfrm>
          <a:off x="152280" y="1143000"/>
          <a:ext cx="8703360" cy="365724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703360" cy="36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89</TotalTime>
  <Application>LibreOffice/7.4.7.2$Linux_X86_64 LibreOffice_project/40$Build-2</Application>
  <AppVersion>15.0000</AppVersion>
  <Words>242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8:40:04Z</dcterms:created>
  <dc:creator>hunar</dc:creator>
  <dc:description/>
  <dc:language>en-US</dc:language>
  <cp:lastModifiedBy>Wrea</cp:lastModifiedBy>
  <dcterms:modified xsi:type="dcterms:W3CDTF">2018-02-02T19:00:56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