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FAA-64FC-4346-87ED-9015CCBD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B32-70B1-41CE-8038-0B77A7E0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9A0-5915-402A-9904-BEF6DF48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BDD-9D9D-415D-BFC3-BF1F018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F9E-1FF9-423E-9F63-B44EF31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300D-6682-4695-A5F0-2E1A98F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C14-D271-4CE8-BDA4-E84891B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990A-D2FA-4605-BE83-A582AFE6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19C2-DD7C-4FCD-926C-6D2C1BF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7ABF-895D-42B2-B6FA-A11B25E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314-6A84-41F6-8D76-BCAAAC9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2A2-7412-4A02-8CA2-91E79D0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5D28-C718-4447-A6CD-FA01F81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D62C-E253-4289-B0EB-19A35DC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C11-2C35-4659-834B-3FAFC70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459-5375-4966-923E-B0BBACAF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B9B2-4A06-4527-A886-B9B84ED4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CF0-7691-4EE5-A679-35E8B7BD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F3E-8685-4891-B9B9-BDED6DC4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25C-2375-49D6-964B-A3F00ED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3EC-63F6-4C43-BF6B-D808D40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4C0-9132-4E87-B70D-986D870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D5D-A200-4B1D-931C-C927874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954-10D9-4E73-9D4D-E1B0D53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646A2-797E-416D-8C19-D4C6E69149A3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AB8650-13F3-494B-AC68-206CD2803631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 flipV="1">
            <a:off x="2200320" y="4876920"/>
            <a:ext cx="313920" cy="106632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4"/>
          <p:cNvSpPr/>
          <p:nvPr/>
        </p:nvSpPr>
        <p:spPr>
          <a:xfrm flipH="1" flipV="1">
            <a:off x="5257080" y="4952160"/>
            <a:ext cx="837720" cy="990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AutoShape 3"/>
          <p:cNvSpPr/>
          <p:nvPr/>
        </p:nvSpPr>
        <p:spPr>
          <a:xfrm flipH="1" flipV="1">
            <a:off x="5638680" y="4952160"/>
            <a:ext cx="599760" cy="9140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2"/>
          <p:cNvSpPr/>
          <p:nvPr/>
        </p:nvSpPr>
        <p:spPr>
          <a:xfrm flipH="1" flipV="1">
            <a:off x="3048120" y="4876200"/>
            <a:ext cx="818640" cy="990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133720" y="4362480"/>
            <a:ext cx="4495320" cy="7426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04920" y="930960"/>
            <a:ext cx="861012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 Preparation of solutions fro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known concentration of liq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case we don’t need for the first step about determination of concentration of bottle, only needed to the dilution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nly this relation we needed in these types of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22640" y="381600"/>
            <a:ext cx="1098360" cy="60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95280" y="4428360"/>
            <a:ext cx="7391160" cy="229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M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V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concentr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= (M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V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04920" y="862920"/>
            <a:ext cx="868644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- Oxidation-reduction (Redox)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was the number of electrons donated or accepted in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00800" y="2517840"/>
            <a:ext cx="35110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99920" y="2724480"/>
            <a:ext cx="550872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donated or accepted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Connector 6"/>
          <p:cNvCxnSpPr/>
          <p:nvPr/>
        </p:nvCxnSpPr>
        <p:spPr>
          <a:xfrm>
            <a:off x="1904760" y="2970000"/>
            <a:ext cx="442008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47" name="Rectangle 10"/>
          <p:cNvSpPr/>
          <p:nvPr/>
        </p:nvSpPr>
        <p:spPr>
          <a:xfrm>
            <a:off x="383400" y="3661560"/>
            <a:ext cx="6580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060560" y="4498920"/>
            <a:ext cx="7584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n= 1        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7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6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n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067760" y="5032440"/>
            <a:ext cx="763776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6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C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n= 3                               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n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998640" y="5545440"/>
            <a:ext cx="772956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n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17"/>
          <p:cNvCxnSpPr/>
          <p:nvPr/>
        </p:nvCxnSpPr>
        <p:spPr>
          <a:xfrm>
            <a:off x="1676160" y="47242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2" name="Straight Arrow Connector 18"/>
          <p:cNvCxnSpPr/>
          <p:nvPr/>
        </p:nvCxnSpPr>
        <p:spPr>
          <a:xfrm>
            <a:off x="6248160" y="578952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3" name="Straight Arrow Connector 19"/>
          <p:cNvCxnSpPr/>
          <p:nvPr/>
        </p:nvCxnSpPr>
        <p:spPr>
          <a:xfrm>
            <a:off x="6248160" y="525780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Straight Arrow Connector 20"/>
          <p:cNvCxnSpPr/>
          <p:nvPr/>
        </p:nvCxnSpPr>
        <p:spPr>
          <a:xfrm>
            <a:off x="1676160" y="5256000"/>
            <a:ext cx="83880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Straight Arrow Connector 21"/>
          <p:cNvCxnSpPr/>
          <p:nvPr/>
        </p:nvCxnSpPr>
        <p:spPr>
          <a:xfrm>
            <a:off x="6248160" y="47242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04920" y="695520"/>
            <a:ext cx="8686440" cy="480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1) Calculate the number of milliequivalent for Oxalic acid 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, M.Wt. = 126.1) in 0.5 g pur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2) Calculate the normality of sodium sulphate salt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a 1L solution that contains 165 mg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[M.Wt = 142 g/mo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3) Prepare 500 milliliter of 0.1N A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[M.Wt = 342 g/mol] from the solid salt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4) Prepare 500ml (6N) from the concentrated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.gr. = 1.696 , percentage = %80 , M.Wt = 98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4"/>
          <p:cNvGraphicFramePr/>
          <p:nvPr/>
        </p:nvGraphicFramePr>
        <p:xfrm>
          <a:off x="4876920" y="2371680"/>
          <a:ext cx="2390040" cy="37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371680"/>
                    <a:ext cx="239004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1828800" y="2063880"/>
          <a:ext cx="1904760" cy="105984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63880"/>
                    <a:ext cx="1904760" cy="10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2"/>
          <p:cNvGraphicFramePr/>
          <p:nvPr/>
        </p:nvGraphicFramePr>
        <p:xfrm>
          <a:off x="685800" y="4419720"/>
          <a:ext cx="4199400" cy="1447560"/>
        </p:xfrm>
        <a:graphic>
          <a:graphicData uri="http://schemas.openxmlformats.org/presentationml/2006/ole">
            <p:oleObj progId="ChemDraw.Document.6.0" r:id="rId5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419720"/>
                    <a:ext cx="4199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"/>
          <p:cNvGraphicFramePr/>
          <p:nvPr/>
        </p:nvGraphicFramePr>
        <p:xfrm>
          <a:off x="5398200" y="4800600"/>
          <a:ext cx="3288240" cy="761760"/>
        </p:xfrm>
        <a:graphic>
          <a:graphicData uri="http://schemas.openxmlformats.org/presentationml/2006/ole">
            <p:oleObj progId="ChemDraw.Document.6.0" r:id="rId7" spid="">
              <p:embed/>
              <p:pic>
                <p:nvPicPr>
                  <p:cNvPr id="164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8200" y="4800600"/>
                    <a:ext cx="3288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3314880" y="517680"/>
            <a:ext cx="1591920" cy="3106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80880" y="725760"/>
            <a:ext cx="838152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nsity and Specific gravity 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sity (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s the weight (g) of a substance per unit volume (m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967560" y="494640"/>
            <a:ext cx="12081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0880" y="3282480"/>
            <a:ext cx="861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gravity (sp.g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s the ratio of the density of substance to the density of an equal volume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876920" y="2525400"/>
            <a:ext cx="952200" cy="45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81200" y="32958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5486400" y="5334120"/>
            <a:ext cx="685440" cy="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28600" y="1114200"/>
            <a:ext cx="876276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nsity of water is approximately 1.00 g/mL a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, since we employ density and specific gravity interchangea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.gr ≈ density of substance a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28600" y="4994280"/>
            <a:ext cx="883872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water   d = 1.00 = wt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/ V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80880" y="832320"/>
            <a:ext cx="8457840" cy="272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weight of 100ml HCl. If you know that (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g/ml and Sp.gr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HC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 =  11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28600" y="802800"/>
            <a:ext cx="8610120" cy="241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ight of 1L from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equal to 1710g, what is specific gravity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=  1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837360"/>
            <a:ext cx="8610120" cy="271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gravity of 0.5 kg liquid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equal to 1.4, calculate volume of this solution in (m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=   357.1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48400" y="843840"/>
            <a:ext cx="511416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age concent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) Weight-weight percent (% w/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04920" y="2819520"/>
            <a:ext cx="7695720" cy="1218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73000" y="2059560"/>
            <a:ext cx="57283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ms (g) of solute per 100 g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30120" y="2906640"/>
            <a:ext cx="65253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olute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72600" y="3128040"/>
            <a:ext cx="75463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% = % (w/w) =                                         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olution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8"/>
          <p:cNvCxnSpPr/>
          <p:nvPr/>
        </p:nvCxnSpPr>
        <p:spPr>
          <a:xfrm>
            <a:off x="3581280" y="3427200"/>
            <a:ext cx="327708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sp>
        <p:nvSpPr>
          <p:cNvPr id="183" name="Rectangle 7"/>
          <p:cNvSpPr/>
          <p:nvPr/>
        </p:nvSpPr>
        <p:spPr>
          <a:xfrm>
            <a:off x="304920" y="4455000"/>
            <a:ext cx="8686440" cy="131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5%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w/w): Means that 100 g of solution contains 65g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04920" y="921960"/>
            <a:ext cx="86101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prepare 100ml of a solution of 5%(w/w) sodium hydroxide (NaOH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prepared by addition of 5g of the sodium hydroxide to a little amount of distilled water then dilute the solution to 100ml (final volu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304920" y="910440"/>
            <a:ext cx="86101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prepare 200ml of a solution of 15%(w/w) potassium iodide (KI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prepared by addition of 30g of the (KI) to a little amount of distilled water then dilute the solution to 200ml (final volu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04920" y="456840"/>
            <a:ext cx="8610120" cy="450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Describe a method for the preparation of 0.1M HCl in 250ml volume from the concentrated acid solution (2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concen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2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2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?                                                        0.1 x 25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2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con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0.1 x 250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di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= 12.5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3"/>
          <p:cNvCxnSpPr/>
          <p:nvPr/>
        </p:nvCxnSpPr>
        <p:spPr>
          <a:xfrm>
            <a:off x="5410080" y="4190760"/>
            <a:ext cx="17528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02" name="Right Arrow 4"/>
          <p:cNvSpPr/>
          <p:nvPr/>
        </p:nvSpPr>
        <p:spPr>
          <a:xfrm>
            <a:off x="3962520" y="4114800"/>
            <a:ext cx="609120" cy="1519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819320"/>
            <a:ext cx="845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mean for the preparation of 0.1M HCl in 250ml we dilute 12.5ml concentrated acid to 250ml in the proper volumetric fl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304920" y="868320"/>
            <a:ext cx="861012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 the weight percent %( w/w) for a 200g solution which contain 25g of K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12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304920" y="850680"/>
            <a:ext cx="8534160" cy="308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the weight percent for a solution prepared by dissolving 5g Ag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100mL of distilled water (density of water = 1 g/m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04920" y="927000"/>
            <a:ext cx="8534160" cy="308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the weight percent for a solution prepared by dissolving 35g Fe(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density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.4 g/m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28600" y="946080"/>
            <a:ext cx="868644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weight of solute (NaCl) in a 20% (w/w) 500g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04920" y="929160"/>
            <a:ext cx="861012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5mol/L in 0.5L of KOH from the concentrated solution of 5mol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04920" y="421920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  V = 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at is mean for the preparation of 0.5 mol/L (M) KOH in 0.5L we dilute 50ml concentrated KOH to 500ml in the proper volumetric flask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80880" y="830160"/>
            <a:ext cx="8610120" cy="125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Describe the method for preparation of 500 ml of 0.03M 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0.7M 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e(CN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52280" y="4249080"/>
            <a:ext cx="861012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  V = 5.35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aking 5.35ml from the 0.7M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e(CN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then diluted to 500ml with water to prepare 0.03M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04920" y="818280"/>
            <a:ext cx="8838720" cy="125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rom 1M FeC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prepare 0.06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on in 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4419720"/>
            <a:ext cx="86101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 V = 2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2ml from the 1 M 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diluted to 100 ml with water to prepare 0.06M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" y="796320"/>
            <a:ext cx="8610120" cy="480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1) A concentrated solution of aqueous ammonia is 28%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has a specific gravity of 0.899 and (M.Wt. = 17 g/mol). What is the molar concentration of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this solution, and how can you prepare 0.5M solution in 250ml volume of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2) Prepare 2mol/L in 100ml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concentrated solution (bottle). When percentage=98%, Sp.Gr.=1.83, M.Wt = 98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3) Describe the method for preparation of 500 ml of 0.1M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10M Ca(OH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56720" y="5298840"/>
            <a:ext cx="666540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a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+  2O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5"/>
          <p:cNvCxnSpPr/>
          <p:nvPr/>
        </p:nvCxnSpPr>
        <p:spPr>
          <a:xfrm>
            <a:off x="3962160" y="5562360"/>
            <a:ext cx="137196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28600" y="571680"/>
            <a:ext cx="876276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Norm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number of equivalents of solute per liter of solution, or the number of milliequivalents in ml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5715000" y="2819520"/>
            <a:ext cx="799920" cy="151920"/>
          </a:xfrm>
          <a:prstGeom prst="rightArrow">
            <a:avLst>
              <a:gd name="adj1" fmla="val 50000"/>
              <a:gd name="adj2" fmla="val 94736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38280" y="3695760"/>
            <a:ext cx="5381280" cy="10285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26720" y="2341080"/>
            <a:ext cx="750672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o.of equivalent of solute           no. of eq.                                     W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73640" y="2670120"/>
            <a:ext cx="72079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 =                                                 =                                    no. of eq.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89040" y="2949480"/>
            <a:ext cx="7819200" cy="41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Volume of solvent by liter               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Eq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1"/>
          <p:cNvCxnSpPr/>
          <p:nvPr/>
        </p:nvCxnSpPr>
        <p:spPr>
          <a:xfrm>
            <a:off x="1371600" y="2893680"/>
            <a:ext cx="274356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3"/>
          <p:cNvCxnSpPr/>
          <p:nvPr/>
        </p:nvCxnSpPr>
        <p:spPr>
          <a:xfrm>
            <a:off x="4572000" y="2893680"/>
            <a:ext cx="99072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Connector 15"/>
          <p:cNvCxnSpPr/>
          <p:nvPr/>
        </p:nvCxnSpPr>
        <p:spPr>
          <a:xfrm>
            <a:off x="7924680" y="2895480"/>
            <a:ext cx="8384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2" name="AutoShape 11"/>
          <p:cNvSpPr/>
          <p:nvPr/>
        </p:nvSpPr>
        <p:spPr>
          <a:xfrm>
            <a:off x="3314880" y="4176720"/>
            <a:ext cx="571320" cy="90000"/>
          </a:xfrm>
          <a:prstGeom prst="rightArrow">
            <a:avLst>
              <a:gd name="adj1" fmla="val 50000"/>
              <a:gd name="adj2" fmla="val 157894"/>
            </a:avLst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002600" y="3712680"/>
            <a:ext cx="482364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Wt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g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/ Eq.Wt                                    M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69680" y="3980520"/>
            <a:ext cx="467820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N =                                            Eq.W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L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                    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Connector 23"/>
          <p:cNvCxnSpPr/>
          <p:nvPr/>
        </p:nvCxnSpPr>
        <p:spPr>
          <a:xfrm>
            <a:off x="1371600" y="4190760"/>
            <a:ext cx="1752840" cy="2160"/>
          </a:xfrm>
          <a:prstGeom prst="straightConnector1">
            <a:avLst/>
          </a:prstGeom>
          <a:ln w="22225">
            <a:solidFill>
              <a:srgbClr val="ff0000"/>
            </a:solidFill>
            <a:round/>
          </a:ln>
        </p:spPr>
      </p:cxnSp>
      <p:cxnSp>
        <p:nvCxnSpPr>
          <p:cNvPr id="126" name="Straight Connector 24"/>
          <p:cNvCxnSpPr/>
          <p:nvPr/>
        </p:nvCxnSpPr>
        <p:spPr>
          <a:xfrm>
            <a:off x="5105160" y="4190760"/>
            <a:ext cx="686160" cy="2160"/>
          </a:xfrm>
          <a:prstGeom prst="straightConnector1">
            <a:avLst/>
          </a:prstGeom>
          <a:ln w="22225">
            <a:solidFill>
              <a:srgbClr val="ff0000"/>
            </a:solidFill>
            <a:round/>
          </a:ln>
        </p:spPr>
      </p:cxnSp>
      <p:sp>
        <p:nvSpPr>
          <p:cNvPr id="127" name="Rectangle 17"/>
          <p:cNvSpPr/>
          <p:nvPr/>
        </p:nvSpPr>
        <p:spPr>
          <a:xfrm>
            <a:off x="838080" y="4948920"/>
            <a:ext cx="591876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o.of milliequivalent of solute                no. of m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800280" y="5541480"/>
            <a:ext cx="554076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 =                                         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Volume of solvent by milliliter                     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Connector 32"/>
          <p:cNvCxnSpPr/>
          <p:nvPr/>
        </p:nvCxnSpPr>
        <p:spPr>
          <a:xfrm>
            <a:off x="1371600" y="5789520"/>
            <a:ext cx="342936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30" name="Straight Connector 33"/>
          <p:cNvCxnSpPr/>
          <p:nvPr/>
        </p:nvCxnSpPr>
        <p:spPr>
          <a:xfrm>
            <a:off x="5410080" y="5789520"/>
            <a:ext cx="12956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1" name="Rectangle 19"/>
          <p:cNvSpPr/>
          <p:nvPr/>
        </p:nvSpPr>
        <p:spPr>
          <a:xfrm>
            <a:off x="6095880" y="3760200"/>
            <a:ext cx="2971440" cy="88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Is based on a reaction unit, which is that part of a chemical species involved in a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80880" y="69516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quivalent weight for different reaction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Acid-base reaction (neutralization re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in acid base reactions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respectiv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3200" y="2724480"/>
            <a:ext cx="73000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31920" y="3029040"/>
            <a:ext cx="87094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                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no.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Connector 7"/>
          <p:cNvCxnSpPr/>
          <p:nvPr/>
        </p:nvCxnSpPr>
        <p:spPr>
          <a:xfrm>
            <a:off x="2286000" y="3274920"/>
            <a:ext cx="17528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36" name="Straight Connector 8"/>
          <p:cNvCxnSpPr/>
          <p:nvPr/>
        </p:nvCxnSpPr>
        <p:spPr>
          <a:xfrm>
            <a:off x="6858000" y="3276360"/>
            <a:ext cx="17528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7" name="Rectangle 6"/>
          <p:cNvSpPr/>
          <p:nvPr/>
        </p:nvSpPr>
        <p:spPr>
          <a:xfrm>
            <a:off x="304920" y="3514680"/>
            <a:ext cx="87627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l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For N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For C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OH)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3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For 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OH)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3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04920" y="84924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cipit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in this case w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200" y="2060640"/>
            <a:ext cx="545112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30600" y="2289240"/>
            <a:ext cx="557136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cation or anion x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Connector 6"/>
          <p:cNvCxnSpPr/>
          <p:nvPr/>
        </p:nvCxnSpPr>
        <p:spPr>
          <a:xfrm>
            <a:off x="2971800" y="2514600"/>
            <a:ext cx="365796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42" name="Rectangle 5"/>
          <p:cNvSpPr/>
          <p:nvPr/>
        </p:nvSpPr>
        <p:spPr>
          <a:xfrm>
            <a:off x="380880" y="3220560"/>
            <a:ext cx="83055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NaCl     n= 1 x 1                      For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n= 2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Fe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n= 1 x 2                    For F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n= 2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8</TotalTime>
  <Application>LibreOffice/7.4.7.2$Linux_X86_64 LibreOffice_project/40$Build-2</Application>
  <AppVersion>15.0000</AppVersion>
  <Words>1195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35:18Z</dcterms:created>
  <dc:creator>hunar</dc:creator>
  <dc:description/>
  <dc:language>en-US</dc:language>
  <cp:lastModifiedBy>Wrea</cp:lastModifiedBy>
  <dcterms:modified xsi:type="dcterms:W3CDTF">2018-01-08T17:26:00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