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C10-B9E8-4169-BBC7-DF53D043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F86-6101-45BD-AFEF-B98837AD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758-7FF5-44E1-8006-032D960F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E4D-796F-4E74-AFF8-2CED4F2A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C1F7-C858-4B4C-87E4-03BA72DD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8960-B396-49AF-BDD4-C3AB3163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1E5A-6FFB-42DA-A40A-641411F2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30EF-DF83-4618-BDD5-3B92B9B2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6BFE-C69F-48CA-8B9D-30316D1A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8EFF-1BE9-449F-A4EE-6DAE7D9F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C6C6-3C63-4952-ABDF-34C8BD95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2E5-1532-4E3C-BE6B-B31D1C83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B7EA-B582-41E6-8474-BDE570EA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6B98-D5A3-4804-8F7C-3F1D21B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4C45-C071-4FD6-9EFB-6155B09B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C83D-656F-44E0-95E6-E335CB74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D9D5-656D-4625-BEBC-A67BFF4D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56D-A061-4B67-9C1B-1435973D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A85-92F5-4C41-96EE-035B6C5B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C0B-C438-4C85-9FA9-F0270C99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25B-9DF3-45F4-BC29-691D9BD9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4A1-C27B-441F-A8E2-5C2CD681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98B-BBF0-4A59-8E87-51D3AA3B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DDC-810E-4287-A7AF-6D0DEAB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8177F4-5DDE-40FC-B554-2DEE0ABFD286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B5ED49-2C27-4665-A73F-ECA960F88700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 flipV="1">
            <a:off x="2200320" y="4876920"/>
            <a:ext cx="313920" cy="106632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AutoShape 4"/>
          <p:cNvSpPr/>
          <p:nvPr/>
        </p:nvSpPr>
        <p:spPr>
          <a:xfrm flipH="1" flipV="1">
            <a:off x="5257080" y="4952160"/>
            <a:ext cx="837720" cy="99036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AutoShape 3"/>
          <p:cNvSpPr/>
          <p:nvPr/>
        </p:nvSpPr>
        <p:spPr>
          <a:xfrm flipH="1" flipV="1">
            <a:off x="5638680" y="4952160"/>
            <a:ext cx="599760" cy="91404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AutoShape 2"/>
          <p:cNvSpPr/>
          <p:nvPr/>
        </p:nvSpPr>
        <p:spPr>
          <a:xfrm flipH="1" flipV="1">
            <a:off x="3048120" y="4876200"/>
            <a:ext cx="818640" cy="99036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133720" y="4362480"/>
            <a:ext cx="4495320" cy="7426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04920" y="930960"/>
            <a:ext cx="8610120" cy="338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) Preparation of solutions fro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known concentration of liqu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this case we don’t need for the first step about determination of concentration of bottle, only needed to the dilution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nly this relation we needed in these types of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022640" y="381600"/>
            <a:ext cx="1098360" cy="60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295280" y="4428360"/>
            <a:ext cx="7391160" cy="2290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M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V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)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concentra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= (M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V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)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kn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unkn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304920" y="862920"/>
            <a:ext cx="868644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3- Oxidation-reduction (Redox)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eactive species (n) was the number of electrons donated or accepted in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00800" y="2517840"/>
            <a:ext cx="351108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M.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99920" y="2724480"/>
            <a:ext cx="550872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Eq.Wt =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no.of donated or accepted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Connector 6"/>
          <p:cNvCxnSpPr/>
          <p:nvPr/>
        </p:nvCxnSpPr>
        <p:spPr>
          <a:xfrm>
            <a:off x="1904760" y="2970000"/>
            <a:ext cx="442008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47" name="Rectangle 10"/>
          <p:cNvSpPr/>
          <p:nvPr/>
        </p:nvSpPr>
        <p:spPr>
          <a:xfrm>
            <a:off x="383400" y="3661560"/>
            <a:ext cx="65808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060560" y="4498920"/>
            <a:ext cx="75848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n= 1                       M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7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M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6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n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067760" y="5032440"/>
            <a:ext cx="763776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C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6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C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n= 3                                              M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n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998640" y="5545440"/>
            <a:ext cx="7729560" cy="39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M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n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Straight Arrow Connector 17"/>
          <p:cNvCxnSpPr/>
          <p:nvPr/>
        </p:nvCxnSpPr>
        <p:spPr>
          <a:xfrm>
            <a:off x="1676160" y="4724280"/>
            <a:ext cx="83880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2" name="Straight Arrow Connector 18"/>
          <p:cNvCxnSpPr/>
          <p:nvPr/>
        </p:nvCxnSpPr>
        <p:spPr>
          <a:xfrm>
            <a:off x="6248160" y="5789520"/>
            <a:ext cx="83880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3" name="Straight Arrow Connector 19"/>
          <p:cNvCxnSpPr/>
          <p:nvPr/>
        </p:nvCxnSpPr>
        <p:spPr>
          <a:xfrm>
            <a:off x="6248160" y="5257800"/>
            <a:ext cx="83880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" name="Straight Arrow Connector 20"/>
          <p:cNvCxnSpPr/>
          <p:nvPr/>
        </p:nvCxnSpPr>
        <p:spPr>
          <a:xfrm>
            <a:off x="1676160" y="5256000"/>
            <a:ext cx="83880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5" name="Straight Arrow Connector 21"/>
          <p:cNvCxnSpPr/>
          <p:nvPr/>
        </p:nvCxnSpPr>
        <p:spPr>
          <a:xfrm>
            <a:off x="6248160" y="4724280"/>
            <a:ext cx="83880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04920" y="695520"/>
            <a:ext cx="8686440" cy="480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1) Calculate the number of milliequivalent for Oxalic acid (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2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 , M.Wt. = 126.1) in 0.5 g pur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2) Calculate the normality of sodium sulphate salt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in a 1L solution that contains 165 mg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[M.Wt = 142 g/mol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3) Prepare 500 milliliter of 0.1N A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[M.Wt = 342 g/mol] from the solid salt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4) Prepare 500ml (6N) from the concentrated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p.gr. = 1.696 , percentage = %80 , M.Wt = 98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4"/>
          <p:cNvGraphicFramePr/>
          <p:nvPr/>
        </p:nvGraphicFramePr>
        <p:xfrm>
          <a:off x="4876920" y="2371680"/>
          <a:ext cx="2390040" cy="37116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371680"/>
                    <a:ext cx="239004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1828800" y="2063880"/>
          <a:ext cx="1904760" cy="1059840"/>
        </p:xfrm>
        <a:graphic>
          <a:graphicData uri="http://schemas.openxmlformats.org/presentationml/2006/ole">
            <p:oleObj progId="ChemDraw.Document.6.0"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063880"/>
                    <a:ext cx="1904760" cy="105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2"/>
          <p:cNvGraphicFramePr/>
          <p:nvPr/>
        </p:nvGraphicFramePr>
        <p:xfrm>
          <a:off x="685800" y="4419720"/>
          <a:ext cx="4199400" cy="1447560"/>
        </p:xfrm>
        <a:graphic>
          <a:graphicData uri="http://schemas.openxmlformats.org/presentationml/2006/ole">
            <p:oleObj progId="ChemDraw.Document.6.0" r:id="rId5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419720"/>
                    <a:ext cx="4199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"/>
          <p:cNvGraphicFramePr/>
          <p:nvPr/>
        </p:nvGraphicFramePr>
        <p:xfrm>
          <a:off x="5398200" y="4800600"/>
          <a:ext cx="3288240" cy="761760"/>
        </p:xfrm>
        <a:graphic>
          <a:graphicData uri="http://schemas.openxmlformats.org/presentationml/2006/ole">
            <p:oleObj progId="ChemDraw.Document.6.0" r:id="rId7" spid="">
              <p:embed/>
              <p:pic>
                <p:nvPicPr>
                  <p:cNvPr id="164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8200" y="4800600"/>
                    <a:ext cx="32882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3314880" y="517680"/>
            <a:ext cx="1591920" cy="3106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80880" y="725760"/>
            <a:ext cx="838152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nsity and Specific gravity 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sity (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Is the weight (g) of a substance per unit volume (m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967560" y="494640"/>
            <a:ext cx="12081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0880" y="3282480"/>
            <a:ext cx="86101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gravity (sp.g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Is the ratio of the density of substance to the density of an equal volume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4876920" y="2525400"/>
            <a:ext cx="952200" cy="45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781200" y="32958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5486400" y="5334120"/>
            <a:ext cx="685440" cy="36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tIns="360" bIns="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28600" y="1114200"/>
            <a:ext cx="876276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nsity of water is approximately 1.00 g/mL at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, since we employ density and specific gravity interchangea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.gr ≈ density of substance at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28600" y="4994280"/>
            <a:ext cx="8838720" cy="52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water   d = 1.00 = wt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/ V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w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80880" y="832320"/>
            <a:ext cx="8457840" cy="2727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weight of 100ml HCl. If you know that (d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g/ml and Sp.gr.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HC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.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s:   =  118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28600" y="802800"/>
            <a:ext cx="8610120" cy="241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weight of 1L from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equal to 1710g, what is specific gravity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:  =  1.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837360"/>
            <a:ext cx="8610120" cy="271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gravity of 0.5 kg liquid H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equal to 1.4, calculate volume of this solution in (m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:  =   357.14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248400" y="843840"/>
            <a:ext cx="511416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age concent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) Weight-weight percent (% w/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304920" y="2819520"/>
            <a:ext cx="7695720" cy="1218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73000" y="2059560"/>
            <a:ext cx="572832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ms (g) of solute per 100 g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330120" y="2906640"/>
            <a:ext cx="652536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ight of solute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72600" y="3128040"/>
            <a:ext cx="754632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ight% = % (w/w) =                                          x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ight of solution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8"/>
          <p:cNvCxnSpPr/>
          <p:nvPr/>
        </p:nvCxnSpPr>
        <p:spPr>
          <a:xfrm>
            <a:off x="3581280" y="3427200"/>
            <a:ext cx="327708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sp>
        <p:nvSpPr>
          <p:cNvPr id="183" name="Rectangle 7"/>
          <p:cNvSpPr/>
          <p:nvPr/>
        </p:nvSpPr>
        <p:spPr>
          <a:xfrm>
            <a:off x="304920" y="4455000"/>
            <a:ext cx="8686440" cy="131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5% H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w/w): Means that 100 g of solution contains 65g of H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304920" y="921960"/>
            <a:ext cx="8610120" cy="374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you prepare 100ml of a solution of 5%(w/w) sodium hydroxide (NaOH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be prepared by addition of 5g of the sodium hydroxide to a little amount of distilled water then dilute the solution to 100ml (final volume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304920" y="910440"/>
            <a:ext cx="8610120" cy="374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you prepare 200ml of a solution of 15%(w/w) potassium iodide (KI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be prepared by addition of 30g of the (KI) to a little amount of distilled water then dilute the solution to 200ml (final volume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04920" y="456840"/>
            <a:ext cx="8610120" cy="450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 Describe a method for the preparation of 0.1M HCl in 250ml volume from the concentrated acid solution (2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concentr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2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0.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25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?                                                        0.1 x 25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2 x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con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(0.1 x 250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di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                       = 12.5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3"/>
          <p:cNvCxnSpPr/>
          <p:nvPr/>
        </p:nvCxnSpPr>
        <p:spPr>
          <a:xfrm>
            <a:off x="5410080" y="4190760"/>
            <a:ext cx="175284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02" name="Right Arrow 4"/>
          <p:cNvSpPr/>
          <p:nvPr/>
        </p:nvSpPr>
        <p:spPr>
          <a:xfrm>
            <a:off x="3962520" y="4114800"/>
            <a:ext cx="609120" cy="1519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80880" y="4819320"/>
            <a:ext cx="8457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mean for the preparation of 0.1M HCl in 250ml we dilute 12.5ml concentrated acid to 250ml in the proper volumetric fl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304920" y="868320"/>
            <a:ext cx="861012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s the weight percent %( w/w) for a 200g solution which contain 25g of K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:  12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304920" y="850680"/>
            <a:ext cx="8534160" cy="308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the weight percent for a solution prepared by dissolving 5g Ag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100mL of distilled water (density of water = 1 g/m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  =  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04920" y="927000"/>
            <a:ext cx="8534160" cy="308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the weight percent for a solution prepared by dissolving 35g Fe(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250mL of H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density of HN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1.4 g/m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  =  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228600" y="946080"/>
            <a:ext cx="868644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weight of solute (NaCl) in a 20% (w/w) 500g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  =  10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04920" y="929160"/>
            <a:ext cx="8610120" cy="155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e 0.5mol/L in 0.5L of KOH from the concentrated solution of 5mol/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304920" y="4219200"/>
            <a:ext cx="868644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  V = 5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at is mean for the preparation of 0.5 mol/L (M) KOH in 0.5L we dilute 50ml concentrated KOH to 500ml in the proper volumetric flask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80880" y="830160"/>
            <a:ext cx="8610120" cy="125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Describe the method for preparation of 500 ml of 0.03M 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the 0.7M 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e(CN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152280" y="4249080"/>
            <a:ext cx="8610120" cy="161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  V = 5.35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aking 5.35ml from the 0.7M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e(CN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then diluted to 500ml with water to prepare 0.03M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04920" y="818280"/>
            <a:ext cx="8838720" cy="125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rom 1M FeCl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prepare 0.06M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on in 1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8600" y="4419720"/>
            <a:ext cx="86101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:  V = 2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2ml from the 1 M 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diluted to 100 ml with water to prepare 0.06M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28600" y="796320"/>
            <a:ext cx="8610120" cy="480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1) A concentrated solution of aqueous ammonia is 28% N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and has a specific gravity of 0.899 and (M.Wt. = 17 g/mol). What is the molar concentration of N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 this solution, and how can you prepare 0.5M solution in 250ml volume of N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2) Prepare 2mol/L in 100ml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the concentrated solution (bottle). When percentage=98%, Sp.Gr.=1.83, M.Wt = 98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3) Describe the method for preparation of 500 ml of 0.1M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the 10M Ca(OH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756720" y="5298840"/>
            <a:ext cx="6665400" cy="52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a(OH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+  2O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5"/>
          <p:cNvCxnSpPr/>
          <p:nvPr/>
        </p:nvCxnSpPr>
        <p:spPr>
          <a:xfrm>
            <a:off x="3962160" y="5562360"/>
            <a:ext cx="137196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228600" y="571680"/>
            <a:ext cx="8762760" cy="155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Norm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 number of equivalents of solute per liter of solution, or the number of milliequivalents in ml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5715000" y="2819520"/>
            <a:ext cx="799920" cy="151920"/>
          </a:xfrm>
          <a:prstGeom prst="rightArrow">
            <a:avLst>
              <a:gd name="adj1" fmla="val 50000"/>
              <a:gd name="adj2" fmla="val 94736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tIns="38160" bIns="38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638280" y="3695760"/>
            <a:ext cx="5381280" cy="10285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026720" y="2341080"/>
            <a:ext cx="7506720" cy="68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no.of equivalent of solute           no. of eq.                                     W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73640" y="2670120"/>
            <a:ext cx="720792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N =                                                 =                                    no. of eq.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89040" y="2949480"/>
            <a:ext cx="7819200" cy="41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Volume of solvent by liter                V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Eq.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Connector 11"/>
          <p:cNvCxnSpPr/>
          <p:nvPr/>
        </p:nvCxnSpPr>
        <p:spPr>
          <a:xfrm>
            <a:off x="1371600" y="2893680"/>
            <a:ext cx="274356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0" name="Straight Connector 13"/>
          <p:cNvCxnSpPr/>
          <p:nvPr/>
        </p:nvCxnSpPr>
        <p:spPr>
          <a:xfrm>
            <a:off x="4572000" y="2893680"/>
            <a:ext cx="99072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1" name="Straight Connector 15"/>
          <p:cNvCxnSpPr/>
          <p:nvPr/>
        </p:nvCxnSpPr>
        <p:spPr>
          <a:xfrm>
            <a:off x="7924680" y="2895480"/>
            <a:ext cx="83844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22" name="AutoShape 11"/>
          <p:cNvSpPr/>
          <p:nvPr/>
        </p:nvSpPr>
        <p:spPr>
          <a:xfrm>
            <a:off x="3314880" y="4176720"/>
            <a:ext cx="571320" cy="90000"/>
          </a:xfrm>
          <a:prstGeom prst="rightArrow">
            <a:avLst>
              <a:gd name="adj1" fmla="val 50000"/>
              <a:gd name="adj2" fmla="val 157894"/>
            </a:avLst>
          </a:prstGeom>
          <a:noFill/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1002600" y="3712680"/>
            <a:ext cx="4823640" cy="68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Wt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(g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/ Eq.Wt                                    M.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769680" y="3980520"/>
            <a:ext cx="4678200" cy="68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N =                                            Eq.W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V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(L)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                            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Connector 23"/>
          <p:cNvCxnSpPr/>
          <p:nvPr/>
        </p:nvCxnSpPr>
        <p:spPr>
          <a:xfrm>
            <a:off x="1371600" y="4190760"/>
            <a:ext cx="1752840" cy="2160"/>
          </a:xfrm>
          <a:prstGeom prst="straightConnector1">
            <a:avLst/>
          </a:prstGeom>
          <a:ln w="22225">
            <a:solidFill>
              <a:srgbClr val="ff0000"/>
            </a:solidFill>
            <a:round/>
          </a:ln>
        </p:spPr>
      </p:cxnSp>
      <p:cxnSp>
        <p:nvCxnSpPr>
          <p:cNvPr id="126" name="Straight Connector 24"/>
          <p:cNvCxnSpPr/>
          <p:nvPr/>
        </p:nvCxnSpPr>
        <p:spPr>
          <a:xfrm>
            <a:off x="5105160" y="4190760"/>
            <a:ext cx="686160" cy="2160"/>
          </a:xfrm>
          <a:prstGeom prst="straightConnector1">
            <a:avLst/>
          </a:prstGeom>
          <a:ln w="22225">
            <a:solidFill>
              <a:srgbClr val="ff0000"/>
            </a:solidFill>
            <a:round/>
          </a:ln>
        </p:spPr>
      </p:cxnSp>
      <p:sp>
        <p:nvSpPr>
          <p:cNvPr id="127" name="Rectangle 17"/>
          <p:cNvSpPr/>
          <p:nvPr/>
        </p:nvSpPr>
        <p:spPr>
          <a:xfrm>
            <a:off x="838080" y="4948920"/>
            <a:ext cx="591876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no.of milliequivalent of solute                no. of m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800280" y="5541480"/>
            <a:ext cx="5540760" cy="68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N =                                                   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Volume of solvent by milliliter                      V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Connector 32"/>
          <p:cNvCxnSpPr/>
          <p:nvPr/>
        </p:nvCxnSpPr>
        <p:spPr>
          <a:xfrm>
            <a:off x="1371600" y="5789520"/>
            <a:ext cx="342936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30" name="Straight Connector 33"/>
          <p:cNvCxnSpPr/>
          <p:nvPr/>
        </p:nvCxnSpPr>
        <p:spPr>
          <a:xfrm>
            <a:off x="5410080" y="5789520"/>
            <a:ext cx="129564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31" name="Rectangle 19"/>
          <p:cNvSpPr/>
          <p:nvPr/>
        </p:nvSpPr>
        <p:spPr>
          <a:xfrm>
            <a:off x="6095880" y="3760200"/>
            <a:ext cx="2971440" cy="88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 Is based on a reaction unit, which is that part of a chemical species involved in a re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380880" y="695160"/>
            <a:ext cx="868644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quivalent weight for different reaction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- Acid-base reaction (neutralization re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eactive species (n) in acid base reactions w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O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, respective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13200" y="2724480"/>
            <a:ext cx="730008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M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M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31920" y="3029040"/>
            <a:ext cx="870948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Eq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=                                        Eq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=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no.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H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no.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OH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Connector 7"/>
          <p:cNvCxnSpPr/>
          <p:nvPr/>
        </p:nvCxnSpPr>
        <p:spPr>
          <a:xfrm>
            <a:off x="2286000" y="3274920"/>
            <a:ext cx="175284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36" name="Straight Connector 8"/>
          <p:cNvCxnSpPr/>
          <p:nvPr/>
        </p:nvCxnSpPr>
        <p:spPr>
          <a:xfrm>
            <a:off x="6858000" y="3276360"/>
            <a:ext cx="175284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37" name="Rectangle 6"/>
          <p:cNvSpPr/>
          <p:nvPr/>
        </p:nvSpPr>
        <p:spPr>
          <a:xfrm>
            <a:off x="304920" y="3514680"/>
            <a:ext cx="8762760" cy="205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l no.of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1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For N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no.of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1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no.of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2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For C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OH)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no.of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2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no.of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3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For 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OH)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no.of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3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n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04920" y="849240"/>
            <a:ext cx="86864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- Precipitat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eactive species (n) in this case w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ch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6200" y="2060640"/>
            <a:ext cx="545112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M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30600" y="2289240"/>
            <a:ext cx="557136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Eq.W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s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=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no.of cation or anion x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Connector 6"/>
          <p:cNvCxnSpPr/>
          <p:nvPr/>
        </p:nvCxnSpPr>
        <p:spPr>
          <a:xfrm>
            <a:off x="2971800" y="2514600"/>
            <a:ext cx="365796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42" name="Rectangle 5"/>
          <p:cNvSpPr/>
          <p:nvPr/>
        </p:nvSpPr>
        <p:spPr>
          <a:xfrm>
            <a:off x="380880" y="3220560"/>
            <a:ext cx="8305560" cy="205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NaCl     n= 1 x 1                      For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n= 2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Fe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n= 1 x 2                    For F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n= 2 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8</TotalTime>
  <Application>LibreOffice/7.4.7.2$Linux_X86_64 LibreOffice_project/40$Build-2</Application>
  <AppVersion>15.0000</AppVersion>
  <Words>1195</Words>
  <Paragraphs>1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35:18Z</dcterms:created>
  <dc:creator>hunar</dc:creator>
  <dc:description/>
  <dc:language>en-US</dc:language>
  <cp:lastModifiedBy>Wrea</cp:lastModifiedBy>
  <dcterms:modified xsi:type="dcterms:W3CDTF">2018-01-08T17:26:00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3</vt:r8>
  </property>
</Properties>
</file>