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1F6-8F02-461B-9257-47BA335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F29-11F1-4B23-BEC2-A7ECF424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46E-01B3-4ACB-A874-E75D0EFE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B5B-0D94-46B1-AD44-D49E1117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16F-BF83-47D2-A205-D1CBD577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662E-DFEC-4705-A7FA-3777709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76F-9135-4B71-9840-740F740A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909-D403-45FB-9D04-0E179C1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4467-01ED-48BB-8E90-F82C28C7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A28F-671E-4AB5-BA75-BAFAAD4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A25C-377F-4A5B-AA05-98B0CA1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A80-AC11-4DF0-A581-A501B9FF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A48-9C5D-4DC2-9B08-36BC74A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2B8D-6905-4D79-994C-B7CD966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D2A8-8C28-41E1-A064-F7DDE551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3DFD-D08B-4A0C-95C5-1CB0CDFB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E38A-BF4D-4649-93DE-7E3C36CB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8D1-E796-4193-91A7-F31CD6F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D8F-EE89-480F-B006-19438735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060-B120-43AF-81D0-4E69342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115-F119-4EF4-B0B5-295D9E9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B37-05F1-4B04-90CA-63CC775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7AA-0014-454D-82D9-A7379B5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78E-822A-4129-9F55-AED9143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FF2373-61BB-4479-88D6-673F74BE66F6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E0A400-F696-43CF-B124-73AAF57A7C2E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80880" y="2198160"/>
            <a:ext cx="8534160" cy="340452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Experiment No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Preparation and standardization of 0.1N hydrochloric acid (HCl) by using standard sodium carbonate (Na</a:t>
            </a:r>
            <a:r>
              <a:rPr b="1" lang="en-US" sz="28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457920" y="3867120"/>
          <a:ext cx="8457120" cy="3236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20" y="3867120"/>
                    <a:ext cx="8457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AutoShape 2"/>
          <p:cNvSpPr/>
          <p:nvPr/>
        </p:nvSpPr>
        <p:spPr>
          <a:xfrm flipV="1">
            <a:off x="8001000" y="3886200"/>
            <a:ext cx="360" cy="2282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1452240"/>
            <a:ext cx="8534160" cy="238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ydrochloric acid (HCl) is not standard substance; therefore it must be standardized by using standard sodium carbonate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57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321120" y="553320"/>
            <a:ext cx="74289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 Prepare 0.1N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distille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olid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685800" y="2895480"/>
          <a:ext cx="3756600" cy="25142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375660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5638680" y="3009960"/>
          <a:ext cx="3168360" cy="209520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009960"/>
                    <a:ext cx="3168360" cy="20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ight Arrow 5"/>
          <p:cNvSpPr/>
          <p:nvPr/>
        </p:nvSpPr>
        <p:spPr>
          <a:xfrm>
            <a:off x="4572000" y="3200400"/>
            <a:ext cx="91404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5581440"/>
            <a:ext cx="84578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e 1.325 g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50 ml of distilled water to obtain 0.1N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04920" y="769320"/>
            <a:ext cx="8610120" cy="198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 Prepare 0.1N HCl in 250mL of distille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liquid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.gr = 1.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HCl = 3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647640" y="3276720"/>
          <a:ext cx="3841920" cy="25779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276720"/>
                    <a:ext cx="384192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846400" y="3352680"/>
          <a:ext cx="2535120" cy="183780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6400" y="3352680"/>
                    <a:ext cx="2535120" cy="18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ight Arrow 6"/>
          <p:cNvSpPr/>
          <p:nvPr/>
        </p:nvSpPr>
        <p:spPr>
          <a:xfrm>
            <a:off x="4572000" y="3581280"/>
            <a:ext cx="91404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380880" y="914400"/>
          <a:ext cx="9524520" cy="21466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9524520" cy="21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8"/>
          <p:cNvSpPr/>
          <p:nvPr/>
        </p:nvSpPr>
        <p:spPr>
          <a:xfrm>
            <a:off x="304920" y="3541680"/>
            <a:ext cx="8610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2.1 ml of concentrated HCl with a pipet, and dilute to 250 ml with distilled water in a 250ml-volumetric flask to obtain approximately 0.1 N H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1123920" y="1222200"/>
          <a:ext cx="7611840" cy="525600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222200"/>
                    <a:ext cx="76118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3"/>
          <p:cNvSpPr/>
          <p:nvPr/>
        </p:nvSpPr>
        <p:spPr>
          <a:xfrm>
            <a:off x="824040" y="469800"/>
            <a:ext cx="205992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54880" y="704880"/>
          <a:ext cx="8660160" cy="478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880" y="704880"/>
                    <a:ext cx="8660160" cy="47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6</TotalTime>
  <Application>LibreOffice/7.4.7.2$Linux_X86_64 LibreOffice_project/40$Build-2</Application>
  <AppVersion>15.0000</AppVersion>
  <Words>13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16:29Z</dcterms:created>
  <dc:creator>hunar</dc:creator>
  <dc:description/>
  <dc:language>en-US</dc:language>
  <cp:lastModifiedBy>Wrea</cp:lastModifiedBy>
  <dcterms:modified xsi:type="dcterms:W3CDTF">2018-01-13T19:19:2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