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2DDD-32D3-476E-8568-E1DD37AB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272-EA01-4082-ABFB-7F5E550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CE7D-C514-482B-B436-2107A69F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5409-5E41-407D-A714-BF2C41DA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76A0-993C-4F62-B279-21826C99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2F56-3B14-452E-84C1-501B4A1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3CE-C395-4EA3-9A35-A881257B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E872-3714-4B27-9007-DE5990E7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21D3-29BE-4DC9-B8E5-E18D6CFE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987D-37FE-4E17-9D8E-25B09A9F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AF0-4CF1-4B94-B4AC-9B1705A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9F6-7EEE-4B7D-9C44-31C08A5C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9FA7-0CDF-4B73-A20D-B4236B4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A94-A8F7-4A29-A2DB-13FC9C7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4A7C-1E6C-4D14-8D9E-435F317D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F41B-AF24-487E-A555-BBF0CDDD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526-ACB8-4116-AAA6-D491B26E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194-4EB5-457E-82BF-04778E7F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BB4-62BC-4527-AD44-8E4FB58C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F83-6BDB-4257-A352-C4ABFCBD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9F8-01D3-4FF1-80AA-C112919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481-F702-402A-A297-217DF45B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0DF-CF4D-434C-AE1C-88B78ECD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FCE-20B7-4A51-8682-76F3F8C9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3F2C3-99FD-487C-B095-0EDB638144CF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B06432-2E76-4022-87C5-5BA761F71665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44520" y="1427760"/>
            <a:ext cx="821088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tric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ss ware for Volumetric measu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0" y="961560"/>
            <a:ext cx="914364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nd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s the point in a titration when a physical change occurs that is associated with the condition of chemical equiva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Chemical compounds undergo change in colour during titration which indicates the equival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4064040"/>
            <a:ext cx="9143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-base indicators are generally weak organic acids or bases which, upon dissociation or association, undergo internal structural changes at a specific range of pH that give rise to alterations in color. We can symbolize the typical reaction of an acid-base indicator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1" descr=""/>
          <p:cNvPicPr/>
          <p:nvPr/>
        </p:nvPicPr>
        <p:blipFill>
          <a:blip r:embed="rId1"/>
          <a:srcRect l="0" t="0" r="-3047" b="-504"/>
          <a:stretch/>
        </p:blipFill>
        <p:spPr>
          <a:xfrm>
            <a:off x="1371600" y="457200"/>
            <a:ext cx="6095520" cy="2466720"/>
          </a:xfrm>
          <a:prstGeom prst="rect">
            <a:avLst/>
          </a:prstGeom>
          <a:ln w="9525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152280" y="2941560"/>
            <a:ext cx="8838720" cy="39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 first indicator (1)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be the major constituent in strongly acidic solutions and will be responsible for the "acid color" of the indicator, wherea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Calibri"/>
              </a:rPr>
              <a:t>In</a:t>
            </a:r>
            <a:r>
              <a:rPr b="1" lang="en-US" sz="2400" spc="-1" strike="noStrike" baseline="30000">
                <a:solidFill>
                  <a:srgbClr val="0070c0"/>
                </a:solidFill>
                <a:latin typeface="Arial"/>
                <a:ea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represent its "base color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For the second indicator (2), the specie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Calibri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predominate in basic solutions and thus be responsible for the “base color”, where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Calibri"/>
              </a:rPr>
              <a:t>In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will constitute the “acid colo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Table 2"/>
          <p:cNvGraphicFramePr/>
          <p:nvPr/>
        </p:nvGraphicFramePr>
        <p:xfrm>
          <a:off x="838080" y="1066680"/>
          <a:ext cx="7391160" cy="4431240"/>
        </p:xfrm>
        <a:graphic>
          <a:graphicData uri="http://schemas.openxmlformats.org/drawingml/2006/table">
            <a:tbl>
              <a:tblPr/>
              <a:tblGrid>
                <a:gridCol w="2514240"/>
                <a:gridCol w="1695960"/>
                <a:gridCol w="1852200"/>
                <a:gridCol w="1328400"/>
              </a:tblGrid>
              <a:tr h="1365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or in acidic 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or in basic 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 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568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hymol b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00"/>
                          </a:highlight>
                          <a:latin typeface="Arial"/>
                          <a:ea typeface="Calibri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ff00"/>
                          </a:highlight>
                          <a:latin typeface="Arial"/>
                          <a:ea typeface="Calibri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 – 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yl 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00"/>
                          </a:highlight>
                          <a:latin typeface="Arial"/>
                          <a:ea typeface="Calibri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ff00"/>
                          </a:highlight>
                          <a:latin typeface="Arial"/>
                          <a:ea typeface="Calibri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 – 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thyl 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00"/>
                          </a:highlight>
                          <a:latin typeface="Arial"/>
                          <a:ea typeface="Calibri"/>
                        </a:rPr>
                        <a:t>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ff00"/>
                          </a:highlight>
                          <a:latin typeface="Arial"/>
                          <a:ea typeface="Calibri"/>
                        </a:rPr>
                        <a:t>Yel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 – 6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enolphthale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68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lor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highlight>
                            <a:srgbClr val="ff00ff"/>
                          </a:highlight>
                          <a:latin typeface="Arial"/>
                          <a:ea typeface="Calibri"/>
                        </a:rPr>
                        <a:t>P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3 –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000000"/>
                      </a:solidFill>
                    </a:lnL>
                    <a:lnR w="56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6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04920" y="1033920"/>
            <a:ext cx="8610120" cy="2649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highly purified compound that serves as a reference material in volumetric (titrimetric)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228600" y="583920"/>
            <a:ext cx="8686440" cy="6125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quirements for a primary standard ar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p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t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a large molecular weight to minimize the relative error during weighing the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must be not hygroscop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w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bstance must be not po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ble in a solvent (especially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0" y="892800"/>
            <a:ext cx="914364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standar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compound whose purity has been established by chemical analysis and that serves as the reference material for a titrimetric method of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andard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reagent of exactly known concentration that is used in a titrimetric analysis, and it's prepared either from primary standard material or its concentration determined by standardization with primary standard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885600"/>
            <a:ext cx="9143640" cy="5942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use in titrimetric analysis a reaction must fulfill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must be a simple reaction which can be expressed by a chemical equation. The substance to be determined should react completely with the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ction should be relatively fast. (Most ionic reactions satisfy this condi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must be an alteration in some physical or chemical property of the solution at equival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dicator should be available which, by a change in physical properties (color or formation of a precipitate), should sharply define the end point of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228600" y="622440"/>
            <a:ext cx="8838720" cy="1188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titrations according to the 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-Neutralization titration (Acid-base tit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1066680" y="1905120"/>
            <a:ext cx="64004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OH     +     HCl                               NaCl    +  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traight Arrow Connector 14"/>
          <p:cNvCxnSpPr/>
          <p:nvPr/>
        </p:nvCxnSpPr>
        <p:spPr>
          <a:xfrm>
            <a:off x="3276360" y="2133360"/>
            <a:ext cx="182916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3" name="Rectangle 14"/>
          <p:cNvSpPr/>
          <p:nvPr/>
        </p:nvSpPr>
        <p:spPr>
          <a:xfrm>
            <a:off x="228600" y="2373480"/>
            <a:ext cx="876276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Precipitation ti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481680" y="3098880"/>
            <a:ext cx="515088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N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NaC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AgCl  + NaN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20"/>
          <p:cNvCxnSpPr/>
          <p:nvPr/>
        </p:nvCxnSpPr>
        <p:spPr>
          <a:xfrm>
            <a:off x="2361960" y="3352680"/>
            <a:ext cx="129600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6" name="Straight Arrow Connector 23"/>
          <p:cNvCxnSpPr/>
          <p:nvPr/>
        </p:nvCxnSpPr>
        <p:spPr>
          <a:xfrm flipH="1">
            <a:off x="4418640" y="3201120"/>
            <a:ext cx="1800" cy="30492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7" name="Rectangle 17"/>
          <p:cNvSpPr/>
          <p:nvPr/>
        </p:nvSpPr>
        <p:spPr>
          <a:xfrm>
            <a:off x="228600" y="374508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-Reduction-oxidation titration (Redox titr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457200" y="4318200"/>
            <a:ext cx="830556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M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7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+ 8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5F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+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 M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+ 4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27"/>
          <p:cNvCxnSpPr/>
          <p:nvPr/>
        </p:nvCxnSpPr>
        <p:spPr>
          <a:xfrm>
            <a:off x="2971800" y="4570200"/>
            <a:ext cx="152424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0" name="Rectangle 20"/>
          <p:cNvSpPr/>
          <p:nvPr/>
        </p:nvSpPr>
        <p:spPr>
          <a:xfrm>
            <a:off x="304920" y="496404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-Complexation ti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762120" y="5532840"/>
            <a:ext cx="8534160" cy="75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+ 4I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gI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32"/>
          <p:cNvCxnSpPr/>
          <p:nvPr/>
        </p:nvCxnSpPr>
        <p:spPr>
          <a:xfrm>
            <a:off x="2361960" y="5790960"/>
            <a:ext cx="106740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228600" y="815400"/>
            <a:ext cx="845784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- Neutralization titration (Acid-base ti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include the titr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ree b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 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the titr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ree ac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 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These reactions involve the combination of hydrogen and hydroxide ions to form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114800" y="3065400"/>
            <a:ext cx="480024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+     O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11"/>
          <p:cNvCxnSpPr/>
          <p:nvPr/>
        </p:nvCxnSpPr>
        <p:spPr>
          <a:xfrm>
            <a:off x="5867280" y="3276360"/>
            <a:ext cx="144828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66" name="Rectangle 12"/>
          <p:cNvSpPr/>
          <p:nvPr/>
        </p:nvSpPr>
        <p:spPr>
          <a:xfrm>
            <a:off x="367560" y="3516480"/>
            <a:ext cx="14533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-152280" y="4471920"/>
            <a:ext cx="8762760" cy="754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OH     +     HCl                               NaCl    +   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0" y="5461200"/>
            <a:ext cx="8610120" cy="450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  2HCl                            2NaCl    +   C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+  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7"/>
          <p:cNvCxnSpPr/>
          <p:nvPr/>
        </p:nvCxnSpPr>
        <p:spPr>
          <a:xfrm>
            <a:off x="3200400" y="4722480"/>
            <a:ext cx="1905120" cy="216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0" name="Straight Arrow Connector 18"/>
          <p:cNvCxnSpPr/>
          <p:nvPr/>
        </p:nvCxnSpPr>
        <p:spPr>
          <a:xfrm>
            <a:off x="3352680" y="5715000"/>
            <a:ext cx="1676880" cy="180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71" name="Straight Arrow Connector 21"/>
          <p:cNvCxnSpPr/>
          <p:nvPr/>
        </p:nvCxnSpPr>
        <p:spPr>
          <a:xfrm flipV="1">
            <a:off x="7084800" y="5487120"/>
            <a:ext cx="2160" cy="381240"/>
          </a:xfrm>
          <a:prstGeom prst="straightConnector1">
            <a:avLst/>
          </a:prstGeom>
          <a:ln w="1905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771480" y="1143000"/>
          <a:ext cx="7930800" cy="33271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143000"/>
                    <a:ext cx="793080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1676520" y="609480"/>
          <a:ext cx="5943240" cy="54111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43240" cy="54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533520" y="930240"/>
          <a:ext cx="7765560" cy="41749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30240"/>
                    <a:ext cx="7765560" cy="41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0" name="Straight Connector 3"/>
          <p:cNvCxnSpPr/>
          <p:nvPr/>
        </p:nvCxnSpPr>
        <p:spPr>
          <a:xfrm>
            <a:off x="6522480" y="2026800"/>
            <a:ext cx="640440" cy="640440"/>
          </a:xfrm>
          <a:prstGeom prst="straightConnector1">
            <a:avLst/>
          </a:prstGeom>
          <a:ln w="34925">
            <a:solidFill>
              <a:srgbClr val="000000"/>
            </a:solidFill>
            <a:round/>
          </a:ln>
        </p:spPr>
      </p:cxnSp>
      <p:sp>
        <p:nvSpPr>
          <p:cNvPr id="101" name="TextBox 4"/>
          <p:cNvSpPr/>
          <p:nvPr/>
        </p:nvSpPr>
        <p:spPr>
          <a:xfrm>
            <a:off x="6553080" y="2971800"/>
            <a:ext cx="114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i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ieve"/>
          <p:cNvPicPr/>
          <p:nvPr/>
        </p:nvPicPr>
        <p:blipFill>
          <a:blip r:embed="rId3"/>
          <a:srcRect l="0" t="0" r="64200" b="19231"/>
          <a:stretch/>
        </p:blipFill>
        <p:spPr>
          <a:xfrm>
            <a:off x="2819520" y="3629160"/>
            <a:ext cx="1028520" cy="1628280"/>
          </a:xfrm>
          <a:prstGeom prst="rect">
            <a:avLst/>
          </a:prstGeom>
          <a:ln w="9525">
            <a:noFill/>
          </a:ln>
        </p:spPr>
      </p:pic>
      <p:pic>
        <p:nvPicPr>
          <p:cNvPr id="103" name="Picture 6" descr="reagentbot"/>
          <p:cNvPicPr/>
          <p:nvPr/>
        </p:nvPicPr>
        <p:blipFill>
          <a:blip r:embed="rId4"/>
          <a:srcRect l="27142" t="0" r="27638" b="0"/>
          <a:stretch/>
        </p:blipFill>
        <p:spPr>
          <a:xfrm>
            <a:off x="4629240" y="3621960"/>
            <a:ext cx="780840" cy="1711440"/>
          </a:xfrm>
          <a:prstGeom prst="rect">
            <a:avLst/>
          </a:prstGeom>
          <a:ln w="9525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514600" y="5410080"/>
            <a:ext cx="1257120" cy="390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Washing bo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419720" y="5400720"/>
            <a:ext cx="1257120" cy="390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agent bo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52280" y="1481400"/>
            <a:ext cx="8762760" cy="13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Arial"/>
                <a:ea typeface="Calibri"/>
              </a:rPr>
              <a:t>Analytical chemistry: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s applied throughout industry, medicine and all the sciences it is classifi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"/>
          <p:cNvGrpSpPr/>
          <p:nvPr/>
        </p:nvGrpSpPr>
        <p:grpSpPr>
          <a:xfrm>
            <a:off x="228600" y="1065240"/>
            <a:ext cx="8762760" cy="5716080"/>
            <a:chOff x="228600" y="1065240"/>
            <a:chExt cx="8762760" cy="5716080"/>
          </a:xfrm>
        </p:grpSpPr>
        <p:sp>
          <p:nvSpPr>
            <p:cNvPr id="108" name="Text Box 20"/>
            <p:cNvSpPr/>
            <p:nvPr/>
          </p:nvSpPr>
          <p:spPr>
            <a:xfrm>
              <a:off x="1559520" y="3231000"/>
              <a:ext cx="3050280" cy="418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emical meth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9"/>
            <p:cNvSpPr/>
            <p:nvPr/>
          </p:nvSpPr>
          <p:spPr>
            <a:xfrm>
              <a:off x="6512400" y="3180600"/>
              <a:ext cx="2288160" cy="649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strume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th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609480" y="4322520"/>
              <a:ext cx="1904760" cy="325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Volumetric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3086280" y="4301640"/>
              <a:ext cx="228564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vimetric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990720" y="6054480"/>
              <a:ext cx="209520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rmal 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848040" y="6054480"/>
              <a:ext cx="273024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ectroanalytical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277040" y="6130440"/>
              <a:ext cx="1714320" cy="650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tical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3"/>
            <p:cNvSpPr/>
            <p:nvPr/>
          </p:nvSpPr>
          <p:spPr>
            <a:xfrm>
              <a:off x="7657920" y="295380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>
              <a:off x="3085920" y="295200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5562360" y="2791080"/>
              <a:ext cx="360" cy="1897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1562040" y="3918960"/>
              <a:ext cx="266688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3085920" y="364392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1562040" y="391896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4228920" y="3918960"/>
              <a:ext cx="360" cy="27900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7657920" y="3735000"/>
              <a:ext cx="360" cy="181404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2133360" y="5529600"/>
              <a:ext cx="360" cy="4690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4" name="Line 4"/>
            <p:cNvSpPr/>
            <p:nvPr/>
          </p:nvSpPr>
          <p:spPr>
            <a:xfrm>
              <a:off x="4991040" y="5529600"/>
              <a:ext cx="360" cy="4690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5" name="Line 3"/>
            <p:cNvSpPr/>
            <p:nvPr/>
          </p:nvSpPr>
          <p:spPr>
            <a:xfrm>
              <a:off x="8229600" y="5529600"/>
              <a:ext cx="360" cy="4690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1752480" y="1622160"/>
              <a:ext cx="380988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5562360" y="1626120"/>
              <a:ext cx="360" cy="4147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8" name="Line 23"/>
            <p:cNvSpPr/>
            <p:nvPr/>
          </p:nvSpPr>
          <p:spPr>
            <a:xfrm>
              <a:off x="1752480" y="1626120"/>
              <a:ext cx="360" cy="41472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29" name="Text Box 22"/>
            <p:cNvSpPr/>
            <p:nvPr/>
          </p:nvSpPr>
          <p:spPr>
            <a:xfrm>
              <a:off x="4229280" y="2013840"/>
              <a:ext cx="2857320" cy="654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ntit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1"/>
            <p:cNvSpPr/>
            <p:nvPr/>
          </p:nvSpPr>
          <p:spPr>
            <a:xfrm>
              <a:off x="228600" y="2016000"/>
              <a:ext cx="2857320" cy="693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alita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>
              <a:off x="3657600" y="1409040"/>
              <a:ext cx="360" cy="14148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2" name="Line 2"/>
            <p:cNvSpPr/>
            <p:nvPr/>
          </p:nvSpPr>
          <p:spPr>
            <a:xfrm flipH="1">
              <a:off x="2133360" y="5529600"/>
              <a:ext cx="609624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3" name="Line 1"/>
            <p:cNvSpPr/>
            <p:nvPr/>
          </p:nvSpPr>
          <p:spPr>
            <a:xfrm>
              <a:off x="3085920" y="2948040"/>
              <a:ext cx="4572000" cy="360"/>
            </a:xfrm>
            <a:prstGeom prst="line">
              <a:avLst/>
            </a:prstGeom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134" name="Rectangle 28"/>
            <p:cNvSpPr/>
            <p:nvPr/>
          </p:nvSpPr>
          <p:spPr>
            <a:xfrm>
              <a:off x="2510640" y="1065240"/>
              <a:ext cx="2404440" cy="639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tical chem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906480"/>
            <a:ext cx="8838720" cy="5577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alitative analy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reveals the identity of the elements and compounds in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Quantitative analy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ndicates the amount of each substance in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Volumetric analy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t is based on accurate measurements of final volume of a standard reagent solution of known concentration needed to react with the analyte in a known volume of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0" y="803160"/>
            <a:ext cx="891504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Titr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is a process in which a standard reagent (known conc.) is added to a solution of an analyte until the reaction between the analyte and reagent is attained equival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3048120" y="2641680"/>
          <a:ext cx="2742840" cy="406368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41680"/>
                    <a:ext cx="27428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152280" y="606240"/>
            <a:ext cx="8838720" cy="622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Equivalence poin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Is the point in a titration when the amount of added standard reagent is exactly equivalent to the amount of analy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At equivalent po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o. of eq.wt titrant) = (no. of eq.wt. titr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 = no.of eq.wt /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Stand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 = (N × V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Anal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54</TotalTime>
  <Application>LibreOffice/7.4.7.2$Linux_X86_64 LibreOffice_project/40$Build-2</Application>
  <AppVersion>15.0000</AppVersion>
  <Words>770</Words>
  <Paragraphs>10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9:40:53Z</dcterms:created>
  <dc:creator>hunar</dc:creator>
  <dc:description/>
  <dc:language>en-US</dc:language>
  <cp:lastModifiedBy>Wrea</cp:lastModifiedBy>
  <dcterms:modified xsi:type="dcterms:W3CDTF">2018-01-08T17:54:48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8</vt:r8>
  </property>
</Properties>
</file>