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D5CC-BED5-4731-8997-988042DB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5D0-4FE1-465B-B1AF-B56CF631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E4D-88E2-4777-A760-FE8FE285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53C-05DB-4446-9DEC-D9AEE7B5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EF36-377B-4A6C-B1C5-151A99B3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316E-EE34-4A4E-A475-0220A24D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D66A-E932-4E0D-87E0-149850E3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9B7F-E467-471E-B2C9-3809026A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D5AD-1331-4E20-A066-D6456EB1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851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6DE0-B668-4690-BB2A-E3EA4C53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84BD-3ADF-485A-8167-8C25E829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430-5AA6-4F9E-A4E8-930D5380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DD2F-30AC-4909-82DD-DDD5D185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1E74-320F-4449-AAEC-0186EFE1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28D1-E809-48E2-8781-6EE21960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577D-7F74-490A-A1B1-E461CAD2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0F05-BB9B-418E-8BBB-B41464A0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607-9D25-4185-94C4-4DB90E37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59C-1BF0-4B2C-8C8B-EC322F62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515-D710-449C-B05F-29A444C2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851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665-6EF4-49A8-BDD7-E911C042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0DE0-2572-44CA-8956-05359B0D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8ED-4D5D-4174-ABA9-29000405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BF8-9D62-4458-BDAE-612479FD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5F54F7-877B-4BC3-97B2-B342EBD2C414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260694-BA27-4586-A410-E95F24E12C61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344520" y="1427760"/>
            <a:ext cx="821088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tric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ss ware for Volumetric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0" y="961560"/>
            <a:ext cx="914364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nd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s the point in a titration when a physical change occurs that is associated with the condition of chemical equival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Indic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Chemical compounds undergo change in colour during titration which indicates the equivalenc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4064040"/>
            <a:ext cx="9143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-base indicators are generally weak organic acids or bases which, upon dissociation or association, undergo internal structural changes at a specific range of pH that give rise to alterations in color. We can symbolize the typical reaction of an acid-base indicator as follow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Object 1" descr=""/>
          <p:cNvPicPr/>
          <p:nvPr/>
        </p:nvPicPr>
        <p:blipFill>
          <a:blip r:embed="rId1"/>
          <a:srcRect l="0" t="0" r="-3047" b="-504"/>
          <a:stretch/>
        </p:blipFill>
        <p:spPr>
          <a:xfrm>
            <a:off x="1371600" y="457200"/>
            <a:ext cx="6095520" cy="2466720"/>
          </a:xfrm>
          <a:prstGeom prst="rect">
            <a:avLst/>
          </a:prstGeom>
          <a:ln w="9525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152280" y="2941560"/>
            <a:ext cx="8838720" cy="3931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or the first indicator (1)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H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will be the major constituent in strongly acidic solutions and will be responsible for the "acid color" of the indicator, whereas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Calibri"/>
              </a:rPr>
              <a:t>In</a:t>
            </a:r>
            <a:r>
              <a:rPr b="1" lang="en-US" sz="2400" spc="-1" strike="noStrike" baseline="30000">
                <a:solidFill>
                  <a:srgbClr val="0070c0"/>
                </a:solidFill>
                <a:latin typeface="Arial"/>
                <a:ea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will represent its "base color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or the second indicator (2), the species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Calibri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will predominate in basic solutions and thus be responsible for the “base color”, where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In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will constitute the “acid colo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Table 2"/>
          <p:cNvGraphicFramePr/>
          <p:nvPr/>
        </p:nvGraphicFramePr>
        <p:xfrm>
          <a:off x="838080" y="1066680"/>
          <a:ext cx="7391160" cy="4431240"/>
        </p:xfrm>
        <a:graphic>
          <a:graphicData uri="http://schemas.openxmlformats.org/drawingml/2006/table">
            <a:tbl>
              <a:tblPr/>
              <a:tblGrid>
                <a:gridCol w="2514240"/>
                <a:gridCol w="1695960"/>
                <a:gridCol w="1852200"/>
                <a:gridCol w="1328400"/>
              </a:tblGrid>
              <a:tr h="1365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6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lor in acidic 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lor in basic 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 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hymol 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6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highlight>
                            <a:srgbClr val="ff0000"/>
                          </a:highlight>
                          <a:latin typeface="Arial"/>
                          <a:ea typeface="Calibri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highlight>
                            <a:srgbClr val="ffff00"/>
                          </a:highlight>
                          <a:latin typeface="Arial"/>
                          <a:ea typeface="Calibri"/>
                        </a:rPr>
                        <a:t>Yel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 – 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thyl 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6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highlight>
                            <a:srgbClr val="ff0000"/>
                          </a:highlight>
                          <a:latin typeface="Arial"/>
                          <a:ea typeface="Calibri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highlight>
                            <a:srgbClr val="ffff00"/>
                          </a:highlight>
                          <a:latin typeface="Arial"/>
                          <a:ea typeface="Calibri"/>
                        </a:rPr>
                        <a:t>Yel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 – 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thyl 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6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highlight>
                            <a:srgbClr val="ff0000"/>
                          </a:highlight>
                          <a:latin typeface="Arial"/>
                          <a:ea typeface="Calibri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highlight>
                            <a:srgbClr val="ffff00"/>
                          </a:highlight>
                          <a:latin typeface="Arial"/>
                          <a:ea typeface="Calibri"/>
                        </a:rPr>
                        <a:t>Yel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2 – 6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enolphthal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6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lor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highlight>
                            <a:srgbClr val="ff00ff"/>
                          </a:highlight>
                          <a:latin typeface="Arial"/>
                          <a:ea typeface="Calibri"/>
                        </a:rPr>
                        <a:t>P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3 –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304920" y="1033920"/>
            <a:ext cx="8610120" cy="264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imar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highly purified compound that serves as a reference material in volumetric (titrimetric)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228600" y="583920"/>
            <a:ext cx="8686440" cy="612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quirements for a primary standard ar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gh p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gh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has a large molecular weight to minimize the relative error during weighing the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must be not hygrosco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w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bstance must be not po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uble in a solvent (especially wa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0" y="892800"/>
            <a:ext cx="9143640" cy="5577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condary standar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compound whose purity has been established by chemical analysis and that serves as the reference material for a titrimetric method of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andard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reagent of exactly known concentration that is used in a titrimetric analysis, and it's prepared either from primary standard material or its concentration determined by standardization with primary standard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0" y="885600"/>
            <a:ext cx="9143640" cy="5942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use in titrimetric analysis a reaction must fulfill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must be a simple reaction which can be expressed by a chemical equation. The substance to be determined should react completely with the reag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action should be relatively fast. (Most ionic reactions satisfy this condi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must be an alteration in some physical or chemical property of the solution at equivalenc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indicator should be available which, by a change in physical properties (color or formation of a precipitate), should sharply define the end point of the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1"/>
          <p:cNvSpPr/>
          <p:nvPr/>
        </p:nvSpPr>
        <p:spPr>
          <a:xfrm>
            <a:off x="228600" y="622440"/>
            <a:ext cx="883872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ypes of titrations according to the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-Neutralization titration (Acid-base titr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1066680" y="1905120"/>
            <a:ext cx="64004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OH     +     HCl                               NaCl    +   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traight Arrow Connector 14"/>
          <p:cNvCxnSpPr/>
          <p:nvPr/>
        </p:nvCxnSpPr>
        <p:spPr>
          <a:xfrm>
            <a:off x="3276360" y="2133360"/>
            <a:ext cx="1829160" cy="216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3" name="Rectangle 14"/>
          <p:cNvSpPr/>
          <p:nvPr/>
        </p:nvSpPr>
        <p:spPr>
          <a:xfrm>
            <a:off x="228600" y="2373480"/>
            <a:ext cx="876276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Precipitation ti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481680" y="3098880"/>
            <a:ext cx="5150880" cy="45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gN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NaC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AgCl  + NaN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20"/>
          <p:cNvCxnSpPr/>
          <p:nvPr/>
        </p:nvCxnSpPr>
        <p:spPr>
          <a:xfrm>
            <a:off x="2361960" y="3352680"/>
            <a:ext cx="1296000" cy="180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6" name="Straight Arrow Connector 23"/>
          <p:cNvCxnSpPr/>
          <p:nvPr/>
        </p:nvCxnSpPr>
        <p:spPr>
          <a:xfrm flipH="1">
            <a:off x="4418640" y="3201120"/>
            <a:ext cx="1800" cy="30492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7" name="Rectangle 17"/>
          <p:cNvSpPr/>
          <p:nvPr/>
        </p:nvSpPr>
        <p:spPr>
          <a:xfrm>
            <a:off x="228600" y="3745080"/>
            <a:ext cx="868644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-Reduction-oxidation titration (Redox titr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457200" y="4318200"/>
            <a:ext cx="8305560" cy="45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F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M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7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+ 8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5F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+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 M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+ 4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27"/>
          <p:cNvCxnSpPr/>
          <p:nvPr/>
        </p:nvCxnSpPr>
        <p:spPr>
          <a:xfrm>
            <a:off x="2971800" y="4570200"/>
            <a:ext cx="1524240" cy="216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0" name="Rectangle 20"/>
          <p:cNvSpPr/>
          <p:nvPr/>
        </p:nvSpPr>
        <p:spPr>
          <a:xfrm>
            <a:off x="304920" y="4964040"/>
            <a:ext cx="868644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-Complexation ti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1"/>
          <p:cNvSpPr/>
          <p:nvPr/>
        </p:nvSpPr>
        <p:spPr>
          <a:xfrm>
            <a:off x="762120" y="5532840"/>
            <a:ext cx="8534160" cy="75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+ 4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gI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32"/>
          <p:cNvCxnSpPr/>
          <p:nvPr/>
        </p:nvCxnSpPr>
        <p:spPr>
          <a:xfrm>
            <a:off x="2361960" y="5790960"/>
            <a:ext cx="1067400" cy="216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228600" y="815400"/>
            <a:ext cx="845784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- Neutralization titration (Acid-base ti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include the titr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ree b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 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the titr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ree ac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 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These reactions involve the combination of hydrogen and hydroxide ions to form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114800" y="3065400"/>
            <a:ext cx="4800240" cy="45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+     O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Straight Arrow Connector 11"/>
          <p:cNvCxnSpPr/>
          <p:nvPr/>
        </p:nvCxnSpPr>
        <p:spPr>
          <a:xfrm>
            <a:off x="5867280" y="3276360"/>
            <a:ext cx="1448280" cy="216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6" name="Rectangle 12"/>
          <p:cNvSpPr/>
          <p:nvPr/>
        </p:nvSpPr>
        <p:spPr>
          <a:xfrm>
            <a:off x="367560" y="3516480"/>
            <a:ext cx="145332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-152280" y="4471920"/>
            <a:ext cx="8762760" cy="75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OH     +     HCl                               NaCl    +   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0" y="5461200"/>
            <a:ext cx="8610120" cy="45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+    2HCl                            2NaCl    +   C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+  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17"/>
          <p:cNvCxnSpPr/>
          <p:nvPr/>
        </p:nvCxnSpPr>
        <p:spPr>
          <a:xfrm>
            <a:off x="3200400" y="4722480"/>
            <a:ext cx="1905120" cy="216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0" name="Straight Arrow Connector 18"/>
          <p:cNvCxnSpPr/>
          <p:nvPr/>
        </p:nvCxnSpPr>
        <p:spPr>
          <a:xfrm>
            <a:off x="3352680" y="5715000"/>
            <a:ext cx="1676880" cy="180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1" name="Straight Arrow Connector 21"/>
          <p:cNvCxnSpPr/>
          <p:nvPr/>
        </p:nvCxnSpPr>
        <p:spPr>
          <a:xfrm flipV="1">
            <a:off x="7084800" y="5487120"/>
            <a:ext cx="2160" cy="38124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771480" y="1143000"/>
          <a:ext cx="7930800" cy="332712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143000"/>
                    <a:ext cx="7930800" cy="33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1676520" y="609480"/>
          <a:ext cx="5943240" cy="541116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43240" cy="54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533520" y="930240"/>
          <a:ext cx="7765560" cy="417492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30240"/>
                    <a:ext cx="7765560" cy="41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00" name="Straight Connector 3"/>
          <p:cNvCxnSpPr/>
          <p:nvPr/>
        </p:nvCxnSpPr>
        <p:spPr>
          <a:xfrm>
            <a:off x="6522480" y="2026800"/>
            <a:ext cx="640440" cy="640440"/>
          </a:xfrm>
          <a:prstGeom prst="straightConnector1">
            <a:avLst/>
          </a:prstGeom>
          <a:ln w="34925">
            <a:solidFill>
              <a:srgbClr val="000000"/>
            </a:solidFill>
            <a:round/>
          </a:ln>
        </p:spPr>
      </p:cxnSp>
      <p:sp>
        <p:nvSpPr>
          <p:cNvPr id="101" name="TextBox 4"/>
          <p:cNvSpPr/>
          <p:nvPr/>
        </p:nvSpPr>
        <p:spPr>
          <a:xfrm>
            <a:off x="6553080" y="2971800"/>
            <a:ext cx="11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i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sieve"/>
          <p:cNvPicPr/>
          <p:nvPr/>
        </p:nvPicPr>
        <p:blipFill>
          <a:blip r:embed="rId3"/>
          <a:srcRect l="0" t="0" r="64200" b="19231"/>
          <a:stretch/>
        </p:blipFill>
        <p:spPr>
          <a:xfrm>
            <a:off x="2819520" y="3629160"/>
            <a:ext cx="1028520" cy="1628280"/>
          </a:xfrm>
          <a:prstGeom prst="rect">
            <a:avLst/>
          </a:prstGeom>
          <a:ln w="9525">
            <a:noFill/>
          </a:ln>
        </p:spPr>
      </p:pic>
      <p:pic>
        <p:nvPicPr>
          <p:cNvPr id="103" name="Picture 6" descr="reagentbot"/>
          <p:cNvPicPr/>
          <p:nvPr/>
        </p:nvPicPr>
        <p:blipFill>
          <a:blip r:embed="rId4"/>
          <a:srcRect l="27142" t="0" r="27638" b="0"/>
          <a:stretch/>
        </p:blipFill>
        <p:spPr>
          <a:xfrm>
            <a:off x="4629240" y="3621960"/>
            <a:ext cx="780840" cy="1711440"/>
          </a:xfrm>
          <a:prstGeom prst="rect">
            <a:avLst/>
          </a:prstGeom>
          <a:ln w="9525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514600" y="5410080"/>
            <a:ext cx="1257120" cy="390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Washing bot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419720" y="5400720"/>
            <a:ext cx="1257120" cy="390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Reagent bot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152280" y="1481400"/>
            <a:ext cx="8762760" cy="1370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Arial"/>
                <a:ea typeface="Calibri"/>
              </a:rPr>
              <a:t>Analytical chemistry: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Is applied throughout industry, medicine and all the sciences it is classifi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"/>
          <p:cNvGrpSpPr/>
          <p:nvPr/>
        </p:nvGrpSpPr>
        <p:grpSpPr>
          <a:xfrm>
            <a:off x="228600" y="1065240"/>
            <a:ext cx="8762760" cy="5716080"/>
            <a:chOff x="228600" y="1065240"/>
            <a:chExt cx="8762760" cy="5716080"/>
          </a:xfrm>
        </p:grpSpPr>
        <p:sp>
          <p:nvSpPr>
            <p:cNvPr id="108" name="Text Box 20"/>
            <p:cNvSpPr/>
            <p:nvPr/>
          </p:nvSpPr>
          <p:spPr>
            <a:xfrm>
              <a:off x="1559520" y="3231000"/>
              <a:ext cx="3050280" cy="418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emical meth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9"/>
            <p:cNvSpPr/>
            <p:nvPr/>
          </p:nvSpPr>
          <p:spPr>
            <a:xfrm>
              <a:off x="6512400" y="3180600"/>
              <a:ext cx="2288160" cy="649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strum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th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609480" y="4322520"/>
              <a:ext cx="1904760" cy="325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Volumetric 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7"/>
            <p:cNvSpPr/>
            <p:nvPr/>
          </p:nvSpPr>
          <p:spPr>
            <a:xfrm>
              <a:off x="3086280" y="4301640"/>
              <a:ext cx="2285640" cy="650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avimetric 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>
              <a:off x="990720" y="6054480"/>
              <a:ext cx="2095200" cy="650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rmal 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848040" y="6054480"/>
              <a:ext cx="2730240" cy="650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ectroanalytical meth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4"/>
            <p:cNvSpPr/>
            <p:nvPr/>
          </p:nvSpPr>
          <p:spPr>
            <a:xfrm>
              <a:off x="7277040" y="6130440"/>
              <a:ext cx="1714320" cy="650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tical meth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3"/>
            <p:cNvSpPr/>
            <p:nvPr/>
          </p:nvSpPr>
          <p:spPr>
            <a:xfrm>
              <a:off x="7657920" y="2953800"/>
              <a:ext cx="360" cy="27900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>
              <a:off x="3085920" y="2952000"/>
              <a:ext cx="360" cy="27900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5562360" y="2791080"/>
              <a:ext cx="360" cy="18972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1562040" y="3918960"/>
              <a:ext cx="2666880" cy="36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3085920" y="3643920"/>
              <a:ext cx="360" cy="27900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1562040" y="3918960"/>
              <a:ext cx="360" cy="27900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>
              <a:off x="4228920" y="3918960"/>
              <a:ext cx="360" cy="27900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7657920" y="3735000"/>
              <a:ext cx="360" cy="181404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2133360" y="5529600"/>
              <a:ext cx="360" cy="46908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4" name="Line 4"/>
            <p:cNvSpPr/>
            <p:nvPr/>
          </p:nvSpPr>
          <p:spPr>
            <a:xfrm>
              <a:off x="4991040" y="5529600"/>
              <a:ext cx="360" cy="46908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5" name="Line 3"/>
            <p:cNvSpPr/>
            <p:nvPr/>
          </p:nvSpPr>
          <p:spPr>
            <a:xfrm>
              <a:off x="8229600" y="5529600"/>
              <a:ext cx="360" cy="46908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1752480" y="1622160"/>
              <a:ext cx="3809880" cy="36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7" name="Line 24"/>
            <p:cNvSpPr/>
            <p:nvPr/>
          </p:nvSpPr>
          <p:spPr>
            <a:xfrm>
              <a:off x="5562360" y="1626120"/>
              <a:ext cx="360" cy="41472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8" name="Line 23"/>
            <p:cNvSpPr/>
            <p:nvPr/>
          </p:nvSpPr>
          <p:spPr>
            <a:xfrm>
              <a:off x="1752480" y="1626120"/>
              <a:ext cx="360" cy="41472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9" name="Text Box 22"/>
            <p:cNvSpPr/>
            <p:nvPr/>
          </p:nvSpPr>
          <p:spPr>
            <a:xfrm>
              <a:off x="4229280" y="2013840"/>
              <a:ext cx="2857320" cy="654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uantita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1"/>
            <p:cNvSpPr/>
            <p:nvPr/>
          </p:nvSpPr>
          <p:spPr>
            <a:xfrm>
              <a:off x="228600" y="2016000"/>
              <a:ext cx="2857320" cy="693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ualita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6"/>
            <p:cNvSpPr/>
            <p:nvPr/>
          </p:nvSpPr>
          <p:spPr>
            <a:xfrm>
              <a:off x="3657600" y="1409040"/>
              <a:ext cx="360" cy="14148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2" name="Line 2"/>
            <p:cNvSpPr/>
            <p:nvPr/>
          </p:nvSpPr>
          <p:spPr>
            <a:xfrm flipH="1">
              <a:off x="2133360" y="5529600"/>
              <a:ext cx="6096240" cy="36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3" name="Line 1"/>
            <p:cNvSpPr/>
            <p:nvPr/>
          </p:nvSpPr>
          <p:spPr>
            <a:xfrm>
              <a:off x="3085920" y="2948040"/>
              <a:ext cx="4572000" cy="36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4" name="Rectangle 28"/>
            <p:cNvSpPr/>
            <p:nvPr/>
          </p:nvSpPr>
          <p:spPr>
            <a:xfrm>
              <a:off x="2510640" y="1065240"/>
              <a:ext cx="2404440" cy="639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ytical chem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52280" y="906480"/>
            <a:ext cx="8838720" cy="5577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Qualitative analy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reveals the identity of the elements and compounds in a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Quantitative analy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ndicates the amount of each substance in a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Volumetric analy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t is based on accurate measurements of final volume of a standard reagent solution of known concentration needed to react with the analyte in a known volume of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0" y="803160"/>
            <a:ext cx="8915040" cy="173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Titr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s a process in which a standard reagent (known conc.) is added to a solution of an analyte until the reaction between the analyte and reagent is attained equivalenc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38" name="Object 2"/>
          <p:cNvGraphicFramePr/>
          <p:nvPr/>
        </p:nvGraphicFramePr>
        <p:xfrm>
          <a:off x="3048120" y="2641680"/>
          <a:ext cx="2742840" cy="406368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641680"/>
                    <a:ext cx="27428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152280" y="606240"/>
            <a:ext cx="8838720" cy="622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quivalence poin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s the point in a titration when the amount of added standard reagent is exactly equivalent to the amount of analy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At equivalent po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no. of eq.wt titrant) = (no. of eq.wt. titr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N = no.of eq.wt /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N × V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Standa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 (N × V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Anal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54</TotalTime>
  <Application>LibreOffice/7.4.7.2$Linux_X86_64 LibreOffice_project/40$Build-2</Application>
  <AppVersion>15.0000</AppVersion>
  <Words>770</Words>
  <Paragraphs>10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9:40:53Z</dcterms:created>
  <dc:creator>hunar</dc:creator>
  <dc:description/>
  <dc:language>en-US</dc:language>
  <cp:lastModifiedBy>Wrea</cp:lastModifiedBy>
  <dcterms:modified xsi:type="dcterms:W3CDTF">2018-01-08T17:54:48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8</vt:r8>
  </property>
</Properties>
</file>